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19A-85BA-4600-965B-0E4B8DD0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2EF-85C0-45D1-8762-545F85C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483-5936-452D-98DB-0FC9315A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EF4-BCD2-4303-8B7F-5A401D0D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E75-EB2E-4B6E-AE84-098FB5C4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89E-9D71-4D99-91C4-56310E5B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4B7-9B43-43C2-8B5A-9B8AF0F0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78F-FD38-4EB7-ABD4-A59A2B12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D6F-C014-455A-B0C3-9A527A0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29C-B3A2-4A97-868F-4A22E7E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215-5263-46D9-921E-B4814A6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9A9-004B-4CEF-98C9-E340F79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e3b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e3b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e3b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6918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6918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DEF-7CAB-4388-9D63-BF3605056EFF}" type="slidenum">
              <a:rPr b="0" lang="ru-RU" sz="1200" spc="-1" strike="noStrike">
                <a:solidFill>
                  <a:srgbClr val="96918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725400" y="438120"/>
            <a:ext cx="7150320" cy="3438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2786040" y="442908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ыполнил ученик 2 класса  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Митин Алексей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под руководством учителя 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b3e1f3"/>
                </a:solidFill>
                <a:latin typeface="Arial"/>
              </a:rPr>
              <a:t>Воробьёвой Л. В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2"/>
          <p:cNvGraphicFramePr/>
          <p:nvPr/>
        </p:nvGraphicFramePr>
        <p:xfrm>
          <a:off x="0" y="0"/>
          <a:ext cx="90820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82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Box 4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8" name="Picture 5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857160"/>
            <a:ext cx="1265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1712880"/>
            <a:ext cx="9210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4059360" y="817560"/>
            <a:ext cx="4859280" cy="17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User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857160" y="428760"/>
            <a:ext cx="3214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9800" y="576000"/>
            <a:ext cx="55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«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За взятие Кенигсберга</a:t>
            </a:r>
            <a:r>
              <a:rPr b="1" lang="ru-RU" sz="3600" spc="-1" strike="noStrike">
                <a:solidFill>
                  <a:srgbClr val="3f3f3f"/>
                </a:solidFill>
                <a:latin typeface="Calibri"/>
                <a:ea typeface="Calibri"/>
              </a:rPr>
              <a:t>»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53" name="Picture 4" descr="C:\Documents and Settings\User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5643720" y="285840"/>
            <a:ext cx="3315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User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285840" y="285840"/>
            <a:ext cx="3571920" cy="5817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553200" y="797040"/>
            <a:ext cx="557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Медаль «За победу над 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Германией  в Великой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Отечественной войне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3f3f3f"/>
                </a:solidFill>
                <a:latin typeface="Times New Roman"/>
                <a:ea typeface="Calibri"/>
              </a:rPr>
              <a:t>1941-1945г».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4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857920" y="10000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12-1987г.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0" name="Picture 7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00720" y="857160"/>
            <a:ext cx="1265040" cy="135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71920" y="3357720"/>
            <a:ext cx="11174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-25560" y="0"/>
          <a:ext cx="91918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0"/>
                    <a:ext cx="9191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5"/>
          <p:cNvSpPr/>
          <p:nvPr/>
        </p:nvSpPr>
        <p:spPr>
          <a:xfrm>
            <a:off x="428760" y="5715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71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357720" y="4643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Arial"/>
              </a:rPr>
              <a:t>1949-1987г</a:t>
            </a:r>
            <a:endParaRPr b="0" lang="en-US" sz="18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66" name="Picture 8" descr="C:\Documents and Settings\User\Мои документы\Мои рисунки\Рисунок2.jpg"/>
          <p:cNvPicPr/>
          <p:nvPr/>
        </p:nvPicPr>
        <p:blipFill>
          <a:blip r:embed="rId3"/>
          <a:stretch/>
        </p:blipFill>
        <p:spPr>
          <a:xfrm>
            <a:off x="4572000" y="785880"/>
            <a:ext cx="1265400" cy="13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Documents and Settings\User\Мои документы\Мои рисунки\Рисунок5.jpg"/>
          <p:cNvPicPr/>
          <p:nvPr/>
        </p:nvPicPr>
        <p:blipFill>
          <a:blip r:embed="rId4"/>
          <a:stretch/>
        </p:blipFill>
        <p:spPr>
          <a:xfrm>
            <a:off x="3500280" y="3214800"/>
            <a:ext cx="124308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User\Мои документы\Мои рисунки\Рисунок6.jpg"/>
          <p:cNvPicPr/>
          <p:nvPr/>
        </p:nvPicPr>
        <p:blipFill>
          <a:blip r:embed="rId5"/>
          <a:stretch/>
        </p:blipFill>
        <p:spPr>
          <a:xfrm>
            <a:off x="357120" y="4286160"/>
            <a:ext cx="117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00:01Z</dcterms:created>
  <dc:creator>David D.</dc:creator>
  <dc:description/>
  <dc:language>en-US</dc:language>
  <cp:lastModifiedBy>User</cp:lastModifiedBy>
  <dcterms:modified xsi:type="dcterms:W3CDTF">2010-11-05T21:42:52Z</dcterms:modified>
  <cp:revision>9</cp:revision>
  <dc:subject/>
  <dc:title>Слайд 1</dc:title>
</cp:coreProperties>
</file>