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3228-7667-4B02-9C9C-DD2D4B808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7609-DDB0-4735-A7FD-0D263884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C9E8-5296-4CC6-AEAE-978B5D38C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F0B2-2C19-4EA6-AB8D-C650D0DB7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570F-13FB-496F-9981-BD5FD65D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C6C1-1080-486E-9824-5431326C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3658-CB9E-47FC-8F10-6BB8AD75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4CE6-ABD3-451C-908A-6D4ED3C7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AB06-71BA-42A3-A6E1-BF07D4A5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1CCA-5193-4722-AC4F-FC8E5C7E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80AE-22D8-4877-BB43-9BFE0D7F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3C00-4723-48FC-A2BA-8DC04A8D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51F8-97FF-4050-8917-2EA97126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7A0D-EC2B-4F1A-9C72-156C187A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97F4-7033-4818-83D0-4A62E247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8504-338F-48D2-98E9-2A8ECDA03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B43C-0546-4039-91D0-C36A20841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8DCB0-B0E3-4581-9BBB-EDA0E79C2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3D60D-1A12-45FA-8BB2-C07048A9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D1B0A-B3CA-4BF7-9025-E97F4C7E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D59CD-5100-4822-919C-73513830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4769C-7354-4068-8696-91EE016D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BF8C-6B0F-4E81-9737-953D448B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4B7F2-AC15-4E5F-9DD1-ED373714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E4025-7237-4A51-9C9E-E85EA22F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94E45-A8F1-41A8-B86C-1D757643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53498-1E3E-4FE2-BE43-2397D778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6C7D6-E90D-4966-BA01-3C3AFDC0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BF7B8-BA7C-4DEA-B9EF-7FE8DD3AD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BAFAB-53F6-4AB7-9F56-E3453C4E7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350D9-5E23-413D-936F-2C9A4D0AE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522B9-1C2B-48B5-B9E5-E39790E5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179CE-8E69-4AA5-B633-2F99F66C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F41D-9770-4EA2-B401-2BBA90C8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99926-C2EB-454A-BE75-960389E8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A1F66-95C6-403F-80C7-CC201DA8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ABEEE-052E-4391-B0C4-B568E214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C749E-DE75-4B46-9FB8-1298CA1E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D0544-C63E-447D-BD5A-EFEEFB6C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885E7-AD45-4217-A1FF-D21D8F3F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38371-8C71-4E66-915E-608531A4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8F2CD-3056-4932-982B-1048076F2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3CA15-5C58-420A-9EFF-FB183D27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1A109-1524-42D2-8104-C8A1B8A54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6848-FC21-4E40-8432-9976D677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6D128-016E-41D2-B4E5-9AFCBBC1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037F2-5908-4E0F-BB49-1335EB3C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3FEDE-E75B-46BD-BFFF-601431AA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EB168-B6F8-456F-89E3-97FBCD8A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5C446-7BF0-4E25-8BC8-CFC76470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1E3C6-F9CF-48C3-83E7-2482B087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0D1EE-F043-45DF-A266-A33CC3D3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B92E8-B01C-4CF2-90E2-4997AA3D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3294E-33AA-441B-A2E1-F1F6492D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727A0-E7D4-4CF2-BC8C-BEFB3EEB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E75C-3212-429F-A5EF-D0D61012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BF760-A63B-4C00-A616-2B48D58A6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DA4B-983E-4761-B469-CA94FA73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51AD-03AB-4084-84F5-1AB9A4B0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A144-1D36-417C-8A85-78CA8985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830E-EBEF-41BC-B422-34242779060C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4E73-3AB7-497C-A6E2-1C30E08BD754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5165-56FD-4AAA-AAF7-EA31135564AE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1C54-8967-4D5F-A4BC-05D1183A223E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A65F-9470-4982-972D-7AC8C74494FA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2"/>
          <a:stretch/>
        </p:blipFill>
        <p:spPr>
          <a:xfrm>
            <a:off x="2919240" y="1494000"/>
            <a:ext cx="5943600" cy="33336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928960" y="4928760"/>
            <a:ext cx="5929200" cy="110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Учитель 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Рогачева А. В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Подзаголовок 2"/>
          <p:cNvSpPr/>
          <p:nvPr/>
        </p:nvSpPr>
        <p:spPr>
          <a:xfrm>
            <a:off x="2928960" y="500040"/>
            <a:ext cx="592920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Урок русского язы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в 7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2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285840" y="1357200"/>
            <a:ext cx="7572240" cy="509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0720" indent="-450720" algn="just">
              <a:spcBef>
                <a:spcPts val="1199"/>
              </a:spcBef>
              <a:spcAft>
                <a:spcPts val="1199"/>
              </a:spcAft>
              <a:buClr>
                <a:srgbClr val="66006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Вставьте пропущенные буквы. Объясните орфограммы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50720" indent="-450720" algn="just">
              <a:spcBef>
                <a:spcPts val="1199"/>
              </a:spcBef>
              <a:spcAft>
                <a:spcPts val="1199"/>
              </a:spcAft>
              <a:buClr>
                <a:srgbClr val="66006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Расставьте знаки препинания в тексте. Выделите деепричастные обороты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50720" indent="-450720" algn="just">
              <a:spcBef>
                <a:spcPts val="1199"/>
              </a:spcBef>
              <a:spcAft>
                <a:spcPts val="1199"/>
              </a:spcAft>
              <a:buClr>
                <a:srgbClr val="66006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Какого вида бывают деепричастия? Выпишите из текста деепричастия, распределяя их в таблицу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2"/>
          <a:stretch/>
        </p:blipFill>
        <p:spPr>
          <a:xfrm>
            <a:off x="450720" y="208080"/>
            <a:ext cx="7255080" cy="12603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00040" y="1499760"/>
            <a:ext cx="7238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419120" indent="3564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80172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КНАЕУЮБАИКВЮ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1419120" indent="3564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80172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ЖЭЭКЕЖФГОД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УФЯИ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1419120" indent="3564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80172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НЙЕДУЗВИГЙАЯЗСЬУ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1419120" indent="3564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80172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ДМНЕМУСА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О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ЛЯАВ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1419120" indent="3564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80172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СНЮЕВЗСИЮРАППЯ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428760" y="4429080"/>
            <a:ext cx="756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Как можно быстрее из каждой строчки исключите лишь те буквы, которые повторяются; запишите правильно получившиеся слова. Выделите суффиксы получившихся деепричас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2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428840"/>
            <a:ext cx="7238880" cy="30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62440" indent="-2732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rebuchet MS"/>
              </a:rPr>
              <a:t>НЕ УБИВ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962440" indent="-2732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rebuchet MS"/>
              </a:rPr>
              <a:t>НЕГОДУЯ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962440" indent="-2732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rebuchet MS"/>
              </a:rPr>
              <a:t>НЕ ДВИГАЯСЬ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962440" indent="-2732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rebuchet MS"/>
              </a:rPr>
              <a:t>НЕ УСТОЯВ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962440" indent="-2732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rebuchet MS"/>
              </a:rPr>
              <a:t>НЕВЗИРАЯ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324000" y="4653000"/>
            <a:ext cx="748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Arial"/>
              </a:rPr>
              <a:t>Слова какой части речи получились у Ва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Arial"/>
              </a:rPr>
              <a:t>Объясните правописание НЕ с деепричаст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Заголовок 1" descr=""/>
          <p:cNvPicPr/>
          <p:nvPr/>
        </p:nvPicPr>
        <p:blipFill>
          <a:blip r:embed="rId2"/>
          <a:stretch/>
        </p:blipFill>
        <p:spPr>
          <a:xfrm>
            <a:off x="684360" y="260280"/>
            <a:ext cx="7254720" cy="1150920"/>
          </a:xfrm>
          <a:prstGeom prst="rect">
            <a:avLst/>
          </a:prstGeom>
          <a:ln w="0">
            <a:noFill/>
          </a:ln>
        </p:spPr>
      </p:pic>
      <p:grpSp>
        <p:nvGrpSpPr>
          <p:cNvPr id="250" name="Группа 4"/>
          <p:cNvGrpSpPr/>
          <p:nvPr/>
        </p:nvGrpSpPr>
        <p:grpSpPr>
          <a:xfrm>
            <a:off x="1476360" y="2708280"/>
            <a:ext cx="5183280" cy="3751200"/>
            <a:chOff x="1476360" y="2708280"/>
            <a:chExt cx="5183280" cy="3751200"/>
          </a:xfrm>
        </p:grpSpPr>
        <p:pic>
          <p:nvPicPr>
            <p:cNvPr id="251" name="Picture 3" descr="C:\Documents and Settings\Admin.ЮРА\Рабочий стол\Рисунок1.png"/>
            <p:cNvPicPr/>
            <p:nvPr/>
          </p:nvPicPr>
          <p:blipFill>
            <a:blip r:embed="rId3"/>
            <a:stretch/>
          </p:blipFill>
          <p:spPr>
            <a:xfrm>
              <a:off x="1476360" y="2708280"/>
              <a:ext cx="5183280" cy="37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Овал 3"/>
            <p:cNvSpPr/>
            <p:nvPr/>
          </p:nvSpPr>
          <p:spPr>
            <a:xfrm>
              <a:off x="1870560" y="4572720"/>
              <a:ext cx="1464840" cy="69228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коне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урока!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2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457200" y="1609560"/>
            <a:ext cx="7238880" cy="31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Подготовиться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к контрольному диктанту по теме  «Деепричастие» и выполнить упр. 192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2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214200" y="1428480"/>
            <a:ext cx="7786800" cy="502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Trebuchet MS"/>
              </a:rPr>
              <a:t>Образовательная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бобщение и систематизация сведений о деепричастии и деепричастном обороте; выработка практического умения находить  деепричастный оборот и ставить знаки препинания при нём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Trebuchet MS"/>
              </a:rPr>
              <a:t>Развивающая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пособствовать развитию быстроты реакции, внимания, памяти, мышления, реч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Trebuchet MS"/>
              </a:rPr>
              <a:t>Воспитательная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Формирование коммуникативных умений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2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214200" y="1356840"/>
            <a:ext cx="7858080" cy="50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5088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Организационный момент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65088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Проверка домашнего задания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65088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Синтаксическая пятиминутка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65088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Цифровой диктант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65088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Работа с текстом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65088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Игра на быстроту реакции и внимания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65088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Итог урока.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65088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Домашнее задание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2"/>
          <a:stretch/>
        </p:blipFill>
        <p:spPr>
          <a:xfrm>
            <a:off x="208080" y="208080"/>
            <a:ext cx="7802280" cy="12603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Дымов ежегодно ездил по различным интересным частям Африки с терпением изучая её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3" descr="C:\Documents and Settings\Admin.ЮРА\Рабочий стол\000049[1].jpg"/>
          <p:cNvPicPr/>
          <p:nvPr/>
        </p:nvPicPr>
        <p:blipFill>
          <a:blip r:embed="rId3"/>
          <a:stretch/>
        </p:blipFill>
        <p:spPr>
          <a:xfrm>
            <a:off x="1714680" y="3444840"/>
            <a:ext cx="4512960" cy="3036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2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285480" y="1499760"/>
            <a:ext cx="7643880" cy="48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marL="312840" indent="-312840" algn="just">
              <a:spcBef>
                <a:spcPts val="601"/>
              </a:spcBef>
              <a:spcAft>
                <a:spcPts val="601"/>
              </a:spcAft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Выделите грамматическую основу предложения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12840" indent="-312840" algn="just">
              <a:spcBef>
                <a:spcPts val="601"/>
              </a:spcBef>
              <a:spcAft>
                <a:spcPts val="601"/>
              </a:spcAft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Какое это предложение?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12840" indent="-312840" algn="just">
              <a:spcBef>
                <a:spcPts val="601"/>
              </a:spcBef>
              <a:spcAft>
                <a:spcPts val="601"/>
              </a:spcAft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Чем осложнено это предложение?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12840" indent="-312840" algn="just">
              <a:spcBef>
                <a:spcPts val="601"/>
              </a:spcBef>
              <a:spcAft>
                <a:spcPts val="601"/>
              </a:spcAft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Какие знаки препинания Вы поставите? Объясните их постановку?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12840" indent="-312840" algn="just">
              <a:spcBef>
                <a:spcPts val="601"/>
              </a:spcBef>
              <a:spcAft>
                <a:spcPts val="601"/>
              </a:spcAft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Устно произведите морфологический разбор деепричастия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12840" indent="-312840" algn="just">
              <a:spcBef>
                <a:spcPts val="601"/>
              </a:spcBef>
              <a:spcAft>
                <a:spcPts val="601"/>
              </a:spcAft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Теперь из первых букв каждого слова составьте новое слово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Содержимое 2" descr=""/>
          <p:cNvPicPr/>
          <p:nvPr/>
        </p:nvPicPr>
        <p:blipFill>
          <a:blip r:embed="rId2"/>
          <a:stretch/>
        </p:blipFill>
        <p:spPr>
          <a:xfrm>
            <a:off x="420840" y="1133640"/>
            <a:ext cx="7254720" cy="4859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2"/>
          <a:stretch/>
        </p:blipFill>
        <p:spPr>
          <a:xfrm>
            <a:off x="420840" y="208080"/>
            <a:ext cx="7254720" cy="11570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213840" y="1214280"/>
            <a:ext cx="76438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Если Вы согласны с моим утверждением, поставьте «1», если нет – «0».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0066"/>
                </a:solidFill>
                <a:latin typeface="Trebuchet MS"/>
              </a:rPr>
              <a:t>Утверждения: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indent="348480" algn="just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Деепричастие - самостоятельная часть речи.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indent="348480" algn="just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Деепричастный оборот выделяется запятыми, только когда стоит после определяемого слова.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indent="348480" algn="just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Деепричастия бывают совершенного и несовершенного вида.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indent="348480" algn="just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НЕ с деепричастиями всегда пишется раздельно.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indent="348480" algn="just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Деепричастие и деепричастный оборот являются обстоятельством.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indent="348480" algn="just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Деепричастия совершенного вида отвечают на вопрос ЧТО ДЕЛАЯ?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Содержимое 2" descr=""/>
          <p:cNvPicPr/>
          <p:nvPr/>
        </p:nvPicPr>
        <p:blipFill>
          <a:blip r:embed="rId2"/>
          <a:stretch/>
        </p:blipFill>
        <p:spPr>
          <a:xfrm>
            <a:off x="49320" y="-6480"/>
            <a:ext cx="7905600" cy="3756240"/>
          </a:xfrm>
          <a:prstGeom prst="rect">
            <a:avLst/>
          </a:prstGeom>
          <a:ln w="0">
            <a:noFill/>
          </a:ln>
        </p:spPr>
      </p:pic>
      <p:pic>
        <p:nvPicPr>
          <p:cNvPr id="236" name="Заголовок 1" descr=""/>
          <p:cNvPicPr/>
          <p:nvPr/>
        </p:nvPicPr>
        <p:blipFill>
          <a:blip r:embed="rId3"/>
          <a:stretch/>
        </p:blipFill>
        <p:spPr>
          <a:xfrm>
            <a:off x="450720" y="208080"/>
            <a:ext cx="7255080" cy="1260360"/>
          </a:xfrm>
          <a:prstGeom prst="rect">
            <a:avLst/>
          </a:prstGeom>
          <a:ln w="0">
            <a:noFill/>
          </a:ln>
        </p:spPr>
      </p:pic>
      <p:pic>
        <p:nvPicPr>
          <p:cNvPr id="237" name="Заголовок 1" descr=""/>
          <p:cNvPicPr/>
          <p:nvPr/>
        </p:nvPicPr>
        <p:blipFill>
          <a:blip r:embed="rId4"/>
          <a:stretch/>
        </p:blipFill>
        <p:spPr>
          <a:xfrm>
            <a:off x="353880" y="3279600"/>
            <a:ext cx="7247160" cy="1159200"/>
          </a:xfrm>
          <a:prstGeom prst="rect">
            <a:avLst/>
          </a:prstGeom>
          <a:ln w="0">
            <a:noFill/>
          </a:ln>
        </p:spPr>
      </p:pic>
      <p:sp>
        <p:nvSpPr>
          <p:cNvPr id="238" name="TextBox 4"/>
          <p:cNvSpPr/>
          <p:nvPr/>
        </p:nvSpPr>
        <p:spPr>
          <a:xfrm>
            <a:off x="0" y="4286160"/>
            <a:ext cx="81439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45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0 ошибок – «5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45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1 ошибка– «4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45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2-3 ошибки – «3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45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4 ошибки – «2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452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452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2"/>
          <a:stretch/>
        </p:blipFill>
        <p:spPr>
          <a:xfrm>
            <a:off x="420840" y="133200"/>
            <a:ext cx="7254720" cy="11592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214200" y="1071720"/>
            <a:ext cx="7715520" cy="557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еред Вами текст. Прочитайте его, пожалуйста, знаки препинания не расставлены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rebuchet MS"/>
              </a:rPr>
              <a:t>Тяпка - мой симпатичный пёс. Гуляя с ним мы часто уходим в лес. На з…лёной шелковистой опушк… леса поражая своей чернотой в…днею(т,ть)ся пятна от костра. Извиваясь между камней т…чёт ручей с ледя(н,нн)ой водой. Тяпка пьёт из него а я (не)могу. Вижу наклонившись к воде кусок кем-то броше(н,нн)ого тулупа. Закончив прогулку мы возвращаемся домой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2:45:30Z</dcterms:created>
  <dc:creator>РОГАЧЕВА</dc:creator>
  <dc:description/>
  <dc:language>en-US</dc:language>
  <cp:lastModifiedBy>Анастасия</cp:lastModifiedBy>
  <dcterms:modified xsi:type="dcterms:W3CDTF">2010-11-07T13:27:26Z</dcterms:modified>
  <cp:revision>51</cp:revision>
  <dc:subject/>
  <dc:title>Обобщение и систематизация  изученного по теме: «Деепричастие»</dc:title>
</cp:coreProperties>
</file>