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CD4-B79B-43A4-8533-E1856AA1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D98-6986-4211-A85A-0C99D412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DA9-8C09-4CC5-A6A8-A1361FAE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53F-8243-44DF-AA6F-203D4FE7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9BFE-9D3B-40F2-A54F-C4B33974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A3E-B624-4F94-BB71-E30F8CF1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10D5-2617-4361-8CA2-EBAB7F90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DBD-71C9-489F-8907-C35C3126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3409-8604-4219-98DB-A3D6F626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7D2-D16D-461E-B454-D2C1EEA9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1B4D-9365-418B-BE27-66E2192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DBB-DF66-40A0-976D-160E168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A786-1141-49C9-B652-287BF39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24D3-6724-4BCB-AAF8-F000B39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257-9F0F-4C09-A61D-0B14483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DF7D-B812-4469-932D-756B0970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3353-541B-4CF7-B856-682163CB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D953-E10F-4116-801D-F4DF62EF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6C04-7723-4D2D-B29D-38908E78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0964-6B20-473B-A730-B98AD16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B63F-13BB-4FEA-BC8D-0961542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1B0E-2693-41B2-ACF2-FA8B1A1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B89-150F-4061-975F-50C9229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4666-93AC-474D-9426-5112E5E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1A0D-9560-4072-8F6C-91A97D9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B642-64B9-44EC-97A8-C8C7BA6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15FF-F5DE-459B-9C2C-9ADDE7F1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8133-82D4-4886-ADC5-F382473C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9C2D-3562-4DD5-AD7A-2A488046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9927-29A5-4A01-99C4-EBA9B740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0275-18CD-45B5-B643-847D8F2F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B3A3-B66A-4224-9841-0565E87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5B4F-76CF-4BF0-B08C-287FC58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C50-29F0-4556-B8DF-529FAC11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002A-3E4D-4DB0-85F7-08A48B7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81D23-6325-4743-9F9A-351CE1D2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9F4D-34BE-4E21-86A9-4C559549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28F9-98B5-4C55-B950-F6A8A59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14F6-EADB-40BE-B941-4A83629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E0A1-05E3-4A34-9804-15C28B9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2F9A-F7A2-4BA8-B191-040BB717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04F2-BE60-49B0-814F-472CD784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28CB-8964-4FEF-B340-981EBDF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6DCA-CD4C-40A4-AFB2-CEBA3C83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210-6044-4F35-9B9F-0657C18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2482-C068-4745-BAA0-EA7C26D7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FD47-2E48-494A-8FF6-470ED023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BACF-B6AF-48FD-904A-8FAF570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F9E5-17B5-4C24-9B1C-9CBC21E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3E6A1-F88D-4249-B824-1581B24A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F02D-3076-425F-8E86-B0E6488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75AF-E8B6-46B6-99A6-AACAACF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24B8-F7CC-44E9-A5F5-C4D6B09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BBDC-8CE8-4679-B4AC-8E0D0467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A4BB0-D1C3-470D-9F7E-F87352A1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F2C-5A6B-4271-BAB1-FDDF2BB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44D7-234F-4175-A7BC-4C9E29FB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24D-78B5-4200-A2EC-C9C58CE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B44-5579-40D4-9B8A-95D303A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C66-4FB6-40F8-B79E-F1B8BC0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8E3F-2797-4A64-953D-7C1EF6C948F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709-4968-49CB-AD44-AF98BE3BD24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471A-859B-490F-8D4D-0BB92E0C072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137-41F4-4F35-8144-E078424D9C2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B2C6-F1FB-46D5-86B5-6CDFFEF06C5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2919240" y="1494000"/>
            <a:ext cx="5943600" cy="3333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928960" y="4928760"/>
            <a:ext cx="592920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Рогачева А. В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2928960" y="500040"/>
            <a:ext cx="5929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85840" y="1357200"/>
            <a:ext cx="757224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Вставьте пропущенные буквы. Объясните орфограммы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Расставьте знаки препинания в тексте. Выделите деепричастные обороты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0720" indent="-450720" algn="just">
              <a:spcBef>
                <a:spcPts val="1199"/>
              </a:spcBef>
              <a:spcAft>
                <a:spcPts val="1199"/>
              </a:spcAft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ого вида бывают деепричастия? Выпишите из текста деепричастия, распределяя их в таблиц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7255080" cy="1260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00040" y="149976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НАЕУЮБАИКВЮ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ЖЭЭКЕЖФГОД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УФЯИ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НЙЕДУЗВИГЙАЯЗСЬУ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ДМНЕМУСА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ЛЯА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1419120" indent="356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0172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СНЮЕВЗСИЮРАПП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28760" y="442908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Как можно быстрее из каждой строчки исключите лишь те буквы, которые повторяются; запишите правильно получившиеся слова. Выделите суффиксы получившихся деепричас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428840"/>
            <a:ext cx="723888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УБИ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ГОДУ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ДВИГАЯСЬ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 УСТОЯВ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962440" indent="-2732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rebuchet MS"/>
              </a:rPr>
              <a:t>НЕВЗИРАЯ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4000" y="465300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Слова какой части речи получились у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Объясните правописание НЕ с деепричас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2547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50" name="Группа 4"/>
          <p:cNvGrpSpPr/>
          <p:nvPr/>
        </p:nvGrpSpPr>
        <p:grpSpPr>
          <a:xfrm>
            <a:off x="1476360" y="2708280"/>
            <a:ext cx="5183280" cy="3751200"/>
            <a:chOff x="1476360" y="2708280"/>
            <a:chExt cx="5183280" cy="3751200"/>
          </a:xfrm>
        </p:grpSpPr>
        <p:pic>
          <p:nvPicPr>
            <p:cNvPr id="251" name="Picture 3" descr="C:\Documents and Settings\Admin.ЮРА\Рабочий стол\Рисунок1.png"/>
            <p:cNvPicPr/>
            <p:nvPr/>
          </p:nvPicPr>
          <p:blipFill>
            <a:blip r:embed="rId3"/>
            <a:stretch/>
          </p:blipFill>
          <p:spPr>
            <a:xfrm>
              <a:off x="1476360" y="2708280"/>
              <a:ext cx="5183280" cy="37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Овал 3"/>
            <p:cNvSpPr/>
            <p:nvPr/>
          </p:nvSpPr>
          <p:spPr>
            <a:xfrm>
              <a:off x="1870560" y="4572720"/>
              <a:ext cx="1464840" cy="6922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коне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урока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560"/>
            <a:ext cx="7238880" cy="31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Подготовиться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к контрольному диктанту по теме  «Деепричастие» и выполнить упр. 192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14200" y="1428480"/>
            <a:ext cx="7786800" cy="502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Образовательн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общение и систематизация сведений о деепричастии и деепричастном обороте; выработка практического умения находить  деепричастный оборот и ставить знаки препинания при нё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Развивающ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пособствовать развитию быстроты реакции, внимания, памяти, мышления, ре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Trebuchet MS"/>
              </a:rPr>
              <a:t>Воспитательная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Формирование коммуникативных ум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14200" y="13568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Организационный момент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Проверка домашнего зада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Синтаксическая пятиминутк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Цифровой диктант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Работа с текстом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Игра на быстроту реакции и внима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Итог урока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650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Домашнее задание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208080" y="208080"/>
            <a:ext cx="7802280" cy="1260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Дымов ежегодно ездил по различным интересным частям Африки с терпением изучая её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C:\Documents and Settings\Admin.ЮРА\Рабочий стол\000049[1].jpg"/>
          <p:cNvPicPr/>
          <p:nvPr/>
        </p:nvPicPr>
        <p:blipFill>
          <a:blip r:embed="rId3"/>
          <a:stretch/>
        </p:blipFill>
        <p:spPr>
          <a:xfrm>
            <a:off x="1714680" y="3444840"/>
            <a:ext cx="451296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49976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Выделите грамматическую основу предложен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ое это предложение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Чем осложнено это предложение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Какие знаки препинания Вы поставите? Объясните их постановку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Устно произведите морфологический разбор деепричасти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12840" indent="-312840" algn="just">
              <a:spcBef>
                <a:spcPts val="601"/>
              </a:spcBef>
              <a:spcAft>
                <a:spcPts val="601"/>
              </a:spcAft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Теперь из первых букв каждого слова составьте новое слов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420840" y="1133640"/>
            <a:ext cx="725472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7254720" cy="1157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13840" y="1214280"/>
            <a:ext cx="7643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Если Вы согласны с моим утверждением, поставьте «1», если нет – «0»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66"/>
                </a:solidFill>
                <a:latin typeface="Trebuchet MS"/>
              </a:rPr>
              <a:t>Утверждения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е - самостоятельная часть речи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ный оборот выделяется запятыми, только когда стоит после определяемого слов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я бывают совершенного и несовершенного вида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НЕ с деепричастиями всегда пишется раздельно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е и деепричастный оборот являются обстоятельством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348480" algn="just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Деепричастия совершенного вида отвечают на вопрос ЧТО ДЕЛАЯ?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2" descr=""/>
          <p:cNvPicPr/>
          <p:nvPr/>
        </p:nvPicPr>
        <p:blipFill>
          <a:blip r:embed="rId2"/>
          <a:stretch/>
        </p:blipFill>
        <p:spPr>
          <a:xfrm>
            <a:off x="49320" y="-6480"/>
            <a:ext cx="7905600" cy="37562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3"/>
          <a:stretch/>
        </p:blipFill>
        <p:spPr>
          <a:xfrm>
            <a:off x="450720" y="208080"/>
            <a:ext cx="7255080" cy="1260360"/>
          </a:xfrm>
          <a:prstGeom prst="rect">
            <a:avLst/>
          </a:prstGeom>
          <a:ln w="0">
            <a:noFill/>
          </a:ln>
        </p:spPr>
      </p:pic>
      <p:pic>
        <p:nvPicPr>
          <p:cNvPr id="237" name="Заголовок 1" descr=""/>
          <p:cNvPicPr/>
          <p:nvPr/>
        </p:nvPicPr>
        <p:blipFill>
          <a:blip r:embed="rId4"/>
          <a:stretch/>
        </p:blipFill>
        <p:spPr>
          <a:xfrm>
            <a:off x="353880" y="3279600"/>
            <a:ext cx="7247160" cy="1159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0" y="4286160"/>
            <a:ext cx="8143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0 ошибок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 ошибка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2-3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4 ошибки –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7254720" cy="115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14200" y="1071720"/>
            <a:ext cx="771552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ед Вами текст. Прочитайте его, пожалуйста, знаки препинания не расставлен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Тяпка - мой симпатичный пёс. Гуляя с ним мы часто уходим в лес. На з…лёной шелковистой опушк… леса поражая своей чернотой в…днею(т,ть)ся пятна от костра. Извиваясь между камней т…чёт ручей с ледя(н,нн)ой водой. Тяпка пьёт из него а я (не)могу. Вижу наклонившись к воде кусок кем-то броше(н,нн)ого тулупа. Закончив прогулку мы возвращаемся домо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2:45:30Z</dcterms:created>
  <dc:creator>РОГАЧЕВА</dc:creator>
  <dc:description/>
  <dc:language>en-US</dc:language>
  <cp:lastModifiedBy>Анастасия</cp:lastModifiedBy>
  <dcterms:modified xsi:type="dcterms:W3CDTF">2010-11-07T13:27:26Z</dcterms:modified>
  <cp:revision>51</cp:revision>
  <dc:subject/>
  <dc:title>Обобщение и систематизация  изученного по теме: «Деепричастие»</dc:title>
</cp:coreProperties>
</file>