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F1E-5261-47F6-99AB-6FC6AFDD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D8F-2DB3-4B93-90C5-E43D5EB8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4D6-6B79-4E4A-8D04-192D9CF8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095-B7A9-4785-A816-4E0A89DE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CDC-94DD-4520-8ED8-53BB3A92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01F-5983-4159-94F5-F4654A6B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517-BA52-4133-A022-28AED026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885-7E35-492F-B295-FB76A9E6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FF9-ADA1-4598-AABA-536D6F70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F89-1A1C-4E04-9F05-5EE69DA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D64-1EE4-4A21-8809-426D2FE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B0E-1AAE-4D03-A966-F9773DD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918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6918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918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4BAF-0A0B-412A-A0D6-6A7AB10459B1}" type="slidenum">
              <a:rPr b="0" lang="ru-RU" sz="1200" spc="-1" strike="noStrike">
                <a:solidFill>
                  <a:srgbClr val="9691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725400" y="438120"/>
            <a:ext cx="7150320" cy="3438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786040" y="442908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Выполнил ученик 2 класса 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Митин Алексей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под руководством учителя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Воробьёвой Л. В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2"/>
          <p:cNvGraphicFramePr/>
          <p:nvPr/>
        </p:nvGraphicFramePr>
        <p:xfrm>
          <a:off x="0" y="0"/>
          <a:ext cx="90820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2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Box 4"/>
          <p:cNvSpPr/>
          <p:nvPr/>
        </p:nvSpPr>
        <p:spPr>
          <a:xfrm>
            <a:off x="5857920" y="1000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12-1987г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8" name="Picture 5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72000" y="857160"/>
            <a:ext cx="12654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1712880"/>
            <a:ext cx="92106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4059360" y="817560"/>
            <a:ext cx="4859280" cy="17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Мои документы\Мои рисунки\Рисунок1.jpg"/>
          <p:cNvPicPr/>
          <p:nvPr/>
        </p:nvPicPr>
        <p:blipFill>
          <a:blip r:embed="rId2"/>
          <a:stretch/>
        </p:blipFill>
        <p:spPr>
          <a:xfrm>
            <a:off x="857160" y="428760"/>
            <a:ext cx="3214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9800" y="576000"/>
            <a:ext cx="55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Медаль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3f3f3f"/>
                </a:solidFill>
                <a:latin typeface="Calibri"/>
                <a:ea typeface="Calibri"/>
              </a:rPr>
              <a:t>«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За взятие Кенигсберга</a:t>
            </a:r>
            <a:r>
              <a:rPr b="1" lang="ru-RU" sz="3600" spc="-1" strike="noStrike">
                <a:solidFill>
                  <a:srgbClr val="3f3f3f"/>
                </a:solidFill>
                <a:latin typeface="Calibri"/>
                <a:ea typeface="Calibri"/>
              </a:rPr>
              <a:t>»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53" name="Picture 4" descr="C:\Documents and Settings\User\Мои документы\Мои рисунки\Рисунок3.jpg"/>
          <p:cNvPicPr/>
          <p:nvPr/>
        </p:nvPicPr>
        <p:blipFill>
          <a:blip r:embed="rId1"/>
          <a:stretch/>
        </p:blipFill>
        <p:spPr>
          <a:xfrm>
            <a:off x="5643720" y="285840"/>
            <a:ext cx="33159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User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285840" y="285840"/>
            <a:ext cx="3571920" cy="5817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553200" y="797040"/>
            <a:ext cx="5572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Медаль «За победу над 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Германией  в Великой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Отечественной войне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1941-1945г».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4"/>
          <p:cNvSpPr/>
          <p:nvPr/>
        </p:nvSpPr>
        <p:spPr>
          <a:xfrm>
            <a:off x="3357720" y="4643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49-1987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857920" y="1000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12-1987г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0" name="Picture 7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00720" y="857160"/>
            <a:ext cx="1265040" cy="135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Documents and Settings\User\Мои документы\Мои рисунки\Рисунок5.jpg"/>
          <p:cNvPicPr/>
          <p:nvPr/>
        </p:nvPicPr>
        <p:blipFill>
          <a:blip r:embed="rId4"/>
          <a:stretch/>
        </p:blipFill>
        <p:spPr>
          <a:xfrm>
            <a:off x="3571920" y="3357720"/>
            <a:ext cx="11174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5"/>
          <p:cNvSpPr/>
          <p:nvPr/>
        </p:nvSpPr>
        <p:spPr>
          <a:xfrm>
            <a:off x="428760" y="5715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71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357720" y="4643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49-1987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6" name="Picture 8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72000" y="785880"/>
            <a:ext cx="1265400" cy="135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Documents and Settings\User\Мои документы\Мои рисунки\Рисунок5.jpg"/>
          <p:cNvPicPr/>
          <p:nvPr/>
        </p:nvPicPr>
        <p:blipFill>
          <a:blip r:embed="rId4"/>
          <a:stretch/>
        </p:blipFill>
        <p:spPr>
          <a:xfrm>
            <a:off x="3500280" y="3214800"/>
            <a:ext cx="1243080" cy="142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User\Мои документы\Мои рисунки\Рисунок6.jpg"/>
          <p:cNvPicPr/>
          <p:nvPr/>
        </p:nvPicPr>
        <p:blipFill>
          <a:blip r:embed="rId5"/>
          <a:stretch/>
        </p:blipFill>
        <p:spPr>
          <a:xfrm>
            <a:off x="357120" y="4286160"/>
            <a:ext cx="117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3:00:01Z</dcterms:created>
  <dc:creator>David D.</dc:creator>
  <dc:description/>
  <dc:language>en-US</dc:language>
  <cp:lastModifiedBy>User</cp:lastModifiedBy>
  <dcterms:modified xsi:type="dcterms:W3CDTF">2010-11-05T21:42:52Z</dcterms:modified>
  <cp:revision>9</cp:revision>
  <dc:subject/>
  <dc:title>Слайд 1</dc:title>
</cp:coreProperties>
</file>