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152D-AF84-4BC0-B74C-8F4208E5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E31-CC43-4925-9411-EBED7FA0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D9D-11AB-424B-BBFD-44F8F51F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05C-B51C-4CF6-B776-38820DA9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117-DD37-4C2A-B8FD-25B02F42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0AF-A1EB-4ADD-9D05-1042F189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C16-ACC3-4194-A060-F0AD22E8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16D-7ABD-497C-BACA-098A7054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4DB7-A0AA-477B-9646-6F4F6A1A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91F-EDC3-4E70-BC09-13DE5DE2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FD9-1F72-4836-807F-0A89CCBD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C9D-4E5E-4841-BF5A-D28CC5E0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e3b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4e3b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4e3b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6918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6918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6918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5573-0BBA-49EC-93FD-970417386E31}" type="slidenum">
              <a:rPr b="0" lang="ru-RU" sz="1200" spc="-1" strike="noStrike">
                <a:solidFill>
                  <a:srgbClr val="9691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725400" y="438120"/>
            <a:ext cx="7150320" cy="34387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2786040" y="4429080"/>
            <a:ext cx="607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Выполнил ученик 2 класса  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Митин Алексей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под руководством учителя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Воробьёвой Л. В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2"/>
          <p:cNvGraphicFramePr/>
          <p:nvPr/>
        </p:nvGraphicFramePr>
        <p:xfrm>
          <a:off x="0" y="0"/>
          <a:ext cx="90820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2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2"/>
          <p:cNvGraphicFramePr/>
          <p:nvPr/>
        </p:nvGraphicFramePr>
        <p:xfrm>
          <a:off x="-25560" y="0"/>
          <a:ext cx="91918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0"/>
                    <a:ext cx="9191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TextBox 4"/>
          <p:cNvSpPr/>
          <p:nvPr/>
        </p:nvSpPr>
        <p:spPr>
          <a:xfrm>
            <a:off x="5857920" y="10000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12-1987г.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8" name="Picture 5" descr="C:\Documents and Settings\User\Мои документы\Мои рисунки\Рисунок2.jpg"/>
          <p:cNvPicPr/>
          <p:nvPr/>
        </p:nvPicPr>
        <p:blipFill>
          <a:blip r:embed="rId3"/>
          <a:stretch/>
        </p:blipFill>
        <p:spPr>
          <a:xfrm>
            <a:off x="4572000" y="857160"/>
            <a:ext cx="12654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1712880"/>
            <a:ext cx="92106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2" descr=""/>
          <p:cNvPicPr/>
          <p:nvPr/>
        </p:nvPicPr>
        <p:blipFill>
          <a:blip r:embed="rId1"/>
          <a:stretch/>
        </p:blipFill>
        <p:spPr>
          <a:xfrm>
            <a:off x="4059360" y="817560"/>
            <a:ext cx="4859280" cy="17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User\Мои документы\Мои рисунки\Рисунок1.jpg"/>
          <p:cNvPicPr/>
          <p:nvPr/>
        </p:nvPicPr>
        <p:blipFill>
          <a:blip r:embed="rId2"/>
          <a:stretch/>
        </p:blipFill>
        <p:spPr>
          <a:xfrm>
            <a:off x="857160" y="428760"/>
            <a:ext cx="32148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19800" y="576000"/>
            <a:ext cx="55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Calibri"/>
              </a:rPr>
              <a:t>Медаль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3f3f3f"/>
                </a:solidFill>
                <a:latin typeface="Calibri"/>
                <a:ea typeface="Calibri"/>
              </a:rPr>
              <a:t>«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Calibri"/>
              </a:rPr>
              <a:t>За взятие Кенигсберга</a:t>
            </a:r>
            <a:r>
              <a:rPr b="1" lang="ru-RU" sz="3600" spc="-1" strike="noStrike">
                <a:solidFill>
                  <a:srgbClr val="3f3f3f"/>
                </a:solidFill>
                <a:latin typeface="Calibri"/>
                <a:ea typeface="Calibri"/>
              </a:rPr>
              <a:t>»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53" name="Picture 4" descr="C:\Documents and Settings\User\Мои документы\Мои рисунки\Рисунок3.jpg"/>
          <p:cNvPicPr/>
          <p:nvPr/>
        </p:nvPicPr>
        <p:blipFill>
          <a:blip r:embed="rId1"/>
          <a:stretch/>
        </p:blipFill>
        <p:spPr>
          <a:xfrm>
            <a:off x="5643720" y="285840"/>
            <a:ext cx="331596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Documents and Settings\User\Мои документы\Мои рисунки\Рисунок4.jpg"/>
          <p:cNvPicPr/>
          <p:nvPr/>
        </p:nvPicPr>
        <p:blipFill>
          <a:blip r:embed="rId1"/>
          <a:stretch/>
        </p:blipFill>
        <p:spPr>
          <a:xfrm>
            <a:off x="285840" y="285840"/>
            <a:ext cx="3571920" cy="5817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3553200" y="797040"/>
            <a:ext cx="5572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Медаль «За победу над </a:t>
            </a:r>
            <a:endParaRPr b="0" lang="en-US" sz="4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Германией  в Великой</a:t>
            </a:r>
            <a:endParaRPr b="0" lang="en-US" sz="4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Отечественной войне</a:t>
            </a:r>
            <a:endParaRPr b="0" lang="en-US" sz="4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1941-1945г».</a:t>
            </a:r>
            <a:endParaRPr b="0" lang="en-US" sz="4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-25560" y="0"/>
          <a:ext cx="91918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0"/>
                    <a:ext cx="9191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Box 4"/>
          <p:cNvSpPr/>
          <p:nvPr/>
        </p:nvSpPr>
        <p:spPr>
          <a:xfrm>
            <a:off x="3357720" y="46432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49-1987г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857920" y="10000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12-1987г.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60" name="Picture 7" descr="C:\Documents and Settings\User\Мои документы\Мои рисунки\Рисунок2.jpg"/>
          <p:cNvPicPr/>
          <p:nvPr/>
        </p:nvPicPr>
        <p:blipFill>
          <a:blip r:embed="rId3"/>
          <a:stretch/>
        </p:blipFill>
        <p:spPr>
          <a:xfrm>
            <a:off x="4500720" y="857160"/>
            <a:ext cx="1265040" cy="135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C:\Documents and Settings\User\Мои документы\Мои рисунки\Рисунок5.jpg"/>
          <p:cNvPicPr/>
          <p:nvPr/>
        </p:nvPicPr>
        <p:blipFill>
          <a:blip r:embed="rId4"/>
          <a:stretch/>
        </p:blipFill>
        <p:spPr>
          <a:xfrm>
            <a:off x="3571920" y="3357720"/>
            <a:ext cx="111744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-25560" y="0"/>
          <a:ext cx="91918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0"/>
                    <a:ext cx="9191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Box 5"/>
          <p:cNvSpPr/>
          <p:nvPr/>
        </p:nvSpPr>
        <p:spPr>
          <a:xfrm>
            <a:off x="428760" y="57150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71г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3357720" y="46432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49-1987г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66" name="Picture 8" descr="C:\Documents and Settings\User\Мои документы\Мои рисунки\Рисунок2.jpg"/>
          <p:cNvPicPr/>
          <p:nvPr/>
        </p:nvPicPr>
        <p:blipFill>
          <a:blip r:embed="rId3"/>
          <a:stretch/>
        </p:blipFill>
        <p:spPr>
          <a:xfrm>
            <a:off x="4572000" y="785880"/>
            <a:ext cx="1265400" cy="135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Documents and Settings\User\Мои документы\Мои рисунки\Рисунок5.jpg"/>
          <p:cNvPicPr/>
          <p:nvPr/>
        </p:nvPicPr>
        <p:blipFill>
          <a:blip r:embed="rId4"/>
          <a:stretch/>
        </p:blipFill>
        <p:spPr>
          <a:xfrm>
            <a:off x="3500280" y="3214800"/>
            <a:ext cx="1243080" cy="1428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Documents and Settings\User\Мои документы\Мои рисунки\Рисунок6.jpg"/>
          <p:cNvPicPr/>
          <p:nvPr/>
        </p:nvPicPr>
        <p:blipFill>
          <a:blip r:embed="rId5"/>
          <a:stretch/>
        </p:blipFill>
        <p:spPr>
          <a:xfrm>
            <a:off x="357120" y="4286160"/>
            <a:ext cx="1174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3:00:01Z</dcterms:created>
  <dc:creator>David D.</dc:creator>
  <dc:description/>
  <dc:language>en-US</dc:language>
  <cp:lastModifiedBy>User</cp:lastModifiedBy>
  <dcterms:modified xsi:type="dcterms:W3CDTF">2010-11-05T21:42:52Z</dcterms:modified>
  <cp:revision>9</cp:revision>
  <dc:subject/>
  <dc:title>Слайд 1</dc:title>
</cp:coreProperties>
</file>