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0BFB-E800-49DD-8288-8BF246641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нин Иван Алексее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лк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ьма теплой августовской ночи, еле видны тусклые звезды, кое-где мерцающие в облачном небе Мягкая, неслышная от глубокой пыли дорога в поле, по которой катится тележка с двумя молодыми седоками - мелкопоместной барышней и юношей гимназистом. Пасмурные зарницы освещают иногда пару ровно бегущих рабочих лошадей со спутанными гривами, в простой упряжи, и картуз и плечи малого в замашной рубахе на козлах, на мгновение открывают впереди поля, опустевшие после рабочей поры, и дальний печальный лесок. Вчера вечером на деревне был шум, крик, трусливый лай и визг собак: с удивительной дерзостью, когда по избам уже ужинали, волк зарезал в одном дворе овцу и едва не унес ее - вовремя выскочили на собачий гам мужики с дубинами и отбили ее, уже околевшую, с разорванным боком. Теперь барышня нервно хохочет, зажигает и бросает в темноту спички, весело крич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олков боюсь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ички освещают удлиненное, грубоватое лицо юноши и ее возбужденное широкоскулое личико. Она кругло, по-малорусски, повязана красным платочком, свободный вырез красного ситцевого платья открывает ее круглую крепкую шею. Качаясь на бегу тележки, она жжет и бросает в темноту спички, будто не замечая, что гимназист обнимает ее и целует то в шею, то в щеку, ищет ее губы Она отодвигает его локтем, он намеренно громко и просто, имея в виду малого на козлах, говорит ей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Отдайте спички. Мне закурить нечем будет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Сейчас, сейчас! - кричит она, и опять вспыхивает спичка, потом зарница, и тьма еще гуще слепит теплой чернотой, в которой все кажется, что тележка катится назад. Наконец, она уступает ему долгим поцелуем в губы, как вдруг, толчком мотнув их обоих, тележка точно натыкается на что-то - малый круто осаживает лошаде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олки! - вскрикивает о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глаза бьет зарево пожара в дали направо. Тележка стоит против того леска, что открывался при зарницах. Лесок от зарева стал теперь черным и весь зыбко дрожит, как дрожит и все поле перед ним в сумрачно-красном трепете от того жадно несущегося в небе пламени, которое, несмотря на даль, полыхает с бегущими в нем тенями дыма точно в версте от тележки, разъяряется все жарче и грознее, охватывает горизонт все выше и шире, - кажется, что жар его уже доходит до лица, до рук, виден даже над чернотой земли красный переплет какой-то сгоревшей крыши. А под стеной леса стоят, багрово серея, три больших волка, и в глазах у них мелькает то сквозной зеленый блеск, то красный, - прозрачный и яркий, как горячий сироп варенья из красной смородины. И лошади, шумно всхрапнув, вдруг диким галопом ударяют вбок, влево, по пашне, малый, на вожжах, валится назад, а тележка, со стуком и треском, мотаясь, бьется по взметам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де-то над оврагом лошади еще раз взметнулись, но она, вскочив, успела вырвать вожжи из рук ошалевшего малого. Тут она с размаху полетела в козлы и рассекла щеку об что-то железное. Так и остался на всю жизнь легкий шрам в уголке ее губ, и, когда у ней спрашивали, отчего это, она с удовольствием улыбалас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Дела давно минувших дней! - говорила она, вспоминая то давнее лето, августовские сухие дни и темные ночи, молотьбу на гумне, ометы новой пахучей соломы и небритого гимназиста, с которым она лежала в них вечерами, глядя на ярко-мгновенные дуги падающих звезд. - Волки испугали, лошади понесли, - говорила она. - А я была горячая, отчаянная, бросилась останавливать их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, кого она еще не раз любила в жизни, говорили, что нет ничего милее этого шрама, похожего на тонкую постоянную улыбку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452-359E-4D31-AB6F-FC6F02D7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A6B-E31D-4355-B313-711809F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EA1-4638-48AC-BA3F-70A5AE3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961-5284-4931-9F3F-03162652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B4C-6C37-4FFC-95CD-8DC4C48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F76-BDDA-4E0E-84A3-8A7BFDA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56D-7BEC-4C0F-A0A8-D62FCC17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1C2-A70D-4934-AB3E-5008C1E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E53-2ABF-4DF8-A639-76D55E00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2AE-C0EF-4C9B-8EF1-173A2FB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417-6F76-4263-9FAC-5D9CBE3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2C6-3DEA-45D8-A72E-AAAF4E1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5514-EF45-41CF-AE53-7D596B95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54468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71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Роман горб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Горбун получил анонимное любовное письмо, приглашение на свид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«Будьте в субботу пятого апреля, в семь часов вечера, в сквере на Соборной площади. Я молода, богата, свободна и - к чему скрывать! - давно знаю, давно люблю нас, гордый и печальный взор, ваш благородный, умный лоб, ваше одиночество... Я хочу надеяться, что и Вы найдете, быть может, во мне душу, родную Вам... Мои приметы: серый английский костюм, в левой руке шелковый лиловый зонтик, в правой - букетик фиалок..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 он был потрясен, как ждал субботы: первое любовное письмо за всю жизнь! В субботу он сходил к парикмахеру, купил (сиреневые) перчатки, новый (серый с красной искрой, под цвет костюму) галстук; дома, наряжаясь перед зеркалом, без конца перевязывал этот галстук своими длинными, тонкими пальцами, холодными и дрожащими: на щеках его, под тонкой кожей, разлился красивый, пятнистый румянец, прекрасные глаза потемнели... Потом, наряженный, он сел в кресло, - как гость, как чужой в своей собственной квартире, - и стал ждать рокового часа. Наконец в столовой важно, грозно пробило шесть с половиной. Он содрогнулся, поднялся, сдержанно, не спеша надел в прихожей весеннюю шляпу, взял трость и медленно вышел. Но на улице уже не мог владеть собой - зашагал своими длинными и тонкими ногами быстрее, со всей вызывающей важностью, присущей горбу, но объятый тем блаженным страхом, с которым всегда предвкушаем мы счастье. Когда же быстро вошел в сквер возле собора, вдруг оцепенел на месте: навстречу ему, в розовом свете весенней зари, важными и длинными шагами шла в сером костюме и хорошенькой шляпке, похожей на мужскую, с зонтиком в левой руке и с фиалками в правой, - горбун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Беспощаден кто-то к человек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532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очитайте рассказ И.А.Бунина «Волки» и выполните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 какой целью в рассказ вводится образ августовской ночи? Какими средствами автор выстраивает этот об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оанализируйте фразу: « И опять вспыхивает спичка, потом зарница,  и тьма еще гуще слепит теплой чернотой, в которой все кажется, что тележка катится назад». Как в ней проявляется мастерство Бунина-худож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акую портретную характеристику дает автор геро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ак объяснить психологическое состояние барышни? Почемк она «бросает в темноту спичк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чему в кульминационный момент повествование обрывается описанием пожаоа? С помощью каких средств создается это опис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чем особенности художественного времени расс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М.Ю Лермонтов «Русская мелодия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В уме своем я создал мир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И образов иных существова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Я цепью их связал между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Я дал им вид, но не дал им наз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Вдруг зимних бурь раздался грозный вой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И рушилось неверное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- «воспроизведенное представление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- форма художественного мыш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пособ освоения и преобразования действитель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любое явление, твор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оссозданное в произведени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 обобщает действительность, является способом ее 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воря образ, художник воссоздает цвет и освещение, звуковой фон и зрительные впечатления, запахи и ощущения, воспроизводит образн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браз обретает жизнь только в сознании читателя, который достраивает его детали и подр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783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 чем эти стихи? Кто тот, чьё имя не назва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4465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руб – лишь только ле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рав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Бурь – лишь только щеб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тиц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Крыл – лишь только тре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ек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М.Цвет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9800" y="4575240"/>
            <a:ext cx="435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змерить океан глуб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Сочесть пески, лучи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Хотя и мог бы ум высоки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ебе числа и меры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Г.Р.Держа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Художественные образ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5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системе персонаж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ндивидуальные (Наташа Рост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Характерные (Дикой и Тихон Кабан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Типические ( Баз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а рамками одного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мотив (повторяется, образ мет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топос ( общее место, образ доро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архетип ( устойчивый, Гамлет, Дон-Жу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о объекту изоб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 автора, образ героя, образ природы, образ родины, образ на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 образе ветки сирени в романе И.А.Гончаров «Облом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105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первые появляется в момент признания в любви Ольге, затем называя это неправдой. Ольга срывает ветку сирени и с досадой бросает ее. Обломов хранит ветку как символ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 ветке Ольга расскажет Штольцу в знак дове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 сирени, как символе лучшего в жизни Обломова, напомнит и финал: «Ветви сирени, посаженные дружеской рукой, дремлют над могилой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777708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уйте образный ст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ихотворения М.Ю. Лермонт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икто моим словам не внемлет…я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ень гаснет…красными рисуясь полос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запад уклонились тучи, и к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рещит передо мной. Я полон весь меч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 будущем… и дни мои тол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днообразною проходят предо м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тщетно я ищу смущенными о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ж них хоть день один, отмеченный судь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рочитайте рассказ И.А.Бунина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«Роман горбуна» и 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Что подчеркнуто в портрете героя и героини? Что сближает оба опис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окажите, что место и время действия выбрано не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ая парадоксальная мыысль присутствует в любовном послании горбуньи? Где намек, что она горбун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ими образными средствами передано ожид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чем особенность цветовой гаммы рассказа? Как она связана с сюж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 автор относится к герою и героине? В чем особенность авторской оцен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айте свою  интерпретацию финальной ф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3:51:24Z</dcterms:created>
  <dc:creator>Катрин</dc:creator>
  <dc:description/>
  <dc:language>en-US</dc:language>
  <cp:lastModifiedBy>14</cp:lastModifiedBy>
  <dcterms:modified xsi:type="dcterms:W3CDTF">2010-06-28T07:37:56Z</dcterms:modified>
  <cp:revision>4</cp:revision>
  <dc:subject/>
  <dc:title>Анализ  художественного текста</dc:title>
</cp:coreProperties>
</file>