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5943-C862-4E7D-80E2-310B78E897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унин Иван Алексеевич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олк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ьма теплой августовской ночи, еле видны тусклые звезды, кое-где мерцающие в облачном небе Мягкая, неслышная от глубокой пыли дорога в поле, по которой катится тележка с двумя молодыми седоками - мелкопоместной барышней и юношей гимназистом. Пасмурные зарницы освещают иногда пару ровно бегущих рабочих лошадей со спутанными гривами, в простой упряжи, и картуз и плечи малого в замашной рубахе на козлах, на мгновение открывают впереди поля, опустевшие после рабочей поры, и дальний печальный лесок. Вчера вечером на деревне был шум, крик, трусливый лай и визг собак: с удивительной дерзостью, когда по избам уже ужинали, волк зарезал в одном дворе овцу и едва не унес ее - вовремя выскочили на собачий гам мужики с дубинами и отбили ее, уже околевшую, с разорванным боком. Теперь барышня нервно хохочет, зажигает и бросает в темноту спички, весело крич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Волков боюсь!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пички освещают удлиненное, грубоватое лицо юноши и ее возбужденное широкоскулое личико. Она кругло, по-малорусски, повязана красным платочком, свободный вырез красного ситцевого платья открывает ее круглую крепкую шею. Качаясь на бегу тележки, она жжет и бросает в темноту спички, будто не замечая, что гимназист обнимает ее и целует то в шею, то в щеку, ищет ее губы Она отодвигает его локтем, он намеренно громко и просто, имея в виду малого на козлах, говорит ей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Отдайте спички. Мне закурить нечем будет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Сейчас, сейчас! - кричит она, и опять вспыхивает спичка, потом зарница, и тьма еще гуще слепит теплой чернотой, в которой все кажется, что тележка катится назад. Наконец, она уступает ему долгим поцелуем в губы, как вдруг, толчком мотнув их обоих, тележка точно натыкается на что-то - малый круто осаживает лошадей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Волки! - вскрикивает он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глаза бьет зарево пожара в дали направо. Тележка стоит против того леска, что открывался при зарницах. Лесок от зарева стал теперь черным и весь зыбко дрожит, как дрожит и все поле перед ним в сумрачно-красном трепете от того жадно несущегося в небе пламени, которое, несмотря на даль, полыхает с бегущими в нем тенями дыма точно в версте от тележки, разъяряется все жарче и грознее, охватывает горизонт все выше и шире, - кажется, что жар его уже доходит до лица, до рук, виден даже над чернотой земли красный переплет какой-то сгоревшей крыши. А под стеной леса стоят, багрово серея, три больших волка, и в глазах у них мелькает то сквозной зеленый блеск, то красный, - прозрачный и яркий, как горячий сироп варенья из красной смородины. И лошади, шумно всхрапнув, вдруг диким галопом ударяют вбок, влево, по пашне, малый, на вожжах, валится назад, а тележка, со стуком и треском, мотаясь, бьется по взметам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де-то над оврагом лошади еще раз взметнулись, но она, вскочив, успела вырвать вожжи из рук ошалевшего малого. Тут она с размаху полетела в козлы и рассекла щеку об что-то железное. Так и остался на всю жизнь легкий шрам в уголке ее губ, и, когда у ней спрашивали, отчего это, она с удовольствием улыбалась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Дела давно минувших дней! - говорила она, вспоминая то давнее лето, августовские сухие дни и темные ночи, молотьбу на гумне, ометы новой пахучей соломы и небритого гимназиста, с которым она лежала в них вечерами, глядя на ярко-мгновенные дуги падающих звезд. - Волки испугали, лошади понесли, - говорила она. - А я была горячая, отчаянная, бросилась останавливать их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, кого она еще не раз любила в жизни, говорили, что нет ничего милее этого шрама, похожего на тонкую постоянную улыбку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74F3-094C-4569-B51F-7B2707F0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5910-A044-48D6-B583-5F663C2A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FAB2-9FC2-41B0-9F46-E611F667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8BA-7B4C-44E2-A2B2-045AE58E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A7C3-D83F-4B79-B085-2CBADC8D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7F3A-3FC9-4906-AD93-DA4B6F02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7BE8-FC1C-41C7-B4EE-C450F389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71E-0CDF-4613-8B36-17A2FBA4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5E5-3D07-4C98-A8B1-8C8D2ED1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2871-5660-48F6-88F0-B8E9778A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1DB4-355B-4182-8120-77110ED4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2E60-73BE-46D0-BE6D-DC85F0F9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476E-D368-4E7F-9588-7D41C6706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Анализ </a:t>
            </a:r>
            <a:br>
              <a:rPr sz="4400"/>
            </a:b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художественного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Тема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Художественный об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924360" y="54468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4000" y="0"/>
            <a:ext cx="8135640" cy="71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Роман горбу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Горбун получил анонимное любовное письмо, приглашение на свидани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«Будьте в субботу пятого апреля, в семь часов вечера, в сквере на Соборной площади. Я молода, богата, свободна и - к чему скрывать! - давно знаю, давно люблю нас, гордый и печальный взор, ваш благородный, умный лоб, ваше одиночество... Я хочу надеяться, что и Вы найдете, быть может, во мне душу, родную Вам... Мои приметы: серый английский костюм, в левой руке шелковый лиловый зонтик, в правой - букетик фиалок...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Как он был потрясен, как ждал субботы: первое любовное письмо за всю жизнь! В субботу он сходил к парикмахеру, купил (сиреневые) перчатки, новый (серый с красной искрой, под цвет костюму) галстук; дома, наряжаясь перед зеркалом, без конца перевязывал этот галстук своими длинными, тонкими пальцами, холодными и дрожащими: на щеках его, под тонкой кожей, разлился красивый, пятнистый румянец, прекрасные глаза потемнели... Потом, наряженный, он сел в кресло, - как гость, как чужой в своей собственной квартире, - и стал ждать рокового часа. Наконец в столовой важно, грозно пробило шесть с половиной. Он содрогнулся, поднялся, сдержанно, не спеша надел в прихожей весеннюю шляпу, взял трость и медленно вышел. Но на улице уже не мог владеть собой - зашагал своими длинными и тонкими ногами быстрее, со всей вызывающей важностью, присущей горбу, но объятый тем блаженным страхом, с которым всегда предвкушаем мы счастье. Когда же быстро вошел в сквер возле собора, вдруг оцепенел на месте: навстречу ему, в розовом свете весенней зари, важными и длинными шагами шла в сером костюме и хорошенькой шляпке, похожей на мужскую, с зонтиком в левой руке и с фиалками в правой, - горбунь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Беспощаден кто-то к человек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19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532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рочитайте рассказ И.А.Бунина «Волки» и выполните зад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 какой целью в рассказ вводится образ августовской ночи? Какими средствами автор выстраивает этот образ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роанализируйте фразу: « И опять вспыхивает спичка, потом зарница,  и тьма еще гуще слепит теплой чернотой, в которой все кажется, что тележка катится назад». Как в ней проявляется мастерство Бунина-худож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Какую портретную характеристику дает автор героя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Как объяснить психологическое состояние барышни? Почемк она «бросает в темноту спички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очему в кульминационный момент повествование обрывается описанием пожаоа? С помощью каких средств создается это описа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чем особенности художественного времени рассказ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М.Ю Лермонтов «Русская мелодия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532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В уме своем я создал мир 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И образов иных существова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Я цепью их связал между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Я дал им вид, но не дал им наз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Вдруг зимних бурь раздался грозный вой,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3300"/>
                </a:solidFill>
                <a:latin typeface="Arial"/>
              </a:rPr>
              <a:t>И рушилось неверное создань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Художественный об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532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- «воспроизведенное представление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- форма художественного мышл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способ освоения и преобразования действительн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любое явление, твор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воссозданное в произведени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532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Художественный образ обобщает действительность, является способом ее оце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Творя образ, художник воссоздает цвет и освещение, звуковой фон и зрительные впечатления, запахи и ощущения, воспроизводит образные ассоци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Образ обретает жизнь только в сознании читателя, который достраивает его детали и подро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783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 чем эти стихи? Кто тот, чьё имя не назва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764640"/>
            <a:ext cx="4465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Всё великолеп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Труб – лишь только леп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Трав – перед Т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Всё великолеп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Бурь – лишь только щеб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Птиц – перед Т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Всё великолеп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Крыл – лишь только треп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Век – перед Т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М.Цвета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09800" y="4575240"/>
            <a:ext cx="435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Измерить океан глубо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Сочесть пески, лучи пла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Хотя и мог бы ум высокий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Тебе числа и меры 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Г.Р.Держав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Художественные образ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549000"/>
            <a:ext cx="8532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В системе персонаж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Индивидуальные (Наташа Рост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Характерные (Дикой и Тихон Кабан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Типические ( Базар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За рамками одного произве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Образ- мотив (повторяется, образ мете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Образ- топос ( общее место, образ дорог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Образ- архетип ( устойчивый, Гамлет, Дон-Жуа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По объекту изоб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Образ автора, образ героя, образ природы, образ родины, образ наро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 образе ветки сирени в романе И.А.Гончаров «Облом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41050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Впервые появляется в момент признания в любви Ольге, затем называя это неправдой. Ольга срывает ветку сирени и с досадой бросает ее. Обломов хранит ветку как символ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О ветке Ольга расскажет Штольцу в знак довер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О сирени, как символе лучшего в жизни Обломова, напомнит и финал: «Ветви сирени, посаженные дружеской рукой, дремлют над могилой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2565000"/>
            <a:ext cx="777708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анализируйте образный ст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ихотворения М.Ю. Лермонт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икто моим словам не внемлет…я о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День гаснет…красными рисуясь полос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а запад уклонились тучи, и ка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Трещит передо мной. Я полон весь меч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 будущем… и дни мои толп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днообразною проходят предо м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И тщетно я ищу смущенными оч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еж них хоть день один, отмеченный судьб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89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Прочитайте рассказ И.А.Бунина 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«Роман горбуна» и выполните 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Что подчеркнуто в портрете героя и героини? Что сближает оба опис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Докажите, что место и время действия выбрано не случай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Какая парадоксальная мыысль присутствует в любовном послании горбуньи? Где намек, что она горбунь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Какими образными средствами передано ожид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чем особенность цветовой гаммы рассказа? Как она связана с сюжет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Как автор относится к герою и героине? В чем особенность авторской оценк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Дайте свою  интерпретацию финальной фра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13:51:24Z</dcterms:created>
  <dc:creator>Катрин</dc:creator>
  <dc:description/>
  <dc:language>en-US</dc:language>
  <cp:lastModifiedBy>14</cp:lastModifiedBy>
  <dcterms:modified xsi:type="dcterms:W3CDTF">2010-06-28T07:37:56Z</dcterms:modified>
  <cp:revision>4</cp:revision>
  <dc:subject/>
  <dc:title>Анализ  художественного текста</dc:title>
</cp:coreProperties>
</file>