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E67-69C8-4CFA-8BC7-3881412F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690-1C89-42B2-B6F3-DFA12382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7FB-B98B-4EB6-ADBA-176A830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265-8EA5-43AB-8C45-187DF39F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77C-E393-4753-8FC7-008C934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200-6FF5-4F9C-A8CA-ADE9C694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128-1403-4378-A708-446B62F5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CDB-3059-4F38-8C38-92C2EF1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E82-4F82-4DA1-B132-E6D1E72C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A47-F0F8-4F84-BC4C-054AEFA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8CB-0FBF-4E4A-8E09-5920BDB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304-E7DD-4AC9-ABAE-6F8BB37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DD6-673A-4FC0-88AA-7221F2FA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оэ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537372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Поэтика (творческое искусств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Наука о системе средств выражения в литературных произведениях, о соотношении элементов текста, формирующих общее эстетическое впечатление от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М. Цветаева: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А стихи? Восемь буквенных строч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А музыка? Пришпиленные блохи нот. Никакой красоты. Никакого подк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Меня нужно понять – либо меня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Отсюда и …беззащитность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 поэ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62680" y="3357720"/>
            <a:ext cx="1920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Л.Н.Толстой «Об искусств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51944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«Для того чтобы то, что говорит художник, было выражено вполне хорошо, нужно, чтобы художник овладел своим мастерством так, чтобы, работая, так же мало думал о правилах этого мастерства, как мало думает человек о правилах механики, когда ходи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Читатель должен быть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06864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стихотворении «Читатель» А.Ахматова ска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 «немой» исповеди поэ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 «блаженнейшем зно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беседы с «неведомым друго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А каждый читатель как та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Как в землю закопанный кл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Пусть самый последний, случай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Всю жизнь промолчавший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06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Докажите связь литературоведения с нау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Эстетикой ( исследует область художественной деятельности люде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Историей (изучает прошлое и закономерности его развит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оциологией (изучает общественные институ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сихологией (изучает психологическое отражение действительности в поведении челове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Культурологией (изучает культур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Лингвистикой (изучает язы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Религиоведением (изучает возникновение и развитие религ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емиотикой (изучает различные знаковые 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Философией (изучает основы человеческого быт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равните миниатюру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и стихотворение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А.С.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35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Напрасно я бегу к сионским высот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Грех алчный гонится за мною по пят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Так, ноздри пыльные уткнув в песок сыпуч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Голодный лев следит оленя бег пахуч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346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Пора, мой друг, пора! Покоя сердце проси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Летят за днями дни, и каждый час уно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Частичку бытия, а мы с тобой вд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Предполагаем жить… И глядь- как раз- умр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На свете счастья нет, но есть покой и в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Давно завидная мечтается мне дол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Давно, усталый раб, замыслил я 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В обитель дальную трудов и чистых 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4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Ф.И.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                      </a:t>
            </a: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Последний катакл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Когда пробьёт последний час прир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остав частей разрушится зем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Всё зримое опять покроют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И Божий лик изобразится в н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 горы скатившись, камень лег в долине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Как он упал? Никто не знает ныне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орвался ль он с вершины сам соб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Или низвергнут мыслящей рук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Столетье за столетьем пронесло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Arial"/>
              </a:rPr>
              <a:t>Никто ещё не разрешил вопрос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ие философские вопросы ставятся в стихотворениях? Даются ли ответы на 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 решается тема времени в обоих стихотворения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В чем смысл восклиц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41960" y="0"/>
            <a:ext cx="2768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5:07:23Z</dcterms:created>
  <dc:creator>Катрин</dc:creator>
  <dc:description/>
  <dc:language>en-US</dc:language>
  <cp:lastModifiedBy>Катрин</cp:lastModifiedBy>
  <dcterms:modified xsi:type="dcterms:W3CDTF">2010-09-02T16:05:12Z</dcterms:modified>
  <cp:revision>6</cp:revision>
  <dc:subject/>
  <dc:title>Анализ художественного текста</dc:title>
</cp:coreProperties>
</file>