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D3AA-78DB-40FA-AF30-6B355B78E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B362-C922-4104-B77D-938CA2B7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C44C-DD2F-4832-BE6D-DCCDB126F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7377-76BD-4977-8E25-5AE9A674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8ABB-2357-4F4D-95F5-58C1097B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CB28-73BC-45F8-B5AC-AB426B4A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CF8D-9A4D-4784-9188-B87EE21F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B89F-D4B8-46CF-9957-3E4344A7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4946-4F8F-48D6-96F6-253B2AB3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2604-E972-43C4-9EDD-252DC30A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5721-8DB4-4EA4-825A-222034BF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E1E8-AA48-4B9E-A187-A56BB7AE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7DAD-1ED8-489C-B38A-655A6645A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Анализ художественного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Тема 2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Поэ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211640" y="537372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Поэтика (творческое искусств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6560" y="11970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Наука о системе средств выражения в литературных произведениях, о соотношении элементов текста, формирующих общее эстетическое впечатление от произ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М. Цветаева: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«А стихи? Восемь буквенных строч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А музыка? Пришпиленные блохи нот. Никакой красоты. Никакого подкуп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Меня нужно понять – либо меня Н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Отсюда и …беззащитность сл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И поэт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62680" y="3357720"/>
            <a:ext cx="19209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296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Л.Н.Толстой «Об искусств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5194440" cy="45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«Для того чтобы то, что говорит художник, было выражено вполне хорошо, нужно, чтобы художник овладел своим мастерством так, чтобы, работая, так же мало думал о правилах этого мастерства, как мало думает человек о правилах механики, когда ходи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Читатель должен быть собеседн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508720" y="1557360"/>
            <a:ext cx="306864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99640" y="404640"/>
            <a:ext cx="7201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В стихотворении «Читатель» А.Ахматова скаж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о «немой» исповеди поэ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о «блаженнейшем зное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беседы с «неведомым другом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А каждый читатель как тай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Как в землю закопанный кла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Пусть самый последний, случайн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Всю жизнь промолчавший снаря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804000" y="260280"/>
            <a:ext cx="1905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280" y="836280"/>
            <a:ext cx="8064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Докажите связь литературоведения с наук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Эстетикой ( исследует область художественной деятельности люде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Историей (изучает прошлое и закономерности его развит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Социологией (изучает общественные институт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Психологией (изучает психологическое отражение действительности в поведении человек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Культурологией (изучает культуру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Лингвистикой (изучает язык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Религиоведением (изучает возникновение и развитие религи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Семиотикой (изучает различные знаковые систем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Философией (изучает основы человеческого быт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454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126792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Сравните миниатюру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и стихотворение 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А.С.Пушк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99640" y="357336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Напрасно я бегу к сионским высот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Грех алчный гонится за мною по пята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Так, ноздри пыльные уткнув в песок сыпуч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Голодный лев следит оленя бег пахуч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516720" y="0"/>
            <a:ext cx="23461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826560" y="1628640"/>
            <a:ext cx="831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Пора, мой друг, пора! Покоя сердце просит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Летят за днями дни, и каждый час унос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Частичку бытия, а мы с тобой вдво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Предполагаем жить… И глядь- как раз- умр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На свете счастья нет, но есть покой и в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Давно завидная мечтается мне доля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Давно, усталый раб, замыслил я поб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В обитель дальную трудов и чистых не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454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80661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Ф.И.Тютч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3300"/>
                </a:solidFill>
                <a:latin typeface="Arial"/>
              </a:rPr>
              <a:t>                      </a:t>
            </a:r>
            <a:r>
              <a:rPr b="1" i="1" lang="en-US" sz="1600" spc="-1" strike="noStrike">
                <a:solidFill>
                  <a:srgbClr val="663300"/>
                </a:solidFill>
                <a:latin typeface="Arial"/>
              </a:rPr>
              <a:t>Последний катакл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3300"/>
                </a:solidFill>
                <a:latin typeface="Arial"/>
              </a:rPr>
              <a:t>Когда пробьёт последний час природ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3300"/>
                </a:solidFill>
                <a:latin typeface="Arial"/>
              </a:rPr>
              <a:t>Состав частей разрушится земны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3300"/>
                </a:solidFill>
                <a:latin typeface="Arial"/>
              </a:rPr>
              <a:t>Всё зримое опять покроют вод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3300"/>
                </a:solidFill>
                <a:latin typeface="Arial"/>
              </a:rPr>
              <a:t>И Божий лик изобразится в них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3300"/>
                </a:solidFill>
                <a:latin typeface="Arial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3300"/>
                </a:solidFill>
                <a:latin typeface="Arial"/>
              </a:rPr>
              <a:t>С горы скатившись, камень лег в долине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3300"/>
                </a:solidFill>
                <a:latin typeface="Arial"/>
              </a:rPr>
              <a:t>Как он упал? Никто не знает ныне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3300"/>
                </a:solidFill>
                <a:latin typeface="Arial"/>
              </a:rPr>
              <a:t>Сорвался ль он с вершины сам соб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3300"/>
                </a:solidFill>
                <a:latin typeface="Arial"/>
              </a:rPr>
              <a:t>Или низвергнут мыслящей руко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3300"/>
                </a:solidFill>
                <a:latin typeface="Arial"/>
              </a:rPr>
              <a:t>Столетье за столетьем пронесло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3300"/>
                </a:solidFill>
                <a:latin typeface="Arial"/>
              </a:rPr>
              <a:t>Никто ещё не разрешил вопрос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Какие философские вопросы ставятся в стихотворениях? Даются ли ответы на них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Как решается тема времени в обоих стихотворениях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В чем смысл восклицани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141960" y="0"/>
            <a:ext cx="27687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5:07:23Z</dcterms:created>
  <dc:creator>Катрин</dc:creator>
  <dc:description/>
  <dc:language>en-US</dc:language>
  <cp:lastModifiedBy>Катрин</cp:lastModifiedBy>
  <dcterms:modified xsi:type="dcterms:W3CDTF">2010-09-02T16:05:12Z</dcterms:modified>
  <cp:revision>6</cp:revision>
  <dc:subject/>
  <dc:title>Анализ художественного текста</dc:title>
</cp:coreProperties>
</file>