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5D11-98CC-4084-A7E8-8F6F8E4FB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ак вы думаете, почему отдали предпочтение картине Единорога? Почему ученик победил учителя в споре о красоте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Учитель мучился, искал идеал женской красоты, нашёл его и, используя своё непревзойденное мастерство, создал удивительную картину. Она вызывала восторг перед неземной, необыкновенной женщиной. Рядом с этой красотой меркло всё вокруг, казалось несовершенным, низким, ничтожным. Единорог, казалось, не мог превзойти учителя в мастерстве исполнения, но его совершенно земная «Зорька» была одухотворена любовью. Ученик превзошёл учителя по силе чувств, вложенных в произведение. Его картина позволяла видеть и помнить красоту вокруг себя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О каком важном для автора убеждении свидетельствует такой поворот событий в рассказе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Автор показал, что внешняя красота пленит, чарует, но выше красота внутренняя. Глаза влюблённого человека во всём, что его окружает, видят прелесть и великолепие. Возлюбленная всегда самая прекрасная, лучшая. И сколько бы ни прошло лет, она всегда остаётся ею, хотя меняется внешне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споминаются слова В.Шекспир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Её глаза на звёзды не похожи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ельзя уста кораллами назвать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е знаю я, как шествуют богини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о милая ступает по земл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артина Единорога освещена любовью. Именно такой свет, похожий на свет яркой звезды на тёмном небосклоне, по-настоящему согревает сердца людей (вспомним старуху и старика в рассказ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идимо, среди произведений искусства, сам писатель отдаёт предпочтение тем, которые несут радость, духовное раскрепощение, любовь и свет, «открывают глаза» на красоту мира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Что можно сказать о взаимодействии Творца, художника и личности, познакомившись с рассказом В.Вересаева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Зритель является объектом влияния художника, именно на него направлена энергетика художественного произведения, положительная или отрицательная, возвышающая душу или порабощающая её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BFE-6BE3-4ECA-BCB6-34AF6077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38E-4A14-4BE4-B264-F56A527D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42D-6E64-40CA-B5A5-5BB89A2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37A-977B-4DB5-9E6C-314940E1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B76-332B-4812-B57C-9BE25C4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50B-B91B-49BF-B8F7-E3431A0D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C4A-27A9-4642-8FC0-1944F0C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2D9-BBBF-4388-9EF8-762255F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74C-460D-449E-91FF-9D9CFA86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88C-4845-41D9-8ADD-FFBA78F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C39-80AC-4C4C-829A-C9D7CCC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8B1-7F62-43E2-B950-134E23B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B63-E820-4BB0-8334-9C3BC075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опрос о назначении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11640" y="549108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916360" cy="4346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.С.Гумилёв «Сло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00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В оный день, когда над миром н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Бог склонял лицо Свое, т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олнце останавливали сло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ловом разрушали го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 орел не взмахивал крыл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Звезды жались в ужасе к лу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Если, точно розовое плам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лово проплывало в выш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А для низкой жизни были чис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Как домашний, подъяремный ск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отому что все оттенки смы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Умное число перед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атриарх седой, себе под ру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окоривший и добро и з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Не решаясь обратиться к зву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Тростью на песке чертил чи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Но забыли мы, что осия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Только слово средь земных трев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 в Евангелии от Иоан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казано, что Слово – это Б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Мы ему поставили пред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кудные пределы есте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, как пчелы в улье опусте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Дурно пахнут мертв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Вопросы 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1. Как развивается главная тема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2. Как в содержании реализуется прием антите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3. Прочитайте следующие произведения. Чем близки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А.С.Пушкин «Езерск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23640" y="1125000"/>
            <a:ext cx="5327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сполнен мыслями злат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е понимаемый ник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еред распутьями зем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роходишь ты, уныл и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С толпой не делишь ты ни гн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и нужд, ни хохота, ни р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и удивленья, н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Глупец кричит: куда? 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Дорога здесь. Но ты не слыш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дешь, куда тебя вле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Мечтанья тайные; тво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ебе награда; им ты дыш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А плод его бросаешь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олпе, рабыне су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М.Ю.Лермонтов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«Есть речи – значен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71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Есть речи — знач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Темно иль ничтож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о им без волн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нимать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Как полны их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Безумством жела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 них слезы разл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 них трепет свида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е встретит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Средь шума ми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з пламя 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Рожденное сло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о в храме, средь б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 где я ни бу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Услышав его,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Узнаю повсю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е кончив молит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а звук тот отвеч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 брошусь из бит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Ему я навстр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684360" y="404640"/>
          <a:ext cx="8351640" cy="5648400"/>
        </p:xfrm>
        <a:graphic>
          <a:graphicData uri="http://schemas.openxmlformats.org/drawingml/2006/table">
            <a:tbl>
              <a:tblPr/>
              <a:tblGrid>
                <a:gridCol w="4103640"/>
                <a:gridCol w="4248000"/>
              </a:tblGrid>
              <a:tr h="56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ó нужно кусту от мен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 речи ж! Не доли собачь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оей человечьей, кля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оторую — голову пря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него же (седей — день от дня!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ей мощи, и плещи, и гущи 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нужно кусту — от мен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мущему — от неимуще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А нужно! иначе б не 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не в очи, и в мысли, и в уш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 нужно б — тогда бы не ц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не прямо в разверстую душ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только кустом не пус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кном моих всех захолусти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, полная чаша ку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аходишь на сем — месте пуст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его не видал (на ветв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Твоих — хоть бы лист одинаков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моих преткновения пня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плошных препинания знак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его не слыхал (на ветв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олва не рождается в муках!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моих преткновения пня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плошных препинания звук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а вот и сейчас, словар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ридавши бессмертную силу, 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а разве я то говорю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знала, пока не раскры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та, знала еще на че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Губ, той — за которой осколк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 снова, во всей полно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Знать буду, как только умолк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340000" y="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.И.Цветаева К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3477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Каждый ли человек способен понимать произведения искус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чём назначение искусства и какова сила его воздействия на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ответственен за то, что происходит вокруг. «Ты только улови»,- призывает автор. Улови - значит старайся услышать главное, не отгораживайся от жизни. Рядом всегда есть те, кто напомнят «…о несчастных и счастливых, о добре и зле, о лютой ненависти и святой любви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мя им – М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8928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чём же волшебная сила искус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ван Бунин в очерке поэту И.С.Никитину ответил так: «Я не знаю, кто называется хорошим человеком. Верно, хорош тот, у кого есть душа, есть горячее чувство, безотчётно рвущееся из глубины сердце. Я не знаю, что называется искусством, красотою в искусстве, его правилами. Верно, в том заключается оно, чтобы человек какими бы словами, в какой бы форме ни говорил мне, но заставлял бы меня видеть перед собою живых людей, чувствовать веяние живой природы, заставляя трепетать лучшие струны моего сердц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рочитайте рассказ В.В.Вересаева «Состязание» и выполните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ак развивается в рассказе тема крас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ак решается тема художника и толп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Ответ на какой вопрос ищет художник? Дан ли ответ в расс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апишите эссе на тему «Сила художественного слова и пределы его могуще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эты и писатели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 назначении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ь, пророк, и виждь, и внем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Исполнись волею мо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И, обходя моря и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Глаголом жги сердц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.А.Баратынски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говорил об «искусстве другим передавать в согласных звуках чув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Ф.М.Достоевски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говорил о таких задачах литературы, как исследование тайников человеческой души и проповеднической миссии литературы, связанной с обращением человека к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юбом художественном произведении выделяются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Arial"/>
              </a:rPr>
              <a:t>три главных аспекта творчества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эст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ознав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иросозерц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99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6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Тащитесь, траурные кляч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Актёры, правьте ремес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Чтобы от истины ходя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Всем стало БОЛЬНО и СВЕТЛ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А.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549000"/>
            <a:ext cx="7848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длинные художественные творения выражают смысл истины, помогают читателю пережить встречу с великим, с высшими ценност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Не в этом ли состоит одна из главных целей искус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Философ И.А.Ильи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482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Великие русские поэты уже сказали об этом, но им мало кто поверил…Они выговаривали- и выговорили, что художник имеет творческое призвание, не потому что он предсказывает будущее или обличает порочность людей, а потому, что через него прорекает себя Богом созданная сущность мира и человек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2476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тайте рассказ И.Бунина «Кни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 на гумне в омете, долго читал - и вдруг возмутило. Опять с раннего утра читаю, опять с книгой в руках! И так изо дня в день, с самого детства! Полжизни прожил в каком-то несуществующем мире, среди людей, никогда не бывших, выдуманных, волнуясь их судьбами, их радостями и печалями, как своими собственными, до могилы связав себя с Авраамом и Исааком, с пелазгами и этрусками, с Сократом и Юлием Цезарем, Гамлетом и Данте, Гретхен и Чацким, Собакевичем и Офелией, Печориным и Наташей Ростовой! И как теперь разобраться среди действительных и вымышленных спутников моего земного существования? Как разделить их, как определить степени их влияния на мен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читал, жил чужими выдумками, а поле, усадьба, деревня, мужики, лошади, мухи, шмели, птицы, облака - все жило своей собственной, настоящей жизнью. И вот я внезапно почувствовал это и очнулся от книжного наваждения, отбросил книгу в солому и с удивлением и с радостью, какими-то новыми глазами смотрю кругом, остро вижу, слышу, обоняю, - главное, чувствую что-то необыкновенно простое и в то же время необыкновенно сложное, то глубокое, чудесное, невыразимое, что есть в жизни и во мне самом и о чем никогда не пишут как следует в кни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я читал, в природе сокровенно шли изменения. Было солнечно, празднично; теперь все померкло, стихло. В небе мало-помалу собрались облака и тучки, кое-где, - особенно к югу, - еще светлые, красивые, а к западу, за деревней, за ее лозинами, дождевые, синеватые, скучные. Тепло, мягко пахнет далеким полевым дождем. В саду поет одна ивол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ухой фиолетовой дороге, пролегающей между гумном и садом, возвращается с погоста мужик. На плече белая железная лопата с прилипшим к ней синим черноземом. Лицо помолодевшее, ясное. Шапка сдвинута с потного л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своей девочке куст жасмину посадил! - бодро говорит он. - Доброго здоровья. Все читаете, все книжки выдумыва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астлив. Чем? Только тем, что живет на свете, то есть совершает нечто самое непостижимое в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аду поет иволга. Все прочее стихло, смолкло, даже петухов не слышно. Одна она поет - не спеша выводит игривые трели. Зачем, для кого? Для себя ли, для той ли жизни, которой сто лет живет сад, усадьба? А может быть, эта усадьба живет для ее флейтового п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На своей девочке куст жасмину посадил". А разве девочка об этом знает? Мужику кажется, что знает, и, может быть, он прав. Мужик к вечеру забудет об этом кусте, - для кого же он будет цвести? А ведь будет цвести, и будет казаться, что недаром, а для кого-то и для чего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се читаете, все книжки выдумываете". А зачем выдумывать? Зачем героини и герои? Зачем роман, повесть, с завязкой и развязкой? Вечная боязнь показаться недостаточно книжным, недостаточно похожим на тех, что прославлены! И вечная мука - вечно молчать, не говорить как раз о том, что есть истинно твое и единственно настоящее, требующее наиболее законно выражения, то есть следа, воплощения и сохранения хотя бы в слов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Вопросы 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1. Сформулируйте главную проблему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2. В 1 и 2 абзацах есть 2 развернутых перечисления. В чем парадокс их соседства? Как они выходят на главную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.Как в пейзажной зарисовке проявилось мастерство Бунина-худож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4. Почему тема смерти не имеет в рассказе трагического звуч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5. Образ поющей иволги является ключевым. Как тема рассказа с ним связа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6. Дайте свою интерпретацию последней ф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7:55:41Z</dcterms:created>
  <dc:creator>Катрин</dc:creator>
  <dc:description/>
  <dc:language>en-US</dc:language>
  <cp:lastModifiedBy>14</cp:lastModifiedBy>
  <dcterms:modified xsi:type="dcterms:W3CDTF">2010-06-28T06:36:49Z</dcterms:modified>
  <cp:revision>5</cp:revision>
  <dc:subject/>
  <dc:title>Анализ художественного текста</dc:title>
</cp:coreProperties>
</file>