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D359-7038-44AB-B595-57C52614187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видела гал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рождественских мотив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д бесконечной снежною равниною, тяжело взмывая усталыми крыльями, летела гал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д нею уходило вверх зеленовато-бледное небо, с одной стороны сливавшееся в дымчатой мгле с землёю. С другой стороны, той, где только что зашло солнце, замирали последние отблески заката, галке был ещё виден багряно-красный, матовый шар опускавшегося солнца, но внизу уже густел мрак зимней, долгой ночи. Куда только хватал глаз, — серело поле, окованное крепким, жгучим морозом. Неподвижная тишина резкого воздуха слабо нарушалась, гоня холодные волны взмахами усталых крыльев, нёсших галку к одному, только ей видимому лесу, где она решила сегодня переночевать. Зажглись уже звезды, и ночной мрак окутал холодным саваном замёрзшую землю, когда галка достигла уже густого леса, смутно черневшего на белой поляне. Слышно было вверху, как от мороза потрескивали деревья, распластавшие свои ветви, отягчённые сыпучим, мелким снегом. Захрустели сучки под осторожною ногою какого-то лесного зверя, выходившего на добычу. Из тёмной дали донеслись до галки унылые, жуткие звуки волчьего воя, протяжного, дикого. Крутым поворотом галка изменила направление полёта, напрягая последние силы, понеслась туда, где, она чувствовала, находится проезжая дор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любила человеческое общество, и лесная глушь была ей неприят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и дорога. Её можно узнать по тёмным, душистым кучкам лошадиного помёта, которым галка не преминула бы воспользоваться, если бы ей не хотелось так сильно спать. Невдалеке чернелись перила моста над глубоким, но теперь невидимым оврагом. Галке овраг этот был знаком по тому горькому разочарованию, которое он ей доставил. Не более как год тому назад, в эту же самую пору, ей удалось выклевать глаза, поразительно вкусные глаза, у какого-то молодого черноусого молодца. Несмотря на холод, он, догола раздетый, спокойно лежал на крепком, подмёрзшем снегу. Из разбитой головы ещё сочилась густая, красная кровь. Только слегка шевельнувшийся мизинец показал галке, что она несвоевременно принялась за работу и клюёт зрячие глаза, — но подобные пустяки не могли смутить птицу, привыкшую к человеческому обществу. На другой день она, пригласив несколько знакомых галок, вернулась, чтобы поосновательнее перекусить, и каково же было негодование её и её подруг, когда, вместо подмёрзшего трупа, они нашли только тёмное пятно крови да массу волчьих следов. Эти господа не постеснялись разорвать на части галкину собственность, а какой-то запоздавший неудачник пытался, по-видимому, есть даже снег, пропитанный кровью. Только в бурной и крикливой манифестации могла галка выразить свою обиду и дать некоторое духовное удовлетворение пустому желуд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брав дерево поудобнее, галка комфортабельно уселась на тонкой ветке, согнувшейся под её тяжестью и осыпавшей мелкий, сухой снег. Каркнув, чтобы прочистить застуженное горло, и сжавшись в комок, так, что галкин приятель, мороз, только руками развёл, не видя возможности хоть где-нибудь найти незащищённое место, она сладко закрыла сперва один, а потом другой чёрный глаз и тотчас же засну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ли, мало ли прошло времени, галка, по отсутствию часов, установить не могла, но факт тот, что она проснулась, совсем ещё не выспавшись, и потому недовольная. Разбудило её ощущение человеческой близости. Около моста серели две закутанные фигуры. Любопытная, как все женщины, галка перелетела на ближайшее дерево и услыхала разгов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 кого в эту ночь понесёт нелёгкая? — сказал сквозь зубы один, тот, что повыше, выпуская тучу пара сквозь заиндевевшие усы и бороду. — Ну и морозищ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годим полчасика, — ответил другой, похлопывая рук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горбившись, обе закутанные фигуры скрылись под мостом. Галке так же легко заснуть, как и проснуться. Разочарованная, она заснула, когда какой-то звук снова разбудил её. За поворотом дороги слышался скрип полозьев по твёрдому снегу накатанной дороги. Показались небольшие сани. Пузатая малорослая лошадёнка бойко перебирала озябшими ногами. На козлах, понурившись, сидел человек; в санях виднелось что-то тёмное, тоже вроде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дорогу быстро выскочили те две фигуры, что сидели, спрятавшись, под мостом. Заинтересованная галка, тихонько каркнув про себя от удовольствия, обратилась в слух. Лошадёнка остановилась. Кучер что-то сказал человеку, сидевшему в санях, и тот привстал. Воротник шубы скрывал его лицо и голову. Один из первых знакомых галки взял лошадь под уздцы, а другой, тот, что был повыше ростом, крикнул: «Стой!» И подошёл к саням. В опущенной руке он держал что-то тяжёл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оровье вашей милости! — грубо сказал он. — Нуте-ка, вылезайте из саночек — приеха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ушегуб, разбойник, — глухо донеслось из-за воротника шубы: — Что хочешь ты дел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 там увиди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лышь, милый человек, не тронь, — сказал сидевший на облучке. — Пра, не сто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олчи, пока жив! — прикрикнул высокий, сурово метнув чёрными глазами. — Вон из сан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лышь, милый челове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ий взмахнул чем-то бывшим в руке и блеснувшим при слабом мерцании звёзд. Тот кубарем слетел с облучка и, видя, что поднятый топор не опускается, прошептал про себя: «Ишь какой сердитый, тётка твоя малина!» Сидевший в санях тоже вылез и, нагнувшись, развёртывал что-то стоявшее на сидении. Взяв затем развёрнутый предмет в руку и держа его перед собою, он медленно направился к высокому, с нетерпением ожидавшему окончания сб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когда галке ни прежде, ни после не приходилось так удивляться! Как будто перед каким-то призраком, высокий начал отступать перед шедшим на него длинноволосым человеком. Допятился он до товарища, который, увидев то, что держал перед собою длинноволосый человек и что блестело от невидимо откуда исходившего света, отпустил лошадь и также начал отступать. Так двигались они: длинноволосый и перед ним два разбойника. Вот один из них нерешительно поднял руку, снял шапку; другой быстрым движением скинул свою. Длинноволосый остановился, остановились и о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девший раньше на облучке поднял топор и сказ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ворил тебе, не тронь. Видишь, попа везу. Эх ты, вор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ка оскорблённо каркнула, но ни её, ни говорившего не слыхали те, что стояли друг перед друг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ыне Христос родился, а что вы делаете, душегубы, разбойники! — произнёс тихий, старческий голо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ч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недостойный служитель Бога, святые дары везу к умирающему. И вы будете умирать, к кому вы на суд пойдё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чание, только хрустнула ветка под шевельнувшейся гал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юбить друг друга заповедал Христос, а что вы делаете? Христианскую кровь проливаете, души свои губите. Убиенные войдут в царствие небесное, а 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ена высокого подогнулись, и он упал ниц. Быстро последовал за ним и товарищ. Так лежали они в снегу, не чувствуя, как коченеют их пальцы, а над ними звучал тихий, старческий голо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мне поклонитесь, а Ему милосердному, который меня послал к вам навстречу. Он, человеколюбец, простил душегубца и тат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атя, Прости, — прошептал высо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сти, батя, не будем, ей-Богу, больше не будем, — присоединился второй, поднимая голо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ик молча повернулся и пошёл к сан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ка не хотела признаваться самой себе, что она лично заинтересована в исходе дела. Неодобрительно каркая, она думала, что стоит лишь на страже интересов сословия. Действительно, хорошо будет житься галкам, если люди будут деликатничать друг с другом! Иронически встопорщив перья, галка сделала вид, что не смотрит на дорогу, но тотчас же обошла закон и скосила глаза на нарушителей междуживотного пра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ворил, милый человек, не тронь. Эх! Скидывай-ка поя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ий послушно развязал пояс и подал работнику, который медленно и толково прикрутил ему руки к лопат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ка ты! Чего слюни-то распустил? Давай пояс, — обратился он к друго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 ну! — слабо запротестовал тот, косясь на священника, но развязал пояс и под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пусти их, Степан, — сказал священ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ак это можно, отец Иван. Меня попадья заруг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пусти. Не людям дадут ответ, а Бо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ан неохотно развязал высокого, дал слегка по шее его товарищу и сел на облуч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A c топором-то, милый человек, простись, — проговорил он, трогая лошад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коре и сани и седоки скрылись в ночной мгле, откуда донесло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ворил, не тронь. Э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умлённая до последней степени и возмущённая галка, перегнув голову набок, с любопытством смотрела на оставшихся, в неясной надежде, что дело ещё может поправиться. Высокий стоял молча и потупив глаза. Товарищ тронул его ру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йдё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ий молча двинулся вперёд, а за ним поспешно зашагал товарищ. Вскоре и эти скрылись в темноте, и галка, столь любящая человеческое общество, осталась одна. Впрочем, на этот раз человеческое общество ей совсем не понравилось.</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едстояла краж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едстояла крупная кража, а быть может, убийство. Нынче ночью предстояла она — и скоро нужно было идти к товарищу, а не ждать в бездействии дома и не оставаться одному. Когда человек один и бездействует, то все пугает его и злорадно смеется над ним темным и глухим смех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го пугает мышь. Она таинственно скребется под полом и не хочет молчать, хотя над головой ее стучат палкой так сильно, что страшно становится самому. И на секунду она замирает, но, когда успокоенный человек ложится, она внезапно появляется под кроватью и пилит доски так громко-громко, что могут услышать на улице и прийти и спросить. Его пугает собака, которая резко звякает на дворе своей цепью и встречает каких-то людей; и потом они, собака и какие-то люди, долго молчат и что-то делают; их шагов не слышно, но они приближаются к двери, и чья-то рука берется за скобку. Берется и держит, не отворя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го страшит весь старый и прогнивший дом, как будто вместе с долголетней жизнью среди стонущих, плачущих, от гнева скрежещущих зубами людей к нему пришла способность говорить и делать неопределенные и страшные угрозы. Из мрака его кривых углов что-то упорно смотрит, а когда поднести лампу, он бесшумно прыгает назад и становится высокой черной тенью, которая качается и смеется — качается и смеется, такая страшная на круглых бревнах стены. По низким потолкам его кто-то ходит тяжелыми стопами; шагов его почти не слышно, но доски гнутся, а в пазы сыплется мелкая пыль. Она не может сыпаться, если нет никого на темном чердаке и никто не ходит и не ищет чего-то. А она сыплется, и паутина, черная от копоти, дрожит и извивается. К маленьким окнам его жадно присасывается молчаливая и обманчивая тьма, и — кто знает? — быть может, оттуда с зловещим спокойствием невидимок глядят тусклые лица и друг другу показывают на нег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мотрите! Смотрите! Смотрите на нег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гда человек один, его пугают даже люди, которых он давно знает. Вот они пришли, и человек был рад им; он весело смеялся и спокойно глядел на углы, в которых кто-то прятался, на потолок, по которому кто-то ходил, — теперь никого уже нет, и доски не гнутся, и не сыплется больше тонкая пыль. Но люди говорят слишком много и слишком громко. Они кричат, как будто он глухой, и в крике теряются слова и их смысл; они кричат так обильно и громко, что крик их становится тишиной, и слова их делаются молчанием. И слишком много смотрят они. У них знакомые лица, но глаза их чужие и странные и живут отдельно от лица и его улыбки. Как будто в глазные щели старых, приглядевшихся лиц смотрит кто-то новый, чужой, все понимающий и страшно хитры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человек, которому предстояла крупная кража, а быть может, убийство, вышел из старого покосившегося дома. Вышел и облегченно вздохну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о и улица — безмолвная и молчаливая улица окраин, где строгий и чистый снег полей борется с шумным городом и властно вторгается в него немыми и белыми потоками — пугает человека, когда он один. Уже ночь, но тьмы нет, чтобы скрыть человека. Она сбирается где-то далеко, впереди и сзади и в темных домах с закрытыми ставнями, и прячет всех других людей, — а перед ним она отступает, и все время он идет в светлом кругу, такой обособленный и всем видимый, как будто поднят он высоко на широкой и белой ладони. И в каждом доме, мимо которого движется его сгорбленная фигура, есть двери, и все они смотрят так сторожко и напряженно, как будто за каждой из них стоит готовый выскочить человек. А за заборами, за длинными заборами, расстилается невидимое пространство: там сады и огороды, и там никто не может быть в эту холодную зимнюю ночь, — но если бы кто-нибудь притаился с той стороны и в темную щель глядел бы на него чужими и хитрыми глазами, он не мог бы догадаться о его присутствии. И от этого он перебрался на средину улицы и шел по ней, обособленный и всем видимый, а отовсюду провожали его глазами сады, заборы и до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ак вышел человек на замерзшую реку. Дома, полные людей, остались за пределами светлого круга, и только поле и только небо холодными светлыми очами глядели друг на друга. Но было неподвижно поле, а все небо быстро бежало куда-то, и мутный, побелевший месяц стремительно падал в пустоту бездонного пространства. И ни дыхания, ни шороха, ни тревожной тени на снегу — хорошо и просторно стало кругом. Человек расправил плечи, широко и злобно взглянул на оставленную улицу и остановил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окурим! — сказал он громко и хрипло, и спичка слегка осветила широкую черную бород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тут же выпала из вздрогнувшей руки, так как на слова его пришел ответ — странный и неожиданный ответ среди этого мертвого простора и ночи. Нельзя было понять: голос это или стон, далеко он или близко, угрожает он или зовет на помощь. Что-то прозвучало и замерл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олго ждал напуганный человек, но звук не повторялся. И, еще подождав, он еще спроси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то ту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так неожидан и изумительно-прост был ответ, что человек рассмеялся и бессмысленно выругался: то щенок визжал — самый обыкновенный и, должно быть, очень еще маленький щенок. Это видно было по его голосу — слабенькому, жалобному и полному той странной уверенности, что его должны услышать и пожалеть, какая звучит всегда в плаче очень маленьких и ничего не понимающих детей. Маленький щенок среди снежного простора ночи. Маленький, простой щенок, когда все было так необыкновенно и жутко, и весь мир тысячью открытых очей следил за человеком. И человек вернулся на тихий з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утоптанном снегу дальней тропинки, беспомощно откинув задние лапки и опираясь на передние, сидел черненький щенок и весь дрожал. Дрожали лапки, на которые он опирался, дрожал маленький черный носик, и закругленный кончик хвоста отбивал по снегу ласково-жалобную дробь. Он давно замерзал, заблудившись в беспредельной пустыне, многих уверенно звал он на помощь, но они оглядывались и проходили мимо. А теперь над ним остановился челове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А ведь это, кажется, наш щенок!» — подумал человек, приглядываяс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н смутно помнил что-то крошечное, черное, вертлявое; оно громко стучало лапками, путалось под ногами и тоже визжало. И люди занимались им, делали с ним что-то смешное и ласковое, и кто-то однажды сказал ем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огляди, какой Тютька потешны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н не помнит, поглядел он или нет; быть может, никто и не говорил ему этих слов; быть может, и щенка никакого у них в доме не было, а это воспоминание пришло откуда-то издалека, из той неопределенной глубины прошлого, где много солнца, красивых и странных звуков, и где все путает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й! Тютька! — позвал он. — Ты зачем попал сюда, собачий сы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Щенок не повернул головки и не завизжал: он глядел куда-то в сторону и весь безнадежно и терпеливо дрожал. Самый обыкновенный и дрянной был этот щенок, а человек так постыдно испугался его и сам чуть-чуть не задрожал. А ему еще предстоит крупная кража и, может быть, убийств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ошел! — крикнул человек грозно. — Пошел домой, дрян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Щенок как будто не слыхал; он глядел в сторону и дрожал все той же настойчивой и мучительной дрожью, на которую холодно было смотреть. И человек серьезно рассердил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ошел! Тебе говорят! — закричал он. — Пошел домой, дрянь, поганыш, собачий сын, а то я тебе голову размозжу. По-о-ше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Щенок глядел в сторону и как будто не слыхал этих страшных слов, которых испугался бы всякий, или не придавал им никакого значения. И то, что он так равнодушно и невнимательно принимал сердитые и страшные слова, наполнило человека чувством злобы и злобу его сделало бессильн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у, и подыхай тут, собака! — сказал он и решительно пошел впере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тогда щенок завизжал — жалобно, как погибающий, и уверенно, что его должны услышать, как ребено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Ага, завизжал! — с злобной радостью сказал человек и так же быстро пошел назад, и когда подошел — щенок сидел молча и дрожа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Ты пойдешь или нет? — спросил человек и не получил ответ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вторично спросил то же и вторично не получил ответа. И тогда началась странная и нелепая борьба большого и сильного человека с замерзающим животным. Человек прогонял его домой, сердился, кричал, топал огромными ногами, а щенок глядел в сторону, покорно дрожал от холода и страха и не двигался с места. Человек притворно пошел назад к дому и ласково чмокал губами, чтобы щенок побежал за ним, но тот сидел и дрожал, а когда человек отошел далеко, стал настойчиво и жалобно визжать. Вернувшись, человек ударил его ногой: щенок перевернулся, испуганно взвизгнул и опять сел, опираясь на лапки, и задрожал. Что-то непонятное, раздражающее и безвыходное вставало перед человеком. Он забыл о товарище, который ждал его, и обо всем том далеком, что будет сегодня ночью, — и всей раздраженной мыслью отдавался глупому щенку. Не мог он помириться с тем, как щенок не понимает слов, не понимает необходимости скорей бежать к дом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 яростью человек поднял его за кожу на затылке и так отнес на десять шагов ближе к дому. Там он осторожно положил его на снег и приказа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ошел! Пошел дом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не оглядываясь, зашагал к городу. Через сотню шагов он в раздумье остановился и поглядел назад. Ничего не было ни видно, ни слышно — широко и просторно было на замерзшей речной глади. И осторожно, подкрадываясь, человек вернулся к тому месту, где оставил щенка, — и с отчаянием выругался длинным и печальным ругательством: на том же месте, где его поставили, ни на пядь ближе или дальше, сидел щенок и покорно дрожал. Человек наклонился к нему ближе и увидел маленькие круглые глазки, подернутые слезами, и мокрый жалкий носик. И все это покорно и безнадежно дрожал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а пойдешь ты? Убью на месте! — закричал он и замахнулся кулак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обрав в глаза всю силу своей злобы и раздражения, свирепо округлив их, он секунду пристально глядел на щенка и рычал, чтобы напугать. И щенок глядел в сторону своими заплаканными глазками и дрожа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у, что мне с тобой делать? Что? — с горечью спросил челове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сидя на корточках, он бранил его и жаловался, что не знает, как быть; говорил о товарище, о деле, которое предстоит им сегодня ночью, и грозил щенку скорой и страшной смертью.</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щенок глядел в сторону и молча дрожа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А, дурак, пробковая голова! — с отчаянием крикнул человек; как что-то противное, убийственно ненавидимое, подхватил маленькое тельце, дал ему два сильных шлепка и понес к дом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диким хохотом разразились, встречая его, дома, заборы и сады. Глухо и темно гоготали застывшие сады и огороды, сметливо и коварно хихикали освещенные окна и всем холодом своих промерзших бревен, всем таинственным и грозным нутром своим, сурово смеялись молчаливые и темные до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мотрите! Смотрите! Вот идет человек, которому предстоит убийство, и несет щенка. Смотрите! Смотрите на нег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совестно и страшно стало человеку. Дымным облаком окутывали его злоба и страх, и что-то новое, странное, чего никогда еще не испытывал он в своей отверженной и мучительной жизни вора: какое-то удивительное бессилие, какая-то внутренняя слабость, когда крепки мышцы и злобой сводится сильная рука, а сердце мягко и бессильно. Он ненавидел щенка — и осторожно нес его злобными руками, так бережно и осторожно, как будто была это великая драгоценность, дарованная ему прихотливой судьбой. И сурово оправдывался о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Что же я с ним поделаю, если он не идет. Ведь нельзя же, на самом дел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А безмолвный хохот все рос и сонмом озлобленных лиц окружал человека, которому нынче предстояло убийство и который нес паршивого черненького щенка. Теперь не одни дома и сады смеялись над ним, смеялись и все люди, каких он знал в жизни, смеялись все кражи и насилия, какие он совершал, все тюрьмы, побои и издевательства, какие претерпело его старое, жилистое тел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мотрите! Смотрите! Ему красть, а он несет щенка! Ему нынче красть, а он опоздает с паршивым маленьким щенком. Ха-ха-ха! Ха-ха-ха! Старый дурак! Смотрите! Смотрите на нег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все быстрее он шел. Подавшись вперед всем туловищем, наклонив голову, как бык, готовый бодаться, он точно пробивался сквозь невидимые ряды невидимых врагов и, как знамя, нес перед собой таинственные и могущественные сло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а ведь нельзя же на самом деле! Нельз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все тише, все глуше становился потаенный смех невидимых врагов, и реже стали их тесные ряды. Быть может, оттого случилось это, что пушистым снегом рассыпались тучи и белым колеблющимся мостом соединили небо с землей. И медленнее пошел успокоенный человек, а в злобных руках его оживал полузамерзший черненький щенок. Куда-то далеко, в самую глубину маленького тела, загнал мороз нежную теплоту жизни — и теперь она выходила оттуда пробуждающаяся, яркая, странно-прекрасная в своей непостижимой тайне — такая же прекрасная, как зарождение света и огня среди глубокой тьмы и ненасть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3E058-50B5-4EAB-8D7A-5E6D0BF58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F6B31-FC57-4D83-B44F-223D2A265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71643-2F4C-4D52-A855-06530DB85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B3F40-C6BE-46D9-938F-A56DD39EC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27953-CC3C-4F26-867A-ED5578D25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665C4-B112-48D7-9EEA-F7E682CF3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35CF7-265B-4B46-9DCC-21287317D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8950A-3DA8-4A20-B3A3-7A3D2E0A5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C7377-A9D8-4EB0-8AC8-F7DAF5299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B9E32-58DA-4447-9EF3-CC86E87C7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6A9EB-720A-4094-80BC-BE3E39D50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9424C-0852-439C-84B6-81DB43D39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6B1D-9FC2-4C83-ADB0-5671C27FE4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Анализ </a:t>
            </a:r>
            <a:br>
              <a:rPr sz="4400"/>
            </a:br>
            <a:r>
              <a:rPr b="1" lang="en-US" sz="4400" spc="-1" strike="noStrike">
                <a:solidFill>
                  <a:srgbClr val="663300"/>
                </a:solidFill>
                <a:latin typeface="Arial"/>
              </a:rPr>
              <a:t>художественного текста</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Тема 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 </a:t>
            </a:r>
            <a:r>
              <a:rPr b="1" lang="en-US" sz="3200" spc="-1" strike="noStrike">
                <a:solidFill>
                  <a:srgbClr val="663300"/>
                </a:solidFill>
                <a:latin typeface="Arial"/>
              </a:rPr>
              <a:t>Сюжет художественного произведения</a:t>
            </a:r>
            <a:endParaRPr b="0" lang="en-US" sz="3200" spc="-1" strike="noStrike">
              <a:solidFill>
                <a:srgbClr val="000000"/>
              </a:solidFill>
              <a:latin typeface="Arial"/>
            </a:endParaRPr>
          </a:p>
        </p:txBody>
      </p:sp>
      <p:pic>
        <p:nvPicPr>
          <p:cNvPr id="51" name="" descr=""/>
          <p:cNvPicPr/>
          <p:nvPr/>
        </p:nvPicPr>
        <p:blipFill>
          <a:blip r:embed="rId2"/>
          <a:stretch/>
        </p:blipFill>
        <p:spPr>
          <a:xfrm>
            <a:off x="4067280" y="5589720"/>
            <a:ext cx="1152360" cy="115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547640" y="333360"/>
            <a:ext cx="7345440" cy="70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А.С.Пушкин  о сюжете:</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В мои осенние досуг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В те дни, как любо мне писа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Вы мне советуете, друг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Рассказ забытый продолжа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Что странно, даже неучтиво</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Роман не конча перерва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Отдав его уже в печа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Что должно своего героя</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Как бы то ни было жени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По крайней мере умори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И лица прочие пристроя,</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Отдавим дружеский поклон,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3300"/>
                </a:solidFill>
                <a:latin typeface="Arial"/>
              </a:rPr>
              <a:t>Из лабиринта вывесть вон.</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В.Г.Белинский:</a:t>
            </a:r>
            <a:r>
              <a:rPr b="0" lang="ru-RU" sz="2000" spc="-1" strike="noStrike">
                <a:solidFill>
                  <a:srgbClr val="663300"/>
                </a:solidFill>
                <a:latin typeface="Arial"/>
              </a:rPr>
              <a:t> </a:t>
            </a:r>
            <a:r>
              <a:rPr b="0" i="1" lang="ru-RU" sz="2000" spc="-1" strike="noStrike">
                <a:solidFill>
                  <a:srgbClr val="663300"/>
                </a:solidFill>
                <a:latin typeface="Arial"/>
              </a:rPr>
              <a:t>«Мы думаем, что есть романы, мысль    которых в том и заключается, что в них нет конца, потому что в самой действительности бывают события без развяз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Вопросы и задания</a:t>
            </a:r>
            <a:endParaRPr b="0" lang="en-US" sz="3600" spc="-1" strike="noStrike">
              <a:solidFill>
                <a:srgbClr val="000000"/>
              </a:solidFill>
              <a:latin typeface="Arial"/>
            </a:endParaRPr>
          </a:p>
        </p:txBody>
      </p:sp>
      <p:sp>
        <p:nvSpPr>
          <p:cNvPr id="80" name="PlaceHolder 2"/>
          <p:cNvSpPr>
            <a:spLocks noGrp="1"/>
          </p:cNvSpPr>
          <p:nvPr>
            <p:ph/>
          </p:nvPr>
        </p:nvSpPr>
        <p:spPr>
          <a:xfrm>
            <a:off x="900000" y="1125000"/>
            <a:ext cx="806616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Проанализируйте особенности лирического сюжета стихотворения А.Фет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Ещё одно забывчивое слово,</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Ещё один случайный полувздох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И тосковать я сердцем стану снов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И буду я опять у этих ног.</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Душа дрожит, готова вспыхнуть чищ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Хотя давно угас весенний день</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И при луне на жизненном кладбищ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3300"/>
                </a:solidFill>
                <a:latin typeface="Arial"/>
              </a:rPr>
              <a:t>Страшна и ночь, и собственная тен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395280" y="765000"/>
            <a:ext cx="8229600" cy="1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Проанализируйте особенности  сюжета рассказа </a:t>
            </a:r>
            <a:br>
              <a:rPr sz="2800"/>
            </a:br>
            <a:r>
              <a:rPr b="1" lang="en-US" sz="2800" spc="-1" strike="noStrike">
                <a:solidFill>
                  <a:srgbClr val="663300"/>
                </a:solidFill>
                <a:latin typeface="Arial"/>
              </a:rPr>
              <a:t>Л.Андреева «Что видела галка»</a:t>
            </a:r>
            <a:endParaRPr b="0" lang="en-US" sz="2800" spc="-1" strike="noStrike">
              <a:solidFill>
                <a:srgbClr val="000000"/>
              </a:solidFill>
              <a:latin typeface="Arial"/>
            </a:endParaRPr>
          </a:p>
        </p:txBody>
      </p:sp>
      <p:sp>
        <p:nvSpPr>
          <p:cNvPr id="83" name="PlaceHolder 2"/>
          <p:cNvSpPr>
            <a:spLocks noGrp="1"/>
          </p:cNvSpPr>
          <p:nvPr>
            <p:ph/>
          </p:nvPr>
        </p:nvSpPr>
        <p:spPr>
          <a:xfrm>
            <a:off x="899640" y="1600200"/>
            <a:ext cx="77756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С какой целью автор преломляет сюжет через восприятие галки?</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ую задачу ставит писатель очеловечивая галку?</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 в сюжете заостряется тема жестокости мира?</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ова функция  подробной экспозиции?</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ой образ из 2 абзаца тесно связан с образами 2  разбойников?</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Завязка происходит, когда галку разбудило «ощущение человеческой близости». С какой целью дальше сюжет разворачивается с недомолвками?</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Докажите, что в рассказе 2 кульминации.</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очему выбор заглавия и подзаголовка можно считать удачным?</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Напишите эссе « Извечная борьба в людях человеческого начала со зверины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Домашнее задание</a:t>
            </a:r>
            <a:endParaRPr b="0" lang="en-US" sz="3600" spc="-1" strike="noStrike">
              <a:solidFill>
                <a:srgbClr val="000000"/>
              </a:solidFill>
              <a:latin typeface="Arial"/>
            </a:endParaRPr>
          </a:p>
        </p:txBody>
      </p:sp>
      <p:sp>
        <p:nvSpPr>
          <p:cNvPr id="86" name="PlaceHolder 2"/>
          <p:cNvSpPr>
            <a:spLocks noGrp="1"/>
          </p:cNvSpPr>
          <p:nvPr>
            <p:ph/>
          </p:nvPr>
        </p:nvSpPr>
        <p:spPr>
          <a:xfrm>
            <a:off x="755280" y="907560"/>
            <a:ext cx="7775640" cy="5473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Проанализируйте особенности  сюжета рассказа </a:t>
            </a:r>
            <a:br>
              <a:rPr sz="2000"/>
            </a:br>
            <a:r>
              <a:rPr b="1" lang="en-US" sz="2000" spc="-1" strike="noStrike">
                <a:solidFill>
                  <a:srgbClr val="663300"/>
                </a:solidFill>
                <a:latin typeface="Arial"/>
              </a:rPr>
              <a:t>Л.Андреева «Предстояла кража»:</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Где завершается экспозиция и начинается завязка действия?</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 объяснить противоречие: герою тягостно одиночество, но приход в его дом знакомых мучителен?</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очему предыстория лишь намечена в сюжете рассказа? Что известно о прошлом его?</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Найдите кульминационные точки рассказа.</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очему нет имени, а есть только «человек»?</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очему для героя так важно припомнить кличку щенка?</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 объяснить грубость к щенку?</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очему встреча со щенком изменила ход событий?</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В рассказе неоднократно говорится, что зов о помощи щенка будет услышан. Что за этим скрывается?</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ой эпизод является развязкой и как он связан с экспозицией?</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В чем философский смысл финального абзаца?</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Сюжет- порядок и способ </a:t>
            </a:r>
            <a:br>
              <a:rPr sz="3200"/>
            </a:br>
            <a:r>
              <a:rPr b="1" lang="en-US" sz="3200" spc="-1" strike="noStrike">
                <a:solidFill>
                  <a:srgbClr val="663300"/>
                </a:solidFill>
                <a:latin typeface="Arial"/>
              </a:rPr>
              <a:t>сообщения событий автором</a:t>
            </a:r>
            <a:r>
              <a:rPr b="1" lang="en-US" sz="3600" spc="-1" strike="noStrike">
                <a:solidFill>
                  <a:srgbClr val="663300"/>
                </a:solidFill>
                <a:latin typeface="Arial"/>
              </a:rPr>
              <a:t> </a:t>
            </a:r>
            <a:endParaRPr b="0" lang="en-US" sz="3600" spc="-1" strike="noStrike">
              <a:solidFill>
                <a:srgbClr val="000000"/>
              </a:solidFill>
              <a:latin typeface="Arial"/>
            </a:endParaRPr>
          </a:p>
        </p:txBody>
      </p:sp>
      <p:sp>
        <p:nvSpPr>
          <p:cNvPr id="54" name="PlaceHolder 2"/>
          <p:cNvSpPr>
            <a:spLocks noGrp="1"/>
          </p:cNvSpPr>
          <p:nvPr>
            <p:ph/>
          </p:nvPr>
        </p:nvSpPr>
        <p:spPr>
          <a:xfrm>
            <a:off x="971640" y="1600200"/>
            <a:ext cx="7488000" cy="4781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Сюжет- важнейшее средство воплощения содержания.</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3300"/>
                </a:solidFill>
                <a:uFillTx/>
                <a:latin typeface="Arial"/>
              </a:rPr>
              <a:t>Задачи:</a:t>
            </a:r>
            <a:endParaRPr b="0" lang="en-US" sz="2000" spc="-1" strike="noStrike">
              <a:solidFill>
                <a:srgbClr val="000000"/>
              </a:solidFill>
              <a:latin typeface="Arial"/>
            </a:endParaRPr>
          </a:p>
          <a:p>
            <a:pPr marL="343080" indent="-343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Выявление характера героя;</a:t>
            </a:r>
            <a:endParaRPr b="0" lang="en-US" sz="2000" spc="-1" strike="noStrike">
              <a:solidFill>
                <a:srgbClr val="000000"/>
              </a:solidFill>
              <a:latin typeface="Arial"/>
            </a:endParaRPr>
          </a:p>
          <a:p>
            <a:pPr marL="343080" indent="-343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Скрепление изображенных событий;</a:t>
            </a:r>
            <a:endParaRPr b="0" lang="en-US" sz="2000" spc="-1" strike="noStrike">
              <a:solidFill>
                <a:srgbClr val="000000"/>
              </a:solidFill>
              <a:latin typeface="Arial"/>
            </a:endParaRPr>
          </a:p>
          <a:p>
            <a:pPr marL="343080" indent="-343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Удержание внимания читателя…</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Сюжеты складываются из действий:</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проявление эмоций, мыслей, намерений человека в поступках, движениях, словах. Мимике, жестах.</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2 типа действия:</a:t>
            </a:r>
            <a:endParaRPr b="0" lang="en-US" sz="2000" spc="-1" strike="noStrike">
              <a:solidFill>
                <a:srgbClr val="000000"/>
              </a:solidFill>
              <a:latin typeface="Arial"/>
            </a:endParaRPr>
          </a:p>
          <a:p>
            <a:pPr marL="343080" indent="-343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внешнее (изменение судьбы героя, отношений между персонажами),</a:t>
            </a:r>
            <a:endParaRPr b="0" lang="en-US" sz="2000" spc="-1" strike="noStrike">
              <a:solidFill>
                <a:srgbClr val="000000"/>
              </a:solidFill>
              <a:latin typeface="Arial"/>
            </a:endParaRPr>
          </a:p>
          <a:p>
            <a:pPr marL="343080" indent="-343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внутреннее ( динамика жизни души).</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Фабула- события в </a:t>
            </a:r>
            <a:br>
              <a:rPr sz="2800"/>
            </a:br>
            <a:r>
              <a:rPr b="1" lang="en-US" sz="2800" spc="-1" strike="noStrike">
                <a:solidFill>
                  <a:srgbClr val="663300"/>
                </a:solidFill>
                <a:latin typeface="Arial"/>
              </a:rPr>
              <a:t>их хронологической последовательности</a:t>
            </a:r>
            <a:endParaRPr b="0" lang="en-US" sz="2800" spc="-1" strike="noStrike">
              <a:solidFill>
                <a:srgbClr val="000000"/>
              </a:solidFill>
              <a:latin typeface="Arial"/>
            </a:endParaRPr>
          </a:p>
        </p:txBody>
      </p:sp>
      <p:sp>
        <p:nvSpPr>
          <p:cNvPr id="57" name="PlaceHolder 2"/>
          <p:cNvSpPr>
            <a:spLocks noGrp="1"/>
          </p:cNvSpPr>
          <p:nvPr>
            <p:ph/>
          </p:nvPr>
        </p:nvSpPr>
        <p:spPr>
          <a:xfrm>
            <a:off x="755640" y="1600200"/>
            <a:ext cx="7848720" cy="4525920"/>
          </a:xfrm>
          <a:prstGeom prst="rect">
            <a:avLst/>
          </a:prstGeom>
          <a:noFill/>
          <a:ln w="0">
            <a:noFill/>
          </a:ln>
        </p:spPr>
        <p:txBody>
          <a:bodyPr lIns="90000" rIns="90000" tIns="46800" bIns="46800" anchor="t">
            <a:normAutofit/>
          </a:bodyPr>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Фабула и сюжет могут совпадать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А.С. Пушкин «Капитанская дочк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Фабула и сюжет могут не совпадать по замыслу автор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А.С.Пушкин «Евгений Онегин»,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М.Ю.Лермонтов «Герой нашего времен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При анализе произведения нужно сравнивать сюжет и фабулу, чтобы понять замысел авто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События сюжета проходят </a:t>
            </a:r>
            <a:br>
              <a:rPr sz="2800"/>
            </a:br>
            <a:r>
              <a:rPr b="1" lang="en-US" sz="2800" spc="-1" strike="noStrike">
                <a:solidFill>
                  <a:srgbClr val="663300"/>
                </a:solidFill>
                <a:latin typeface="Arial"/>
              </a:rPr>
              <a:t>основные стадии действия:</a:t>
            </a:r>
            <a:endParaRPr b="0" lang="en-US" sz="2800" spc="-1" strike="noStrike">
              <a:solidFill>
                <a:srgbClr val="000000"/>
              </a:solidFill>
              <a:latin typeface="Arial"/>
            </a:endParaRPr>
          </a:p>
        </p:txBody>
      </p:sp>
      <p:sp>
        <p:nvSpPr>
          <p:cNvPr id="60" name="PlaceHolder 2"/>
          <p:cNvSpPr>
            <a:spLocks noGrp="1"/>
          </p:cNvSpPr>
          <p:nvPr>
            <p:ph/>
          </p:nvPr>
        </p:nvSpPr>
        <p:spPr>
          <a:xfrm>
            <a:off x="684360" y="1628640"/>
            <a:ext cx="8075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пролог  </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предыстория</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экспозиция</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завязка</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ульминация</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развязка</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лирические отступления</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эпилог</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послеслов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68360" y="6919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Экспозиция</a:t>
            </a:r>
            <a:endParaRPr b="0" lang="en-US" sz="3200" spc="-1" strike="noStrike">
              <a:solidFill>
                <a:srgbClr val="000000"/>
              </a:solidFill>
              <a:latin typeface="Arial"/>
            </a:endParaRPr>
          </a:p>
        </p:txBody>
      </p:sp>
      <p:sp>
        <p:nvSpPr>
          <p:cNvPr id="63" name="PlaceHolder 2"/>
          <p:cNvSpPr>
            <a:spLocks noGrp="1"/>
          </p:cNvSpPr>
          <p:nvPr>
            <p:ph/>
          </p:nvPr>
        </p:nvSpPr>
        <p:spPr>
          <a:xfrm>
            <a:off x="900000" y="2060280"/>
            <a:ext cx="7920000" cy="5329080"/>
          </a:xfrm>
          <a:prstGeom prst="rect">
            <a:avLst/>
          </a:prstGeom>
          <a:noFill/>
          <a:ln w="0">
            <a:noFill/>
          </a:ln>
        </p:spPr>
        <p:txBody>
          <a:bodyPr lIns="90000" rIns="90000" tIns="46800" bIns="46800" anchor="t">
            <a:normAutofit/>
          </a:bodyPr>
          <a:p>
            <a:pPr marL="609480" indent="-6094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Знакомит с фоном действия, с обстоятельствами героев до начала основных действий.</a:t>
            </a:r>
            <a:endParaRPr b="0" lang="en-US" sz="2800" spc="-1" strike="noStrike">
              <a:solidFill>
                <a:srgbClr val="000000"/>
              </a:solidFill>
              <a:latin typeface="Arial"/>
            </a:endParaRPr>
          </a:p>
          <a:p>
            <a:pPr marL="609480" indent="-6094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По размеру невелика, но может занимать и значительную часть ( «Обломов» - занимает четверть текс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Завязка</a:t>
            </a:r>
            <a:endParaRPr b="0" lang="en-US" sz="3600" spc="-1" strike="noStrike">
              <a:solidFill>
                <a:srgbClr val="000000"/>
              </a:solidFill>
              <a:latin typeface="Arial"/>
            </a:endParaRPr>
          </a:p>
        </p:txBody>
      </p:sp>
      <p:sp>
        <p:nvSpPr>
          <p:cNvPr id="66" name="PlaceHolder 2"/>
          <p:cNvSpPr>
            <a:spLocks noGrp="1"/>
          </p:cNvSpPr>
          <p:nvPr>
            <p:ph/>
          </p:nvPr>
        </p:nvSpPr>
        <p:spPr>
          <a:xfrm>
            <a:off x="971640" y="1628640"/>
            <a:ext cx="7416720" cy="4525920"/>
          </a:xfrm>
          <a:prstGeom prst="rect">
            <a:avLst/>
          </a:prstGeom>
          <a:noFill/>
          <a:ln w="0">
            <a:noFill/>
          </a:ln>
        </p:spPr>
        <p:txBody>
          <a:bodyPr lIns="90000" rIns="90000" tIns="46800" bIns="46800"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Событие, знаменующее начало развития действия, возникновение конфликта или его обострение.</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Обычно дается в начале произведения, но может быть и в другом месте («Мертвые души» - в 11 глав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Кульминация</a:t>
            </a:r>
            <a:endParaRPr b="0" lang="en-US" sz="3600" spc="-1" strike="noStrike">
              <a:solidFill>
                <a:srgbClr val="000000"/>
              </a:solidFill>
              <a:latin typeface="Arial"/>
            </a:endParaRPr>
          </a:p>
        </p:txBody>
      </p:sp>
      <p:sp>
        <p:nvSpPr>
          <p:cNvPr id="69" name="PlaceHolder 2"/>
          <p:cNvSpPr>
            <a:spLocks noGrp="1"/>
          </p:cNvSpPr>
          <p:nvPr>
            <p:ph/>
          </p:nvPr>
        </p:nvSpPr>
        <p:spPr>
          <a:xfrm>
            <a:off x="899640" y="1600200"/>
            <a:ext cx="77756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Момент наивысшего напряжения действия, после которого сюжет стремиться к развязке.</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ульминаций может быть несколько («Евгений Онегин»: отповедь Онегина Татьяне, дуэль Онегина с Ленским, финальная встреча Татьяны с Онегиным).</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ульминацию не следует путать с </a:t>
            </a:r>
            <a:r>
              <a:rPr b="1" i="1" lang="en-US" sz="2800" spc="-1" strike="noStrike">
                <a:solidFill>
                  <a:srgbClr val="663300"/>
                </a:solidFill>
                <a:latin typeface="Arial"/>
              </a:rPr>
              <a:t>перипетиями </a:t>
            </a:r>
            <a:r>
              <a:rPr b="0" lang="en-US" sz="2800" spc="-1" strike="noStrike">
                <a:solidFill>
                  <a:srgbClr val="663300"/>
                </a:solidFill>
                <a:latin typeface="Arial"/>
              </a:rPr>
              <a:t>( внезапными поворотами событ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Виды сюжетов</a:t>
            </a:r>
            <a:endParaRPr b="0" lang="en-US" sz="3600" spc="-1" strike="noStrike">
              <a:solidFill>
                <a:srgbClr val="000000"/>
              </a:solidFill>
              <a:latin typeface="Arial"/>
            </a:endParaRPr>
          </a:p>
        </p:txBody>
      </p:sp>
      <p:sp>
        <p:nvSpPr>
          <p:cNvPr id="72" name="PlaceHolder 2"/>
          <p:cNvSpPr>
            <a:spLocks noGrp="1"/>
          </p:cNvSpPr>
          <p:nvPr>
            <p:ph/>
          </p:nvPr>
        </p:nvSpPr>
        <p:spPr>
          <a:xfrm>
            <a:off x="899640" y="1600200"/>
            <a:ext cx="7775640" cy="4525920"/>
          </a:xfrm>
          <a:prstGeom prst="rect">
            <a:avLst/>
          </a:prstGeom>
          <a:noFill/>
          <a:ln w="0">
            <a:noFill/>
          </a:ln>
        </p:spPr>
        <p:txBody>
          <a:bodyPr lIns="90000" rIns="90000" tIns="46800" bIns="46800"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Хроникальный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Б произошло после А)</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романы Ф.М.Достоевског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онцентрически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 Б произошло вследствие 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А.Н.Радищев «Путешествие из Петербурга в Москв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Источники сюжета</a:t>
            </a:r>
            <a:endParaRPr b="0" lang="en-US" sz="3600" spc="-1" strike="noStrike">
              <a:solidFill>
                <a:srgbClr val="000000"/>
              </a:solidFill>
              <a:latin typeface="Arial"/>
            </a:endParaRPr>
          </a:p>
        </p:txBody>
      </p:sp>
      <p:sp>
        <p:nvSpPr>
          <p:cNvPr id="75" name="PlaceHolder 2"/>
          <p:cNvSpPr>
            <a:spLocks noGrp="1"/>
          </p:cNvSpPr>
          <p:nvPr>
            <p:ph/>
          </p:nvPr>
        </p:nvSpPr>
        <p:spPr>
          <a:xfrm>
            <a:off x="899640" y="1600200"/>
            <a:ext cx="7775640" cy="4525920"/>
          </a:xfrm>
          <a:prstGeom prst="rect">
            <a:avLst/>
          </a:prstGeom>
          <a:noFill/>
          <a:ln w="0">
            <a:noFill/>
          </a:ln>
        </p:spPr>
        <p:txBody>
          <a:bodyPr lIns="90000" rIns="90000" tIns="46800" bIns="46800" anchor="t">
            <a:normAutofit/>
          </a:bodyPr>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Библия («Студент» А.П.Чехова)</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Мифы, предания, легенды («Кому на Руси жить хорошо» Н.А.Некрасова)</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Известный сюжет («Леди Макбет Мценского уезда» Н.С.Лескова)</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Исторические факты («Тарас Бульба» Н.В.Гоголя, «Капитанская дочка» А.С.Пушкина)</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Реальные факты («Преступление и наказание» Ф.М.Достоевского)</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Биографический материал ( «Детство» Л.Н.Толсто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3:47:36Z</dcterms:created>
  <dc:creator>Катрин</dc:creator>
  <dc:description/>
  <dc:language>en-US</dc:language>
  <cp:lastModifiedBy>Катрин</cp:lastModifiedBy>
  <dcterms:modified xsi:type="dcterms:W3CDTF">2010-06-15T16:45:15Z</dcterms:modified>
  <cp:revision>6</cp:revision>
  <dc:subject/>
  <dc:title>Анализ  художественного текста</dc:title>
</cp:coreProperties>
</file>