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72179-5768-4CFE-BE88-C1923295AA0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м люди жив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ы знаем, что мы перешли из смерти и жизнь, потому что любим братьев: не любящий брата пребывает в смер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I посл. Иоан. III, 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 кто имеет достаток в мире, но, видя брата своего в нужде, затворяет от него сердце свое: как пребывает в том любовь бож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III, 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ти мои! станем любить не словом или языком, но делом и истино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III, 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юбовь от бога, и всякий любящий рожден от бога и знает бог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IV,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то не любит, тот не познал бога, потому что бог есть любов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IV, 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га никто никогда не видел. Если мы любим друг друга, то бог в нас пребывае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IV, 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г есть любовь, и пребывающий в любви пребывает в боге, и бог в не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IV, 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то говорит: я люблю бога, а брата своего ненавидит, тот лжец, ибо не любящий брата своего, которого видит, как может любить бога, которого не види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IV, 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Жил сапожник с женой и детьми у мужика на квартире. Ни дома своего, ни земли у него не было, и кормился он с семьею сапожной работой. Хлеб был дорогой, а работа дешевая, и что заработает, то и проест. Была у сапожника одна шуба с женой, да и та износилась в лохмотья; и второй год собирался сапожник купить овчин на новую шуб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 осени собрались у сапожника деньжонки: три рубля бумажка лежала у бабы в сундуке, а еще пять рублей двадцать копеек было за мужиками в сел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собрался с утра сапожник в село за шубой. Надел нанковую бабью куртушку на вате на рубаху, сверху кафтан суконный, взял бумажку трехрублевую в карман, выломал палку и пошел после завтрака. Думал: «Получу пять рублей с мужиков, приложу своих три, – куплю овчин на шуб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шел сапожник в село, зашел к одному мужику – дома нет, обещала баба на неделе прислать мужа с деньгами, а денег не дала; зашел к другому, – забожился мужик, что нет денег, только двадцать копеек отдал за починку сапог. Думал сапожник в долг взять овчины, – в долг не поверил овчинни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Денежки, – говорит, – принеси, тогда выбирай любые, а то знаем мы, как долги выбира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 и не сделал сапожник никакого дела, только получил двадцать копеек за починку да взял у мужика старые валенки кожей обши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тужил сапожник, выпил на все двадцать копеек водки и пошел домой без шубы. С утра сапожнику морозно показалось, а выпивши – тепло было и без шубы. Идет сапожник дорогой, одной рукой палочкой по мерзлым калмыжкам постукивает, а другой рукой сапогами валеными помахивает, сам с собой разговаривае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Я, – говорит, – и без шубы тёпел. Выпил шкалик; оно во всех жилках играет. И тулупа не надо. Иду, забывши горе. Вот какой я человек! Мне что? Я без шубы проживу. Мне ее век не надо. Одно – баба заскучает. Да и обидно – ты на него работай, а он тебя водит. Постой же ты теперь: не принесешь денежки, я с тебя шапку сниму, ей-богу, сниму. А то что же это? По двугривенному отдает! Ну что на двугривенный сделаешь? Выпить – одно. Говорит: нужда. Тебе нужда, а мне не нужда? У тебя и дом, и скотина, и все, а я весь тут; у тебя свой хлеб, а я на покупном, – откуда хочешь, а три рубля в неделю на один хлеб подай. Приду домой – а хлеб дошел; опять полтора рубля выложь. Так ты мне мое отда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ходит так сапожник к часовне у повертка, глядит – за самой за часовней что-то белеется. Стало уж смеркаться. Приглядывается сапожник, а не может рассмотреть, что такое. «Камня, думает, здесь такого не было. Скотина? На скотину не похоже. С головы похоже на человека, да бело что-то. Да и человеку зачем тут бы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ошел ближе – совсем видно стало. Что за чудо: точно, человек, живой ли, мертвый, голышом сидит, прислонен к часовне и не шевелится. Страшно стало сапожнику; думает себе: «Убили какие-нибудь человека, раздели, да и бросили тут. Подойди только, и не разделаешься пото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пошел сапожник мимо. Зашел за часовню – не видать стало человека. Прошел часовню, оглянулся, видит – человек отслонился от часовни, шевелится, как будто приглядывается. Еще больше заробел сапожник, думает себе: «Подойти или мимо пройти? Подойти – как бы худо не было: кто его знает, какой он? Не за добрые дела попал сюда. Подойдешь, а он вскочит да задушит, и не уйдешь от него. А не задушит, так поди вожжайся с ним. Что с ним, с голым, делать? Не с себя же снять, последнее отдать. Пронеси только бо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прибавил сапожник шагу. Стал уж проходить часовню, да зазрила его совес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остановился сапожник на дорог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Ты что же это, – говорит на себя, – Семен, делаешь? Человек в беде помирает, а ты заробел, мимо идешь. Али дюже разбогател? боишься, ограбят богатство твое? Ай, Сема, неладн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рнулся Семен и пошел к человек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I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ходит Семен к человеку, разглядывает его и видит: человек молодой, в силе, не видать на теле побоев, только видно – измерз человек и напуган; сидит, прислонясь, и не глядит на Семена, будто ослаб, глаз поднять не может. Подошел Семен вплоть, и вдруг как будто очнулся человек, повернул голову, открыл глаза и взглянул на Семена. И с этого взгляда полюбился человек Семену. Бросил он наземь валенки, распоясался, положил подпояску на валенки, скинул кафта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Будет, – говорит, – толковать-то! Одевай, что ли! Ну-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зял Семен человека под локоть, стал поднимать. Поднялся человек. И видит Семен – тело тонкое, чистое, руки, ноги не ломаные и лицо умильное. Накинул ему Семен кафтан на плечи, – не попадет в рукава. Заправил ему Семен руки, натянул, запахнул кафтан и подтянул подпояско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нял было Семен картуз рваный, хотел на голого надеть, да холодно голове стало, думает: «У меня лысина во всю голову, а у него виски курчавые, длинные». Надел опять. «Лучше сапоги ему обу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адил его и сапоги валеные обул ем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дел его сапожник и говори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Так-то, брат. Ну-ка, разминайся да согревайся. А эти дела все без нас разберут. Идти можеш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оит человек, умильно глядит на Семена, а выговорить ничего не може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Что же не говоришь? Не зимовать же тут. Надо к жилью. Ну-ка, на вот дубинку мою, обопрись, коли ослаб. Раскачивайся-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пошел человек. И пошел легко, не отстае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дут они дорогой, и говорит Семе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Чей, значит, будеш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Я не здешн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Здешних-то я знаю. Попал-то, значит, как сюда, под часовн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ельзя мне сказа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Должно, люди обидел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икто меня не обидел. Меня бог наказа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Известно, все бог, да все же куда-нибудь прибиваться надо. Куда надо-то теб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Мне все одн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ивился Семен. Не похож на озорника и на речах мягок, а не сказывает про себя. И думает Семен: «Мало ли какие дела бывают», – и говорит человек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Что ж, так пойдем ко мне в дом, хоть отойдешь мало-мальс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дет Семен, не отстает от него странник, рядом идет. Поднялся ветер, прохватывает Семена под рубаху, и стал с него сходить хмель, и прозябать стал. Идет он, носом посапывает, запахивает на себе куртушку бабью и думает: «Вот-те и шуба, пошел за шубой, а без кафтана приду да еще голого с собой приведу. Не похвалит Матрена!» И как подумает об Матрене, скучно станет Семену. А как поглядит на странника, вспомнит, как он взглянул на него за часовней, так взыграет в нем сердц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II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бралась Семена жена рано. Дров нарубила, воды принесла, ребят накормила, сама закусила и задумалась; задумалась, когда хлебы ставить: нынче или завтра? Краюшка большая осталас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сли, думает, Семен там пообедает да много за ужином не съест, на завтра хватит хлеб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ртела, повертела Матрена краюху, думает: «Не стану нынче хлебов ставить. Муки и то всего на одни хлебы осталось. Еще до пятницы протяне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брала Матрена хлеб и села у стола заплату на мужнину рубаху нашить. Шьет и думает Матрена про мужа, как он будет овчины на шубу покупа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 обманул бы его овчинник. А то прост уж очень мой-то. Сам никого не обманет, а его малое дитя проведет. Восемь рублей деньги не малые. Можно хорошую шубу собрать. Хоть не дубленая, а все шуба. Прошлую зиму как бились без шубы! Ни на речку выйти, ни куда. А то вот пошел со двора, все на себя падел, мне и одеть нечего. Не рано пошел. Пора бы ему. Уж не загулял ли соколик-то мо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олько подумала Матрена, заскрипели ступеньки на крыльце, кто-то вошел. Воткнула Матрена иголку, вышла в сени. Видит – вошли двое: Семен и с ним мужик какой-то без шапки и в валенка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разу почуяла Матрена дух винный от мужа. «Ну, думает, так и есть загулял». Да как увидела, что он без кафтана, в куртушке в одной и не несет ничего, а молчит, ужимается, оборвалось у Матрены сердце. «Пропил, думает, деньги, загулял с каким-нибудь непутевым, да и его еще с собой приве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пустила их Матрена в избу, сама вошла, видит – человек чужой, молодой, худощавый, кафтан на нем ихний. Рубахи не видать под кафтаном, шапки нет. Как вошел, так стал, не шевелится и глаз не поднимает. И думает Матрена: недобрый человек – боитс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супилась Матрена, отошла к печи, глядит, что от них буде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нял Семен шапку, сел на лавку, как добр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Что ж, – говорит, – Матрена, собери ужинать, что л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бурчала что-то себе под нос Матрена. Как стала у печи, не шевельнется: то на одного, то на другого посмотрит и только головой покачивает. Видит Семен, что баба не в себе, да делать нечего: как будто не примечает, берет за руку странни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адись, – говорит, – брат, ужинать стане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ел странник на лавк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Что же, али не вари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зяло зло Матрен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арила, да не про тебя. Ты и ум, я вижу, пропил. Пошел за шубой, а без кафтана пришел, да еще какого-то бродягу голого с собой привел. Нет у меня про вас, пьяниц, ужи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Будет, Матрена, что без толку-то языком стрекотать! Ты спроси прежде, какой челове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Ты сказывай, куда деньги дева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ез Семен в кафтан, вынул бумажку, разверну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Деньги – вот они, а Трифонов не отдал, завтра посудилс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ще пуще взяло зло Матрену: шубы не купил, а последний кафтан на какого-то голого надел да к себе приве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хватила со стола бумажку, понесла прятать, сама говори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ет у меня ужина. Всех пьяниц голых не накормиш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Эх, Матрена, подержи язык-то. Прежде послушай, что говоря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аслушаешься ума от пьяного дурака. Недаром не хотела за тебя, пьяницу, замуж идти. Матушка мне холсты отдала – ты пропил; пошел шубу купить – пропи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очет Семен растолковать жене, что пропил он только двадцать копеек, хочет сказать, где он человека нашел, – не дает ему Матрена слова вставить: откуда что берется, по два слова вдруг говорит. Что десять лет тому назад было, и то все помяну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оворила, говорила Матрена, подскочила к Семену, схватила его за рука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Давай поддевку-то мою. А то одна осталась, и ту с меня снял да на себя напер. Давай сюда, конопатый пес, пострел тебя расшиб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л снимать с себя Семен куцавейку, рукав вывернул, дернула баба – затрещала в швах куцавейка. Схватила Матрена поддевку, на голову накинула и взялась за дверь. Хотела уйти, да остановилась: и сердце в ней расходилось – хочется ей зло сорвать и узнать хочется, какой-такой челове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IV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тановилась Матрена и говори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Кабы добрый человек, так голый бы не был, а то на нем и рубахи-то нет. Кабы за добрыми делами пошел, ты бы сказал, откуда привел щеголя таког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Да я сказываю тебе: иду, у часовни сидит этот раздемши, застыл совсем. Не лето ведь, нагишом-то. Нанес меня на него бог, а то бы пропасть. Ну, как быть? Мало ли какие дела бывают! Взял, одел и привел сюда. Утиши ты свое сердце. Грех, Матрена. Помирать буде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отела Матрена изругаться, да поглядела на странника и замолчала. Сидит странник – не шевельнется, как сел на краю лавки. Руки сложены на коленях, голова на грудь опущена, глаз не раскрывает и все морщится, как будто душит его что. Замолчала Матрена. Семен и говори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Матрена, али в тебе бога не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лыхала это слово Матрена, взглянула еще на странника, и вдруг сошло в ней сердце. Отошла она от двери, подошла к печному углу, достала ужинать. Поставила чашку на стол, налила квасу, выложила краюшку последнюю. Подала нож и лож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Хлебайте, что ль, – говори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винул Семен странни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ролезай, – говорит, – молоде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резал Семен хлеба, накрошил, и стали ужинать. А Матрена села об угол стола, подперлась рукой и глядит на странни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жалко стало Матрене странника, и полюбила она его. И вдруг повеселел странник, перестал морщиться, поднял глаза на Матрену и улыбнулс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ужинали; убрала баба и стала спрашивать странни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Да ты чей будеш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е здешний 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Да как же ты на дорогу-то попа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ельзя мне сказа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Кто ж тебя обобра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Меня бог наказа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Так голый и лежа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Так и лежал нагой, замерзал. Увидал меня Семен, пожалел, снял с себя кафтан, на меня надел и велел сюда прийти. А здесь ты меня накормила, напоила, пожалела. Спасет вас господ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стала Матрена, взяла с окна рубаху старую Семенову, ту самую, что платила, подала страннику; нашла еще портки, пода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а вот, я вижу, у тебя и рубахи-то нет. Оденься да ложись где полюбится – на хоры али на печ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нял странник кафтан, одел рубаху и портки и лег на хоры. Потушила Матрена свет, взяла кафтан и полезла к муж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крылась Матрена концом кафтана, лежит и не спит, все странник ей с мыслей не иде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вспомнит, что он последнюю краюшку доел и на завтра нет хлеба, как вспомнит, что рубаху и портки отдала, так скучно ей станет; а вспомнит, как он улыбнулся, и взыграет в ней сердц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лго не спала Матрена и слышит – Семен тоже не спит, кафтан на себя тащи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еме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Хлеб-то последний поели, а я не ставила. На завтра, не знаю, как быть. Нечто у кумы Маланьи попрош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Живы будем, сыты буде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ежала баба, помолча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А человек, видно, хороший, только что ж он не сказывает про себ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Должно, нельз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ё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Мы-то даем, да что ж нам никто не дае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 знал Семен, что сказать. Говорит: «Будет толковать-то». Повернулся и засну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V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утро проснулся Семен. Дети спят, жена пошла к соседям хлеба занимать. Один вчерашний странник в старых портках и рубахе на лавке сидит, вверх смотрит. И лицо у него против вчерашнего светле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говорит Семе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Чего ж, милая голова: брюхо хлеба просит, а голое тело одежи. Кормиться надо. Что работать умееш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Я ничего не уме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ивился Семен и говори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Была бы охота. Всему люди учатс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Люди работают, и я работать буд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Тебя как зва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Михаи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у, Михайла, сказывать про себя не хочешь – твое дело, а кормиться надо. Работать будешь, что прикажу, – кормить буд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паси тебя господь, а я учиться буду. Покажи, что дела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зял Семен пряжу, надел на пальцы и стал делать коне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Дело не хитрое, гляд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мотрел Михаила, надел также на пальцы, тотчас перенял, сделал коне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казал ему Семен, как наваривать. Также сразу понял Михайла. Показал хозяин и как всучить щетинку и как тачать, и тоже сразу понял Михай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ую ни покажет ему работу Семен, все сразу поймет, и с третьего дня стал работать, как будто век шил. Работает без разгиба, ест мало; перемежится работа – молчит и все вверх глядит. На улицу не ходит, не говорит лишнего, не шутит, не смеетс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олько и видели раз, как он улыбнулся в первый вечер, когда ему баба ужинать собра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V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нь ко дню, неделя к неделе, вскружился и год. Живет Михайла по-прежнему у Семена, работает. И прошла про Семенова работника слава, что никто так чисто и крепко сапог не сошьет, как Семенов работник Михайла, и стали из округи к Семену за сапогами ездить, и стал у Семена достаток прибавлятьс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идят раз по зиме Семен с Михайлой, работают, подъезжает к избе тройкой с колокольцами возок. Поглядели в окно: остановился возок против избы, соскочил молодец с облучка, отворил дверцу. Вылезает из возка в шубе барин. Вышел из возка, пошел к Семенову дому, вошел на крыльцо. Выскочила Матрена, распахнула дверь настежь. Нагнулся барин, вошел в избу, выпрямился, чуть головой до потолка не достал, весь угол захвати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стал Семен, поклонился и дивуется на барина. И не видывал он людей таких. Сам Семен поджарый и Михайла худощавый, а Матрена и вовсе как щепка сухая, а этот – как с другого света человек: морда красная, налитая, шея как у быка, весь как из чугуна выли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дулся барин, снял шубу, сел на лавку и говори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Кто хозяин сапожни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шел Семен, говори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Я, ваше степенств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икнул барин на своего малог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Эй, Федька, подай сюда това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бежал малый, внес узелок. Взял барин узел, положил на сто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Развяжи, – говори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вязал малый. Ткнул барин пальцем товар сапожный и говорит Семен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у, слушай же ты, сапожник. Видишь това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ижу, – говорит, – ваше благород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Да ты понимаешь ли, какой это това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щупал Семен товар, говори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Товар хорош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То-то хороший! Ты, дурак, еще не видал товару такого. Товар немецкий, двадцать рублей плаче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робел Семен, говори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Где же нам вида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у, то-то. Можешь ты из этого товара на мою ногу сапоги сши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Можно, ваше степенств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кричал на него бари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То-то «можно». Ты понимай, ты на кого шьешь, из какого товару. Такие сапоги мне сшей, чтобы год носились, не кривились, не поролись. Можешь – берись, режь товар, а не можешь – и не берись и не режь товару. Я тебе наперед говорю: распорются, скривятся сапоги раньше году, я тебя в острог засажу; не скривятся, не распорются до году, я за работу десять рублей отда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робел Семен и не знает, что сказать. Оглянулся на Михайлу. Толканул его локтем и шепче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Брать, что л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ивнул головой Михаила: «Бери, мол, работ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лушался Семен Михаилу, взялся такие сапоги сшить, чтобы год не кривились, не поролис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икнул барин малого, велел снять сапог с левой ноги, вытянул ног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нимай мерк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шил Семен бумажку в десять вершков, загладил, стал на коленки, руку об фартук обтер хорошенько, чтобы барский чулок не попачкать, и стал мерить. Обмерил Семен подошву, обмерил в подъеме; стал икру мерить, не сошлась бумажка. Ножища в икре как бревно толста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мотри, в голенище не обуз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л Семен еще бумажку нашивать. Сидит барин, пошевеливает перстами в чулке, народ в избе оглядывает. Увидал Михайл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Это кто ж, – говорит, – у теб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А это самый мой мастер, он и шить буде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мотри же, – говорит барин на Михайлу, – помни, так сшей, чтобы год проносилис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глянулся и Семен на Михайлу; видит – Михайла на барина и не глядит, а уставился в угол за барином, точно вглядывается в кого. Глядел, глядел Михаила и вдруг улыбнулся и просветлел вес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Ты что, дурак, зубы скалишь? Ты лучше смотри, чтобы к сроку готовы был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говорит Михай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Как раз поспеют, когда над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То-т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дел барин сапог, шубу, запахнулся и пошел к двери. Да забыл нагнуться, стукнулся в притолоку головой. Разругался барин, потер себе голову, сел в возок и уеха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ъехал барин, Семен и говори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у уж кремняст. Этого долбней не убьешь. Косяк головой высадил, а ему горя мал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 Матрена говори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 житья такого как им гладким не быть. Этакого заклепа и смерть не возьме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VI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говорит Семен Михайл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зять-то взяли работу, да как бы нам беды не нажить. Товар дорогой, а барин сердитый. Как бы не ошибиться. Ну-ка ты, у тебя и глаза повострее, да и в руках-то больше моего сноровки стало, на-ка мерку. Крои товар, а я головки дошивать буд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 ослушался Михайла, вяял товар барский, разостлал на столе, сложил вдвое, взял нож и начал крои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ошла Матрена, глядит, как Михайла кроит, и дивится, что такое Михайла делает. Привыкла уж и Матрена к сапожному делу, глядит и видит, что Михайла не по-сапожному товар кроит, а на круглые вырезае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отела сказать Матрена, да думает себе: «Должно, не поняла я, как сапоги барину шить; должно, Михайла лучше знает, не стану мешатьс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кроил Михаила пару, взял конец и стал сшивать не по-сапожному, в два конца, а одним концом, как босовики шью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ивилась и на это Матрена, да тоже мешаться не стала. А Михайла все шьет. Стали полудновать, поднялся Семен, смотрит – у Михайлы из барского товару босовики сши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хнул Семен. «Как это, думает, Михайла год целый жил, не ошибался ни в чем, а теперь беду такую наделал? Барин сапоги вытяжные на ранту заказывал, а он босовики сшил без подошвы, товар испортил. Как я теперь разделаюсь с барином? Товару такого не найдеш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говорит он Михайл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Ты что же это, – говорит, – милая голова, наделал? Зарезал ты меня! Ведь барин сапоги заказывал, а ты что сши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олько начал он выговаривать Михайле – грох в кольцо у двери, стучится кто-то. Глянули в окно: верхом кто-то приехал, лошадь привязывает. Отперли: входит тот самый малый от бари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Здоров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Здорово. Чего над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Да вот барыня прислала об сапога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Что об сапога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Да что об сапогах! сапог не нужно барину. Приказал долго жить бари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Что 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т вас до дома не доехал, в возке и помер. Подъехала повозка к дому, вышли высаживать, а он как куль завалился, уж и закоченел, мертвый лежит, насилу из возка выпростали. Барыня и прислала, говорит: «Скажи ты сапожнику, что был, мол, у вас барин, сапоги заказывал и товар оставил, так скажи: сапог не нужно, а чтобы босовики на мертвого поскорее из товару сшил. Да дождись, пока сошьют, и с собой босовики привези». Вот и приеха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зял Михайла со стола обрезки товара, свернул трубкой, взял и босовики готовые, щелкнул друг об друга, обтер фартуком и подал малому. Взял малый босови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рощайте, хозяева! Час добр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VII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шел и еще год, и два, и живет Михайла уже шестой год у Семена. Живет по-прежнему. Никуда не ходит, лишнего не говорит и во все время только два раза улыбнулся: один раз, когда баба ему ужинать собрала, другой раз на барина. Не нарадуется Семен на своего работника. И не спрашивает его больше, откуда он; только одного боится, чтоб не ушел от него Михай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идят раз дома. Хозяйка в печь чугуны ставит, а ребята по лавкам бегают, в окна глядят. Семен тачает у одного окна, а Михайла у другого каблук набивае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бежал мальчик по лавке к Михайле, оперся ему на плечо и глядит в окн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Дядя Михайла, глянь-ка, купчиха с девочками, никак, к нам идет. А девочка одна хрома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олько сказал это мальчик, Михайла бросил работу, повернулся к окну, глядит на улиц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удивился Семен. То никогда не глядит на улицу Михайла, а теперь припал к окну, глядит на что-то. Поглядел и Семен в окно; видит – вправду идет женщина к его двору, одета чисто, ведет за ручки двух девочек в шубках, в платочках в ковровых. Девочки одна в одну, разузнать нельзя. Только у одной левая ножка попорчена – идет, припадае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зошла женщина на крыльцо, в сени, ощупала дверь, потянула за скобу – отворила. Пропустила вперед себя двух девочек и вошла в изб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Здорово, хозяе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росим милости. Что над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ела женщина к столу. Прижались ей девочки в колени, людей чудятс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Да вот девочкам на весну кожаные башмачки сши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Что же, можно. Не шивали мы маленьких таких, да все можно. Можно рантовые, можно выворотные на холсте. Вот Михайла у меня масте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глянулся Семен на Михайлу и видит: Михайла работу бросил, сидит, глаз не сводит с девоче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подивился Семен на Михайлу. Правда, хороши, думает, девочки: черноглазенькие, пухленькие, румяненькие, и шубки и платочки на них хорошие, а все не поймет Семен, что он так приглядывается на них, точно знакомые они ем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ивился Семен и стал с женщиной толковать – рядиться. Порядился, сложил мерку. Подняла себе женщина на колени хроменькую и говори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от с этой две мерки сними; на кривенькую ножку один башмачок сшей, а на пряменькую три. У них ножки одинакие, одна в одну. Двойни он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нял Семен мерку и говорит на хроменьку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 чего же это с ней сталось? Девочка такая хорошая. Сроду, что л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ет, мать задави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ступилась Матрена, хочется ей узнать, чья такая женщина и чьи дети, и говори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А ты разве им не мать будеш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Я не мать им и не родня, хозяюшка, чужие вовсе – приемыш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е свои дети, а как жалеешь и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Как мне их не жалеть, я их обеих своею грудью выкормила. Свое было детище, да бог прибрал, его так не жалела, как их жале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Да чьи же он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I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говорилась женщина и стала рассказывать. – Годов шесть, – говорит, – тому дело было, в одну неделю обмерли сиротки эти: отца во вторник похоронили, а мать в пятницу померла. Остались обморушки эти от отца трех деньков, а мать и дня не прожила. Я в эту пору с мужем в крестьянстве жила. Соседи были, двор об двор жили. Отец их мужик одинокий был, в роще работал. Да уронили дерево как-то на него, его поперек прихватило, все нутро выдавило. Только довезли, он и отдал богу душу, а баба его в ту же неделю и роди двойню, вот этих девочек. Бедность, одиночество, одна баба была, – ни старухи, ни девчонки. Одна родила, одна и помер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шла я наутро проведать соседку, прихожу в избу, а она, сердечная, уж и застыла. Да как помирала, завалилась на девочку. Вот эту задавила – ножку вывернула. Собрался народ – обмыли, спрятали, гроб сделали, похоронили. Всё добрые люди. Остались девчонки одни. Куда их деть? А я из баб одна с ребенком была. Первенького мальчика восьмую неделю кормила. Взяла я их до времени к себе. Собрались мужики, думали, думали, куда их деть, и говорят мне: «Ты, Марья, подержи покамест девчонок у себя, а мы, дай срок, их обдумаем». А я разок покормила грудью пряменькую, а эту раздавленную и кормить не стала: не чаяла ей живой быть. Да думаю себе, за что ангельская душка млеет? Жалко стало и ту. Стала кормить, да так-то одного своего да этих двух – троих грудью и выкормила! Молода была, сила была, да и пища хорошая. И молока столько бог дал в грудях было, что зальются, бывало. Двоих кормлю, бывало, а третья ждет. Отвалится одна, третью возьму. Да так-то бог привел, что этих выкормила, а своего по второму годочку схоронила. И больше бог и детей не дал. А достаток прибавляться стал. Вот теперь живем здесь на мельнице у купца. Жалованье большое, жизнь хорошая. А детей нет. И как бы мне жить одной, кабы не девчонки эти! Как же мне их не любить! Только у меня и воску в свечке, что он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жала к себе женщина одною рукой девочку хроменькую, а другою рукой стала со щек слезы стира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вздохнула Матрена и говори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идно, пословица не мимо молвится: без отца, матери проживут, а без бога не проживу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говорили они так промеж себя, поднялась женщина идти; проводили ее хозяева, оглянулись на Михайлу. А он сидит, сложивши руки на коленках, глядит вверх, улыбаетс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ошел к нему Семен: что, говорит, ты, Михайла! Встал Михайла с лавки, положил работу, снял фартук, поклонился хозяину с хозяйкой и говори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ростите, хозяева. Меня бог простил. Простите и в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видят хозяева, что от Михайлы свет идет. И встал Семен, поклонился Михайле и сказал ем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ижу я, Михайла, что ты не простой человек, и не могу я тебя держать, и не могу я тебя спрашивать. Скажи мне только одно: отчего, когда я нашел тебя и привел в дом, ты был пасмурен, и когда баба подала тебе ужинать, ты улыбнулся на нее и с тех пор стал светлее? Потом, когда барин заказывал сапоги, ты улыбнулся в другой раз и с тех пор стал еще светлее? И теперь, когда женщина приводила девочек, ты улыбнулся в третий раз и весь просветлел. Скажи мне, Михайла, отчего такой свет от тебя и отчего ты улыбнулся три раз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сказал Михай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ттого свет от меня, что я был наказан, а теперь бог простил меня. А улыбнулся я три раза оттого, что мне надо было узнать три слова божии. И я узнал слова божьи; одно слово я узнал, когда твоя жена пожалела меня, и оттого я в первый раз улыбнулся. Другое слово я узнал, когда богач заказывал сапоги, и я в другой раз улыбнулся; и теперь, когда я увидал девочек, я узнал последнее, третье слово, и я улыбнулся в третий ра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сказал Семе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кажи мне, Михайла, за что бог наказал тебя и какие те слова бога, чтобы мне зна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сказал Михай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аказал меня бог за то, что я ослушался его. Я был ангел на небе и ослушался бога. Был я ангел на небе, и послал меня господь вынуть из женщины душу. Слетел я на землю, вижу: лежит одна жена – больна, родила двойню, двух девочек. Копошатся девочки подле матери, и не может их мать к грудям взять. Увидала меня жена, поняла, что бог меня по душу послал, заплакала и говорит: «Ангел божий! мужа моего только схоронили, деревом в лесу убило. Нет у меня ни сестры, ни тетки, ни бабки, некому моих сирот взрастить. Не бери ты мою душеньку, дай мне самой детей вспоить, вскормить, на ноги поставить! Нельзя детям без отца, без матери прожить!» И послушал я матери, приложил одну девочку к груди, подал другую матери в руки и поднялся к господу на небо. Прилетел к господу и говорю: «Не мог я из родильницы души вынуть. Отца деревом убило, мать родила двойню и молит не брать из нее души, говорит: „Дай мне детей вспоить, вскормить, на ноги поставить. Нельзя детям без отца, без матери прожить“. Не вынул я из родильницы душу». И сказал господь: «Поди вынь из родильницы душу и узнаешь три слова: узнаешь, что есть в людях, и чего не дано людям, и чем люди живы. Когда узнаешь, вернешься на небо». Полетел я назад на землю и вынул из родильницы душ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пали младенцы от грудей. Завалилось на кровати мертвое тело, придавило одну девочку, вывернуло ей ножку. Поднялся я над селом, хотел отнести душу богу, подхватил меня ветер, повисли у меня крылья, отвалились, и пошла душа одна к богу, а я упал у дороги на земл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X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поняли Семен с Матреной, кого они одели и накормили и кто жил с ними, и заплакали они от страха и радо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сказал анге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стался я один в поле и нагой. Не знал я прежде нужды людской, не знал ни холода, ни голода, и стал человеком. Проголодался, измерз и не знал, что делать. Увидал я – в поле часовня для бога сделана, подошел к божьей часовне, хотел в ней укрыться. Часовня заперта была замком, и войти нельзя было. И сел я за часовней, чтобы укрыться от ветра. Пришел вечер, проголодался я и застыл и изболел весь. Вдруг слышу: идет человек по дороге, несет сапоги, сам с собой говорит. И увидал я впервой смертное лицо человеческое после того, как стал человеком, и страшно мне стало это лицо, отвернулся я от него. И слышу я, что говорит сам с собой этот человек о том, как ему свое тело от стужи в зиму прикрыть, как жену и детей прокормить. И подумал: «Я пропадаю от холода и голода, а вот идет человек, только о том и думает, как себя с женой шубой прикрыть и хлебом прокормить. Нельзя ему помочь мне». Увидал меня человек, нахмурился, стал еще страшнее и прошел мимо. И отчаялся я. Вдруг слышу, идет назад человек. Взглянул я и не узнал прежнего человека: то в лице его была смерть, а теперь вдруг стал живой, и в лице его я узнал бога. Подошел он ко мне, одел меня, взял с собой и повел к себе в дом. Пришел я в его дом, вышла нам навстречу женщина и стала говорить. Женщина была еще страшнее человека – мертвый дух шел у нее изо рта, и я не мог продохнуть от смрада смерти. Она хотела выгнать меня на холод, и я знал, что умрет она, если выгонит меня. И вдруг муж ее напомнил ей о боге, и женщина вдруг переменилась. И когда она подала нам ужинать, а сама глядела на меня, я взглянул на нее – в ней уже не было смерти, она была живая, и я и в ней узнал бог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вспомнил я первое слово бога: «Узнаешь, что есть в людях». И я узнал, что есть в людях любовь. И обрадовался я тому, что бог уже начал открывать мне то, что обещал, и улыбнулся в первый раз. Но всего не мог я узнать еще. Не мог я понять, чего не дано людям и чем люди жив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л я жить у вас и прожил год. И приехал человек заказывать сапоги такие, чтобы год носились, не поролись, не кривились. Я взглянул на него и вдруг за плечами его увидал товарища своего, смертного ангела. Никто, кроме меня, не видал этого ангела, но я знал его и знал, что не зайдет еще солнце, как возьмется душа богача. И подумал я: «Припасает себе человек на год, а не знает, что не будет жив до вечера». И вспомнил я другое слово бога: «Узнаешь, чего не дано людя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есть в людях, я уже знал. Теперь я узнал, чего не дано людям. Не дано людям знать, чего им для своего тела нужно. И улыбнулся я в другой раз. Обрадовался я тому, что увидал товарища ангела, и тому, что бог мне другое слово откры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 всего не мог я понять. Не мог еще я понять, чем люди живы. И все жил я и ждал, когда бог откроет мне последнее слово. И на шестом году пришли девочки-двойни с женщиной, и узнал я девочек, и узнал, как остались живы девочки эти. Узнал и подумал: «Просила мать за детей, и поверил я матери, – думал, что без отца, матери нельзя прожить детям, а чужая женщина вскормила, взрастила их». И когда умилилась женщина на чужих детей и заплакала, я в ней увидал живого бога и понял, чем люди живы. И узнал, что бог открыл мне последнее слово и простил меня, и улыбнулся я в третий ра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XI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обнажилось тело ангела, и оделся он весь светом, так что глазу нельзя смотреть на него; и заговорил он громче, как будто не из него, а с неба шел его голос. И сказал анге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Узнал я, что жив всякий человек не заботой о себе, а любовь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 дано было знать матери, чего ее детям для жизни нужно. Не дано было знать богачу, чего ему самому нужно. И не дано знать ни одному человеку – сапоги на живого или босовики ему же на мертвого к вечеру нуж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тался я жив, когда был человеком, не тем, что я сам себя обдумал, а тем, что была любовь в прохожем человеке и в жене его и они пожалели и полюбили меня. Остались живы сироты не тем, что обдумали их, а тем, что была любовь в сердце чужой женщины и она пожалела, полюбила их. И живы все люди не тем, что они сами себя обдумывают, а тем, что есть любовь в людя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нал я прежде, что бог дал жизнь людям и хочет, чтобы они жили; теперь понял я еще и друго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Я понял, что бог не хоте</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ТРИ СМЕРТИ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I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Была осень. По большой дороге скорой рысью ехали два экипажа. В передней карете сидели две женщины. Одна была госпожа, худая и бледная. Другая горничная, глянцовито-румяная и полная. Короткие сухие волоса выбивались из-под полинявшей шляпки, красная рука в прорванной перчатке порывисто поправляла их. Высокая грудь, покрытая ковровым платком, дышала здоровьем, быстрые черные глаза то следили через окно за убегающими полями, то робко взглядывали на госпожу, то беспокойно окидывали углы кареты. Перед носом горничной качалась привешенная к сетке барынина шляпка, на коленях ее лежал щенок, ноги ее поднимались от шкатулок, стоявших на полу, и чуть слышно подбарабанивали по ним под звук тряски рессор и побрякиванья стекол.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Сложив руки на коленях и закрыв глаза, госпожа слабо покачивалась на подушках, заложенных ей за спину, и, слегка наморщившись, внутрено покашливала. На голове ее был белый ночной чепчик и голубая косыночка, завязанная на нежной, бледной шее. Прямой ряд, уходя под чепчик, разделял русые, чрезвычайно плоские напомаженные волосы, и было что-то сухое, мертвенное в белизне кожи этого просторного ряда. Вялая, несколько желтоватая кожа неплотно обтягивала тонкие и красивые очертания лица и краснелась на щеках и скулах. Губы были сухи и неспокойны, редкие ресницы не курчавились, и дорожный суконный капот делал прямые складки на впалой груди. Несмотря на то, что глаза были закрыты, лицо госпожи выражало усталость, раздраженье и привычное страданье.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Лакей, облокотившись на свое кресло, дремал на козлах, почтовый ямщик, покрикивая бойко, гнал крупную потную четверку, изредка оглядываясь на другого ямщика, покрикивавшего сзади в коляске. Параллельные широкие следы шин ровно и шибко стлались по известковой грязи дороги. Небо было серо и холодно, сырая мгла сыпалась на поля и дорогу. В карете было душно и пахло одеколоном и пылью. Больная потянула назад голову и медленно открыла глаза. Большие глаза были блестящи и прекрасного темного цвета.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Опять, - сказала она, нервически отталкивая красивой худощавой рукой конец салопа горничной, чуть-чуть прикасавшийся к ее ноге; и рот ее болезненно изогнулся. Матреша подобрала обеими руками салоп, приподнялась на сильных ногах и села дальше. Свежее лицо ее покрылось ярким румянцем. Прекрасные темные глаза больной жадно следили за движениями горничной. Госпожа уперлась обеими руками о сиденье и также хотела приподняться, чтоб подсесть выше; но силы отказали ей. Рот ее изогнулся, и все лицо ее исказилось выражением бессильной, злой иронии. - Хоть бы ты помогла мне!.. Ах! не нужно! Я сама могу, только не клади за меня свои какие-то мешки, сделай милость!.. Да уж не трогай лучше, коли ты не умеешь! - Госпожа закрыла глаза и, снова быстро подняв веки, взглянула на горничную. Матреша, глядя на нее, кусала нижнюю красную губу. Тяжелый вздох поднялся из груди больной, но вздох, не кончившись, превратился в кашель. Она отвернулась, сморщилась и обеими руками схватилась за грудь. Когда кашель прошел, она снова закрыла глаза и продолжала сидеть неподвижно. Карета и коляска въехали в деревню. Матреша высунула толстую руку из-под платка и перекрестилась.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Что это? - спросила госпожа.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Станция, сударыня.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Что ж ты крестишься, я спрашиваю?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Церковь, сударыня.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Больная повернулась к окну и стала медленно креститься, глядя во все большие глаза на большую деревенскую церковь, которую объезжала карета больной.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Карета и коляска вместе остановились у станции. Из коляски вышли муж больной женщины и доктор и подошли к карете.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Как вы себя чувствуете? - спросил доктор, щупая пульс.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Ну, как ты, мой друг, не устала? - спросил муж по-французски. - Не хочешь ли выйти?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Матреша, подобрав узелки, жалась в угол, чтобы не мешать разговаривать.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Ничего, то же самое, - отвечала больная. - Я не выйду.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Муж, постояв немного, вошел в станционный дом. Матреша, выскочив из кареты, на цыпочках побежала по грязи в ворота.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Коли мне плохо, это не резон, чтобы вам не завтракать, - слегка улыбаясь, сказала больная доктору, который стоял у окна.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Никому им до меня дела нет, - прибавила она про себя, как только доктор, тихим шагом отойдя от нее, рысью взбежал на ступени станции. - Им хорошо, так и все равно. О! Боже мой!"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Ну что, Эдуард Иванович, - сказал муж, встречая доктора и с веселой улыбкой потирая руки, - я велел погребец принести, вы как думаете насчет этого?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Можно, - отвечал доктор.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Ну, что она? - со вздохом спросил муж, понижая голос и поднимая брови.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Я говорил: она не может доехать не только до Италии, - до Москвы дай бог. Особенно по этой дороге.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Так что ж делать? Ах, боже мой! боже мой! - Муж закрыл глаза рукою. Подай сюда, - прибавил он человеку, вносившему погребец.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Оставаться надо было, - пожав плечами, отвечал доктор.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Да скажите, что же я мог сделать? - возразил муж. - Ведь я употребил все, чтобы удержать ее; я говорил и о средствах, и о детях, которых мы должны оставить, и о моих делах, - она ничего слышать не хочет. Она делает планы о жизни за границей, как бы здоровая. А сказать ей о ее положении - ведь это значило бы убить ее.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Да она уже убита, вам надо знать это, Василий Дмитрич. Человек не может жить, когда у него нет легких, и легкие опять вырасти не могут. Грустно, тяжело, но что ж делать? Наше и ваше дело только в том, чтобы конец ее был сколь возможно спокоен. Тут духовник нужен.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Ах, боже мой! да вы поймите мое положение, напоминая ей о последней воле. Пусть будет, что будет, а я не скажу ей этого. Ведь вы знаете, как она добра...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Все-таки попробуйте уговорить ее остаться до зимнего пути, - сказал доктор, значительно покачивая головой, - а то дорогой может быть худо...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Аксюша, а Аксюша! - визжала смотрительская дочь, накинув на голову кацавейку и топчась на грязном заднем крыльце. - Пойдем ширкинскую барыню посмотрим; говорят, от грудной болезни за границу везут. Я никогда еще не видала, какие в чахотке бывают.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Аксюша выскочила на порог, и обе, схватившись за руки, побежали за ворота. Уменьшив шаг, они прошли мимо кареты и заглянули в опущенное окно. Больная повернула к ним голову, но, заметив их любопытство, нахмурилась и отвернулась.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Мм-а-тушки! - сказала смотрительская дочь, быстро оборачивая голову. Какая была красавица чудная, нынче что стало? Страшно даже. Видела, видела, Аксюша?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Да, какая худая! - поддакивала Аксюша. - Пойдем еще посмотрим, будто к колодцу. Вишь, отвернулась, а я еще видела. Как жалко, Маша.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Да и грязь же какая! - отвечала Маша; и обе побежали назад в ворота.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Видно, я страшна стала, - думала больная. - Только бы поскорей, поскорей за границу, там я скоро поправлюсь".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Что, как ты, мой друг? - сказал муж, подходя к карете и прожевывая кусок.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Все один и тот же вопрос, - подумала больная, - а сам ест!"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Ничего, - пропустила она сквозь зубы.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Знаешь ли, мой друг, я боюсь, тебе хуже будет от дороги в эту погоду, и Эдуард Иваныч то же говорит. Не вернуться ли нам?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Она сердито молчала.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Погода поправится, может быть, путь установится, и тебе бы лучше стало; мы бы и поехали все вместе.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Извини меня. Ежели бы я давно тебя не слушала, я бы была теперь в Берлине и была бы совсем здорова.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Что ж делать, мой ангел, невозможно было, ты знаешь. А теперь ежели бы ты осталась на месяц, ты бы славно поправилась; я бы кончил дела, и детей бы мы взяли...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Дети здоровы, а я нет.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Да ведь пойми, мой друг, что с этой погодой, ежели тебе сделается хуже дорогой... тогда по крайней мере дома.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Что ж, что дома?.. Умереть дома? - вспыльчиво отвечала больная. Но слово умереть, видимо, испугало ее, она умоляюще и вопросительно посмотрела на мужа. Он опустил глаза и молчал. Рот больной вдруг детски изогнулся, и слезы полились из ее глаз. Муж закрыл лицо платком и молча отошел от кареты.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Нет, я поеду, - сказала больная, подняла глаза к небу, сложила руки и стала шептать несвязные слова. - Боже мой! за что же? - говорила она, и слезы лились сильнее. Она долго и горячо молилась, но в груди так же было больно и тесно, в небе, в полях и по дороге было так же серо и пасмурно, и та же осенняя мгла, ни чаще, ни реже, а все так же сыпалась на грязь дороги, на крыши, на карету и на тулупы ямщиков, которые, переговариваясь сильными, веселыми голосами, мазали и закладывали карету...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II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Карета была заложена; но ямщик мешкал. Он зашел в ямскую избу. В избе было жарко, душно, темно и тяжело, пахло жильем, печеным хлебом, капустой и овчиной. Несколько человек ямщиков было в горнице, кухарка возилась у печи, на печи в овчинах лежал больной.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Дядя Хведор! а дядя Хведор, - сказал молодой парень, ямщик в тулупе и с кнутом за поясом, входя в комнату и обращаясь к больному.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Ты чаво, шабала, Федьку спрашиваешь? - отозвался один из ямщиков. Вишь, тебя в карету ждут.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Хочу сапог попросить; свои избил, - отвечал парень, вскидывая волосами и оправляя рукавицы за поясом. - Аль спит? А дядя Хведор? - повторил он, подходя к печи.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Чаво? - послышался слабый голос, и рыжее худое лицо нагнулось с печи. Широкая, исхудалая и побледневшая рука, покрытая волосами, натягивала армяк на острое плечо в грязной рубахе. - Дай испить, брат; ты чаво?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Парень подал ковшик с водой.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Да что, Федя, - сказал он, переминаясь, - тебе, чай, сапог новых не надо теперь; отдай мне, ходить, чай, не будешь.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Больной, припав усталой головой к глянцевитому ковшу и макая редкие отвисшие усы в темной воде, слабо и жадно пил. Спутанная борода его была нечиста, впалые, тусклые глаза с трудом поднялись на лицо парня. Отстав от воды, он хотел поднять руку, чтобы отереть мокрые губы, но не мог и отерся о рукав армяка. Молча и тяжело дыша носом, он смотрел прямо в глаза парню, сбираясь с силами.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Може, ты кому пообещал уже, - сказал парень, - так даром. Главное дело, мокреть на дворе, а мне с работой ехать; я и подумал себе: дай у Федьки сапог попрошу, ему, чай, не надо. Може, тебе самому надобны, ты скажи...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В груди больного что-то стало переливаться и бурчать; он перегнулся и стал давиться горловым, неразрешавшимся кашлем.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Уж где надобны, - неожиданно сердито на всю избу затрещала кухарка, второй месяц с печи не слезает. Вишь, надрывается, даже у самой внутренность болит, как слышишь только. Где ему сапоги надобны? В новых сапогах хоронить не станут. А уж давно пора, прости господи согрешенье. Вишь, надрывается. Либо перевесть его, что ль, в избу в другую, или куда. Такие больницы, слышь, в городу есть; а то разве дело - занял весь угол, да и шабаш. Нет тебе простору никакого. А тоже, чистоту спрашивают.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Эй, Серега! иди садись, господа ждут, - крикнул в дверь почтовый староста.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Серега хотел уйти, не дождавшись ответа, но больной глазами, во время кашля, давал ему знать, что хочет ответить.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Ты сапоги возьми, Серега, - сказал он, подавив кашель и отдохнув немного. - Только, слышь, камень купи, как помру, - хрипя прибавил он.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Спасибо, дядя, так я возьму, а камень, ей-ей, куплю.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Вот, ребята, слышали, - мог выговорить еще больной и снова перегнулся вниз и стал давиться.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Ладно, слышали, - сказал один из ямщиков. - Иди, Серега, садись, а то вон опять староста бежит. Барыня, вишь, ширкинская больная.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Серега живо скинул свои прорванные, несоразмерно большие сапоги и швырнул под лавку. Новые сапоги дяди Федора пришлись как раз по ногам, и Серега, поглядывая на них, вышел к карете.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Эк сапоги важные! дай помажу, - сказал ямщик с помазкою в руке, в то время как Серега, влезая на козлы, подбирал вожжи. - Даром отдал?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Аль завидно, - отвечал Серега, приподнимаясь и повертывая около ног полы армяка. - Пущай! Эх вы, любезные! - крикнул он на лошадей, взмахнув кнутиком; и карета и коляска с своими седоками, чемоданами и важами, скрываясь в сером осеннем тумане, шибко покатились по мокрой дороге.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Больной ямщик остался в душной избе на печи и, не выкашлявшись, через силу перевернулся на другой бок и затих.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В избе до вечера приходили, уходили, обедали, - больного было не слышно. Перед ночью кухарка влезла на печь и через его ноги достала тулуп.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Ты на меня не серчай, Настасья, - проговорил больной, - скоро опростаю угол-то твой.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Ладно, ладно, что ж, ничаво, - пробормотала Настасья. - Да что у тебя болит-то, дядя? Ты скажи.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Нутро все изныло. Бог его знает что.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Небось, и глотка болит, как кашляешь?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Везде больно. Смерть моя пришла - вот что. Ох, ох, ох! - простонал больной.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Ты ноги-то укрой вот так, - сказала Настасья, по дороге натягивая на него армяк и слезая с печи.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Ночью в избе слабо светил ночник. Настасья и человек десять ямщиков с громким храпом спали на полу и по лавкам. Один больной слабо кряхтел, кашлял и ворочался на печи. К утру он затих совершенно.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Чудно что-то я нынче во сне видела, - говорила кухарка, в полусвете потягиваясь на другое утро. - Вижу я, будто дядя Хведор с печи слез и пошел дрова рубить. Дай, говорит, Настя, я тебе подсоблю; а я ему говорю: куда уж тебе дрова рубить; а он как схватит топор да и почнет рубить, так шибко, шибко, только щепки летят. Что ж, я говорю, ты ведь болен был. Нет, говорит, я здоров, да как замахнется, на меня страх и нашел. Как я закричу, и проснулась. Уж не помер ли? Дядя Хведор! а дядя!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Федор не откликался.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И то, не помер ли? Пойти посмотреть, - сказал один из проснувшихся ямщиков.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Свисшая с печи худая рука, покрытая рыжеватыми волосами, была холодна и бледна.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Пойти смотрителю сказать, кажись, помер, - сказал ямщик.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Родных у Федора не было - он был дальний. На другой день его похоронили на новом кладбище, за рощей, и Настасья несколько дней рассказывала всем про сон, который она видела, и про то, что она первая хватилась дяди Федора.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III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Пришла весна. По мокрым улицам города, между навозными льдинками, журчали торопливые ручьи; цвета одежд и звуки говора движущегося народа были ярки. В садиках за заборами пухнули почки дерев, и ветви их чуть слышно покачивались от свежего ветра. Везде лились и капали прозрачные капли... Воробьи нескладно подпискивали и подпархивали на своих маленьких крыльях. На солнечной стороне, на заборах, домах и деревьях, все двигалось и блестело. Радостно, молодо было и на небе, и на земле, и в сердце человека.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На одной из главных улиц, перед большим барским домом, была постелена свежая солома; в доме была та самая умирающая больная, которая спешила за границу.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У затворенных дверей комнаты стояли муж больной и пожилая женщина. На диване сидел священник, опустив глаза и держа что-то завернутым в эпитрахили. В углу, в вольтеровском кресле, лежала старушка - мать больной - и горько плакала. Подле нее горничная держала на руке чистый носовой платок, дожидаясь, чтобы старушка спросила его; другая чем-то терла виски старушки и дула ей под чепчик в седую голову.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Ну, Христос с вами, мой друг, - говорил муж пожилой женщине, стоявшей с ним у двери, - она такое имеет доверие к вам, вы так умеете говорить с ней, уговорите ее хорошенько, голубушка, идите же. - Он хотел уже отворить ей дверь; но кузина удержала его, приложила несколько раз платок к глазам и встряхнула головой.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Вот теперь, кажется, я не заплакана, - сказала она и, сама отворив дверь, прошла в нее.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Муж был в сильном волнении и казался совершенно растерян. Он направился было к старушке; но, не дойдя несколько шагов, повернулся, прошел по комнате и подошел к священнику. Священник посмотрел на него, поднял брови к небу и вздохнул. Густая с проседью бородка тоже поднялась кверху и опустилась.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Боже мой! Боже мой! - сказал муж.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Что делать? - вздыхая, сказал священник, и снова брови и бородка его поднялись кверху и опустились.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И матушка тут! - почти с отчаяньем сказал муж. - Она не вынесет этого. Ведь так любить, так любить ее, как она... я не знаю. Хоть бы вы, батюшка, попытались успокоить ее и уговорить уйти отсюда.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Священник встал и подошел к старушке.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Точно-с, материнское сердце никто оценить не может, - сказал он, однако бог милосерд.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Лицо старушки вдруг стало все подергиваться, и с ней сделалась истерическая икота.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Бог милосерд, - продолжал священник, когда она успокоилась немного. - Я вам доложу, в моем приходе был один больной, много хуже Марьи Дмитриевны, и что же, простой мещанин травами вылечил в короткое время. И даже мещанин этот самый теперь в Москве. Я говорил Василью Дмитревичу - можно бы испытать. По крайности утешенье для больной бы было. Для бога все возможно.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Нет, уже ей не жить, - проговорила старушка, - чем бы меня, а ее бог берет. - И истерическая икота усилилась так, что чувства оставили ее.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Муж больной закрыл лицо руками и выбежал из комнаты.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В коридоре первое лицо, встретившее его, был шестилетний мальчик, во весь дух догонявший младшую девочку.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Что ж детей-то, не прикажете к мамаше сводить? - спросила няня.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Нет, она не хочет их видеть. Это расстроит ее.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Мальчик остановился на минуту, пристально всматриваясь в лицо отца, и вдруг подбрыкнул ногой и с веселым криком побежал дальше.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Это она будто бы вороная, папаша! - прокричал мальчик, указывая на сестру.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Между тем в другой комнате кузина сидела подле больной и искусно веденным разговором старалась приготовить ее к мысли о смерти. Доктор у другого окна мешал питье.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Больная, в белом капоте, вся обложенная подушками, сидела на постели и молча смотрела на кузину.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Ах, мой друг, - сказала она, неожиданно перебивая ее, - не приготавливайте меня. Не считайте меня за дитя. Я христианка. Я все знаю. Я знаю, что мне жить недолго, я знаю, что ежели бы муж мой раньше послушал меня, я бы была в Италии и, может быть, - даже наверно, - была бы здорова. Это все ему говорили. Но что ж делать, видно богу было так угодно. На всех нас много грехов, я знаю это; но надеюсь на милость бога; всем простится, должно быть, всем простится. Я стараюсь понять себя. И на мне было много грехов, мой друг. Но зато сколько я выстрадала. Я старалась сносить с терпением свои страданья...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Так позвать батюшку, мой друг? вам будет еще легче, причастившись, сказала кузина.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Больная нагнула голову в знак согласья.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Боже! прости меня грешную, - прошептала она.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Кузина вышла и мигнула батюшке.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Это ангел! - сказала она мужу с слезами на глазах. Муж заплакал, священник прошел в дверь, старушка все еще была без памяти, и в первой комнате стало совершенно тихо. Через пять минут священник вышел из двери и, сняв эпитрахиль, оправил волосы.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Слава богу, оне спокойнее теперь, - сказал он, - желают вас видеть.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Кузина и муж вышли. Больная тихо плакала, глядя на образ.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Поздравляю тебя, мой друг, - сказал муж.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Благодарствуй! Как мне теперь хорошо стало, какую непонятную сладость я испытываю, - говорила больная, и легкая улыбка играла на ее тонких губах. Как бог милостив! Не правда ли, он милостив и всемогущ? - И она снова с жадной мольбой смотрела полными слез глазами на образ.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Потом вдруг как будто что-то вспомнилось ей. Она знаками подозвала к себе мужа.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Ты никогда не хочешь сделать, что я прошу, - сказала она слабым и недовольным голосом.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Муж, вытянув шею, покорно слушал ее.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Что, мой друг?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Сколько раз я говорила, что эти доктора ничего не знают; есть простые лекарки, они вылечивают... Вот батюшка говорил... мещанин... Пошли.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За кем, мой друг?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Боже мой! ничего не хочет понимать!.. - И больная сморщилась и закрыла глаза.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Доктор, подойдя к ней, взял ее за руку. Пульс заметно бился слабее и слабее. Он мигнул мужу. Больная заметила этот жест и испуганно оглянулась. Кузина отвернулась и заплакала.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Не плачь, не мучь себя и меня, - говорила больная, - это отнимает у меня последнее спокойствие.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Ты ангел! - сказала кузина, целуя ее руку.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Нет, сюда поцелуй, только мертвых целуют в руку. Боже мой! Боже мой!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В тот же вечер больная уже была тело, и тело в гробу стояло в зале большого дома. В большой комнате с затворенными дверями сидел один дьячок и в нос, мерным голосом, читал песни Давида. Яркий восковой свет с высоких серебряных подсвечников падал на бледный лоб усопшей, на тяжелые восковые руки и окаменелые складки покрова, страшно поднимающегося на коленах и пальцах ног. Дьячок, не понимая своих слов, мерно читал, и в тихой комнате странно звучали и замирали слова. Изредка из дальней комнаты долетали звуки детских голосов и их топота.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Сокроешь лицо твое - смущаются, - гласил псалтырь, - возьмешь от них дух - умирают и в прах свой возвращаются. Пошлешь дух твой - созидаются и обновляют лицо земли. Да будет господу слава вовеки".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Лицо усопшей было строго, спокойно и величаво. Ни в чистом холодном лбе, ни в твердо сложенных устах ничто не двигалось. Она вся была внимание. Но понимала ли она хоть теперь великие слова эти?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IV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Через месяц над могилой усопшей воздвиглась каменная часовня. Над могилой ямщика все еще не было камня, и только светло-зеленая трава пробивала над бугорком, служившим единственным признаком прошедшего существования человека.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А грех тебе будет, Серега, - говорила раз кухарка на станции, - коли ты Хведору камня не купишь. То говорил: зима, зима, а нынче что ж слова не держишь? Ведь при мне было. Он уж приходил к тебе раз просить: не купишь, еще раз придет, душить станет.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Да что, я разве отрекаюсь, - отвечал Серега, - я камень куплю, как сказал, куплю, в полтора целковых куплю. Я не забыл, да ведь привезть надо. Как случай в город будет, так и куплю.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Ты бы хошь крест поставил, вот что, - отозвался старый ямщик, - а то впрямь дурно. Сапоги-то носишь.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Где его возьмешь крест-то? из полена не вытешешь?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Что говоришь-то? Из полена не вытешешь, возьми топор да в рощу пораньше сходи, вот и вытешешь. Ясенку ли, что ли, срубишь. Вот и голубец будет. А то, поди, еще объездчика пой водкой. За всякой дрянью поить не наготовишься. Вон я намедни вагу сломал, новую вырубил важную, никто слова не сказал.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Ранним утром, чуть зорька, Серега взял топор и пошел в рощу.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На всем лежал холодный матовый покров еще падавшей, не освещенной солнцем росы. Восток незаметно яснел, отражая свой слабый свет на подернутом тонкими тучами своде неба. Ни одна травка внизу, ни один лист на верхней ветви дерева не шевелились. Только изредка слышавшиеся звуки крыльев в чаще дерева или шелеста по земле нарушали тишину леса. Вдруг странный, чуждый природе звук разнесся и замер на опушке леса. Но снова послышался звук и равномерно стал повторяться внизу около ствола одного из неподвижных деревьев. Одна из макуш необычайно затрепетала, сочные листья ее зашептали что-то, и малиновка, сидевшая на одной из ветвей ее, со свистом перепорхнула два раза и, подергивая хвостиком, села на другое дерево.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Топор низом звучал глуше и глуше, сочные белые щепки летели на росистую траву, и легкий треск послышался из-за ударов. Дерево вздрогнуло всем телом, погнулось и быстро выпрямилось, испуганно колебаясь на своем корне. На мгновенье все затихло, но снова погнулось дерево, снова послышался треск в его стволе, и, ломая сучья и спустив ветви, оно рухнулось макушей на сырую землю. Звуки топора и шагов затихли. Малиновка свистнула и вспорхнула выше. Ветка, которую она зацепила своими крыльями, покачалась несколько времени и замерла, как и другие, со всеми своими листьями. Деревья еще радостнее красовались на новом просторе своими неподвижными ветвями.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Первые лучи солнца, пробив сквозившую тучу, блеснули в небе и пробежали по земле и небу. Туман волнами стал переливаться в лощинах, роса, блестя, заиграла на зелени, прозрачные побелевшие тучки спеша разбегались по синевшему своду. Птицы гомозились в чаще и, как потерянные, щебетали что-то счастливое; сочные листья радостно и спокойно шептались в вершинах, и ветви живых дерев медленно, величаво зашевелились над мертвым, поникшим деревом.</a:t>
            </a: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FBD4DF-B8EB-42DE-B1DA-247205F501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224CB8-9D1C-4E14-BC43-62D499446A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94DC97-A688-485C-9706-0C34971AA5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326EE8-57E7-4348-8865-DC781FD519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C146A3-E04B-4C3C-B96B-8A22FD4A38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F3ED4F-0378-4C2A-81AC-9774501DB2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44866B-ABF4-44EE-9748-A31A33F82C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784DFF-9994-4638-8E55-410E27C5C1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D89F1E-242F-4EF7-9BDF-F4C5B575B5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A9B26-2A9A-44E5-9199-E11515ACF4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56255F-2539-46BD-B645-15B3DDC554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FE0CBA-51FD-4C69-8A68-D8B142AD1E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4CE36-907E-49EE-AEBD-1111DBC08A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3300"/>
                </a:solidFill>
                <a:latin typeface="Arial"/>
              </a:rPr>
              <a:t>Анализ </a:t>
            </a:r>
            <a:br>
              <a:rPr sz="4400"/>
            </a:br>
            <a:r>
              <a:rPr b="1" lang="en-US" sz="4400" spc="-1" strike="noStrike">
                <a:solidFill>
                  <a:srgbClr val="663300"/>
                </a:solidFill>
                <a:latin typeface="Arial"/>
              </a:rPr>
              <a:t>художественного текста</a:t>
            </a:r>
            <a:endParaRPr b="0" lang="en-US" sz="4400" spc="-1" strike="noStrike">
              <a:solidFill>
                <a:srgbClr val="000000"/>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Arial"/>
              </a:rPr>
              <a:t>Тема 9</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Arial"/>
              </a:rPr>
              <a:t> </a:t>
            </a:r>
            <a:r>
              <a:rPr b="1" lang="en-US" sz="2800" spc="-1" strike="noStrike">
                <a:solidFill>
                  <a:srgbClr val="663300"/>
                </a:solidFill>
                <a:latin typeface="Arial"/>
              </a:rPr>
              <a:t>Композиция художественного произведения</a:t>
            </a:r>
            <a:endParaRPr b="0" lang="en-US" sz="2800" spc="-1" strike="noStrike">
              <a:solidFill>
                <a:srgbClr val="000000"/>
              </a:solidFill>
              <a:latin typeface="Arial"/>
            </a:endParaRPr>
          </a:p>
        </p:txBody>
      </p:sp>
      <p:pic>
        <p:nvPicPr>
          <p:cNvPr id="51" name="" descr=""/>
          <p:cNvPicPr/>
          <p:nvPr/>
        </p:nvPicPr>
        <p:blipFill>
          <a:blip r:embed="rId2"/>
          <a:stretch/>
        </p:blipFill>
        <p:spPr>
          <a:xfrm>
            <a:off x="3924360" y="5446800"/>
            <a:ext cx="1295280" cy="1295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9144000" cy="6858000"/>
          </a:xfrm>
          <a:prstGeom prst="rect">
            <a:avLst/>
          </a:prstGeom>
          <a:ln w="0">
            <a:noFill/>
          </a:ln>
        </p:spPr>
      </p:pic>
      <p:sp>
        <p:nvSpPr>
          <p:cNvPr id="75" name="PlaceHolder 1"/>
          <p:cNvSpPr>
            <a:spLocks noGrp="1"/>
          </p:cNvSpPr>
          <p:nvPr>
            <p:ph type="title"/>
          </p:nvPr>
        </p:nvSpPr>
        <p:spPr>
          <a:xfrm>
            <a:off x="684360" y="18900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Arial"/>
              </a:rPr>
              <a:t>Домашнее задание</a:t>
            </a:r>
            <a:endParaRPr b="0" lang="en-US" sz="3600" spc="-1" strike="noStrike">
              <a:solidFill>
                <a:srgbClr val="000000"/>
              </a:solidFill>
              <a:latin typeface="Arial"/>
            </a:endParaRPr>
          </a:p>
        </p:txBody>
      </p:sp>
      <p:sp>
        <p:nvSpPr>
          <p:cNvPr id="76" name="PlaceHolder 2"/>
          <p:cNvSpPr>
            <a:spLocks noGrp="1"/>
          </p:cNvSpPr>
          <p:nvPr>
            <p:ph/>
          </p:nvPr>
        </p:nvSpPr>
        <p:spPr>
          <a:xfrm>
            <a:off x="610920" y="981000"/>
            <a:ext cx="8281800" cy="47815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   </a:t>
            </a:r>
            <a:r>
              <a:rPr b="0" lang="en-US" sz="2800" spc="-1" strike="noStrike">
                <a:solidFill>
                  <a:srgbClr val="663300"/>
                </a:solidFill>
                <a:latin typeface="Arial"/>
              </a:rPr>
              <a:t>Прочитайте рассказ Л.Н.Толстого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   </a:t>
            </a:r>
            <a:r>
              <a:rPr b="0" lang="en-US" sz="2800" spc="-1" strike="noStrike">
                <a:solidFill>
                  <a:srgbClr val="663300"/>
                </a:solidFill>
                <a:latin typeface="Arial"/>
              </a:rPr>
              <a:t>«Чем люди живы» и ответьте на вопросы:</a:t>
            </a:r>
            <a:endParaRPr b="0" lang="en-US" sz="2800" spc="-1" strike="noStrike">
              <a:solidFill>
                <a:srgbClr val="000000"/>
              </a:solidFill>
              <a:latin typeface="Arial"/>
            </a:endParaRPr>
          </a:p>
          <a:p>
            <a:pPr marL="343080" indent="-343080">
              <a:lnSpc>
                <a:spcPct val="80000"/>
              </a:lnSpc>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Каким в 1 части представляется мир человеческих отношений?</a:t>
            </a:r>
            <a:endParaRPr b="0" lang="en-US" sz="2800" spc="-1" strike="noStrike">
              <a:solidFill>
                <a:srgbClr val="000000"/>
              </a:solidFill>
              <a:latin typeface="Arial"/>
            </a:endParaRPr>
          </a:p>
          <a:p>
            <a:pPr marL="343080" indent="-343080">
              <a:lnSpc>
                <a:spcPct val="80000"/>
              </a:lnSpc>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Какие законы жизни человеческой души открываются в каждой части?</a:t>
            </a:r>
            <a:endParaRPr b="0" lang="en-US" sz="2800" spc="-1" strike="noStrike">
              <a:solidFill>
                <a:srgbClr val="000000"/>
              </a:solidFill>
              <a:latin typeface="Arial"/>
            </a:endParaRPr>
          </a:p>
          <a:p>
            <a:pPr marL="343080" indent="-343080">
              <a:lnSpc>
                <a:spcPct val="80000"/>
              </a:lnSpc>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На каких повторах строится рассказ?</a:t>
            </a:r>
            <a:endParaRPr b="0" lang="en-US" sz="2800" spc="-1" strike="noStrike">
              <a:solidFill>
                <a:srgbClr val="000000"/>
              </a:solidFill>
              <a:latin typeface="Arial"/>
            </a:endParaRPr>
          </a:p>
          <a:p>
            <a:pPr marL="343080" indent="-343080">
              <a:lnSpc>
                <a:spcPct val="80000"/>
              </a:lnSpc>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Как соотносится образ Матрены с образом женщины, вырастившей девочек?</a:t>
            </a:r>
            <a:endParaRPr b="0" lang="en-US" sz="2800" spc="-1" strike="noStrike">
              <a:solidFill>
                <a:srgbClr val="000000"/>
              </a:solidFill>
              <a:latin typeface="Arial"/>
            </a:endParaRPr>
          </a:p>
          <a:p>
            <a:pPr marL="343080" indent="-343080">
              <a:lnSpc>
                <a:spcPct val="80000"/>
              </a:lnSpc>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Докажите, что грех ангела присущ большей части героев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858000"/>
          </a:xfrm>
          <a:prstGeom prst="rect">
            <a:avLst/>
          </a:prstGeom>
          <a:ln w="0">
            <a:noFill/>
          </a:ln>
        </p:spPr>
      </p:pic>
      <p:sp>
        <p:nvSpPr>
          <p:cNvPr id="53" name="PlaceHolder 1"/>
          <p:cNvSpPr>
            <a:spLocks noGrp="1"/>
          </p:cNvSpPr>
          <p:nvPr>
            <p:ph type="title"/>
          </p:nvPr>
        </p:nvSpPr>
        <p:spPr>
          <a:xfrm>
            <a:off x="68436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Arial"/>
              </a:rPr>
              <a:t>Литература выделяет три уровня художественной формы:</a:t>
            </a:r>
            <a:endParaRPr b="0" lang="en-US" sz="3600" spc="-1" strike="noStrike">
              <a:solidFill>
                <a:srgbClr val="000000"/>
              </a:solidFill>
              <a:latin typeface="Arial"/>
            </a:endParaRPr>
          </a:p>
        </p:txBody>
      </p:sp>
      <p:sp>
        <p:nvSpPr>
          <p:cNvPr id="54" name="PlaceHolder 2"/>
          <p:cNvSpPr>
            <a:spLocks noGrp="1"/>
          </p:cNvSpPr>
          <p:nvPr>
            <p:ph/>
          </p:nvPr>
        </p:nvSpPr>
        <p:spPr>
          <a:xfrm>
            <a:off x="971640" y="2076480"/>
            <a:ext cx="7488000" cy="4781520"/>
          </a:xfrm>
          <a:prstGeom prst="rect">
            <a:avLst/>
          </a:prstGeom>
          <a:noFill/>
          <a:ln w="0">
            <a:noFill/>
          </a:ln>
        </p:spPr>
        <p:txBody>
          <a:bodyPr lIns="90000" rIns="90000" tIns="46800" bIns="46800" anchor="t">
            <a:normAutofit/>
          </a:bodyPr>
          <a:p>
            <a:pPr marL="343080" indent="-343080">
              <a:spcBef>
                <a:spcPts val="7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3300"/>
                </a:solidFill>
                <a:uFillTx/>
                <a:latin typeface="Arial"/>
              </a:rPr>
              <a:t>Речевой строй произведения</a:t>
            </a:r>
            <a:r>
              <a:rPr b="0" lang="en-US" sz="3200" spc="-1" strike="noStrike">
                <a:solidFill>
                  <a:srgbClr val="663300"/>
                </a:solidFill>
                <a:latin typeface="Arial"/>
              </a:rPr>
              <a:t> (ритм, темп, особенности синтаксиса, средства выразительности);</a:t>
            </a:r>
            <a:endParaRPr b="0" lang="en-US" sz="3200" spc="-1" strike="noStrike">
              <a:solidFill>
                <a:srgbClr val="000000"/>
              </a:solidFill>
              <a:latin typeface="Arial"/>
            </a:endParaRPr>
          </a:p>
          <a:p>
            <a:pPr marL="343080" indent="-343080">
              <a:spcBef>
                <a:spcPts val="7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3300"/>
                </a:solidFill>
                <a:uFillTx/>
                <a:latin typeface="Arial"/>
              </a:rPr>
              <a:t>Предметная изобразительность</a:t>
            </a:r>
            <a:r>
              <a:rPr b="0" lang="en-US" sz="3200" spc="-1" strike="noStrike">
                <a:solidFill>
                  <a:srgbClr val="663300"/>
                </a:solidFill>
                <a:latin typeface="Arial"/>
              </a:rPr>
              <a:t> (персонажи и события, портрет, пейзаж, интерьер);</a:t>
            </a:r>
            <a:endParaRPr b="0" lang="en-US" sz="3200" spc="-1" strike="noStrike">
              <a:solidFill>
                <a:srgbClr val="000000"/>
              </a:solidFill>
              <a:latin typeface="Arial"/>
            </a:endParaRPr>
          </a:p>
          <a:p>
            <a:pPr marL="343080" indent="-343080">
              <a:spcBef>
                <a:spcPts val="7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3300"/>
                </a:solidFill>
                <a:uFillTx/>
                <a:latin typeface="Arial"/>
              </a:rPr>
              <a:t>Композиция</a:t>
            </a:r>
            <a:r>
              <a:rPr b="0" lang="en-US" sz="3200" spc="-1" strike="noStrike">
                <a:solidFill>
                  <a:srgbClr val="6633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8000"/>
          </a:xfrm>
          <a:prstGeom prst="rect">
            <a:avLst/>
          </a:prstGeom>
          <a:ln w="0">
            <a:noFill/>
          </a:ln>
        </p:spPr>
      </p:pic>
      <p:sp>
        <p:nvSpPr>
          <p:cNvPr id="56" name="PlaceHolder 1"/>
          <p:cNvSpPr>
            <a:spLocks noGrp="1"/>
          </p:cNvSpPr>
          <p:nvPr>
            <p:ph type="title"/>
          </p:nvPr>
        </p:nvSpPr>
        <p:spPr>
          <a:xfrm>
            <a:off x="68436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3300"/>
                </a:solidFill>
                <a:latin typeface="Arial"/>
              </a:rPr>
              <a:t>Композиция-</a:t>
            </a:r>
            <a:endParaRPr b="0" lang="en-US" sz="4000" spc="-1" strike="noStrike">
              <a:solidFill>
                <a:srgbClr val="000000"/>
              </a:solidFill>
              <a:latin typeface="Arial"/>
            </a:endParaRPr>
          </a:p>
        </p:txBody>
      </p:sp>
      <p:sp>
        <p:nvSpPr>
          <p:cNvPr id="57" name="PlaceHolder 2"/>
          <p:cNvSpPr>
            <a:spLocks noGrp="1"/>
          </p:cNvSpPr>
          <p:nvPr>
            <p:ph/>
          </p:nvPr>
        </p:nvSpPr>
        <p:spPr>
          <a:xfrm>
            <a:off x="610920" y="1413000"/>
            <a:ext cx="8281800" cy="4781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   </a:t>
            </a:r>
            <a:r>
              <a:rPr b="0" lang="en-US" sz="3200" spc="-1" strike="noStrike">
                <a:solidFill>
                  <a:srgbClr val="663300"/>
                </a:solidFill>
                <a:latin typeface="Arial"/>
              </a:rPr>
              <a:t>«дисциплинирующая сила и организатор произведения», «ее цель- расположить все куски так, чтобы они замыкались в полное выражение идеи».</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                                         </a:t>
            </a:r>
            <a:r>
              <a:rPr b="0" lang="en-US" sz="3200" spc="-1" strike="noStrike">
                <a:solidFill>
                  <a:srgbClr val="663300"/>
                </a:solidFill>
                <a:latin typeface="Arial"/>
              </a:rPr>
              <a:t>П.В.Палиевский.</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858000"/>
          </a:xfrm>
          <a:prstGeom prst="rect">
            <a:avLst/>
          </a:prstGeom>
          <a:ln w="0">
            <a:noFill/>
          </a:ln>
        </p:spPr>
      </p:pic>
      <p:sp>
        <p:nvSpPr>
          <p:cNvPr id="59" name="PlaceHolder 1"/>
          <p:cNvSpPr>
            <a:spLocks noGrp="1"/>
          </p:cNvSpPr>
          <p:nvPr>
            <p:ph type="title"/>
          </p:nvPr>
        </p:nvSpPr>
        <p:spPr>
          <a:xfrm>
            <a:off x="684360" y="333360"/>
            <a:ext cx="8229600" cy="619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Arial"/>
              </a:rPr>
              <a:t>        </a:t>
            </a:r>
            <a:r>
              <a:rPr b="1" lang="en-US" sz="3600" spc="-1" strike="noStrike">
                <a:solidFill>
                  <a:srgbClr val="663300"/>
                </a:solidFill>
                <a:latin typeface="Arial"/>
              </a:rPr>
              <a:t>При анализе композиции  </a:t>
            </a:r>
            <a:br>
              <a:rPr sz="3600"/>
            </a:br>
            <a:r>
              <a:rPr b="1" lang="en-US" sz="3600" spc="-1" strike="noStrike">
                <a:solidFill>
                  <a:srgbClr val="663300"/>
                </a:solidFill>
                <a:latin typeface="Arial"/>
              </a:rPr>
              <a:t>        обращается внимание на: </a:t>
            </a:r>
            <a:br>
              <a:rPr sz="3600"/>
            </a:br>
            <a:r>
              <a:rPr b="0" lang="en-US" sz="2800" spc="-1" strike="noStrike">
                <a:solidFill>
                  <a:srgbClr val="663300"/>
                </a:solidFill>
                <a:latin typeface="Arial"/>
              </a:rPr>
              <a:t>- стадии развития действия,</a:t>
            </a:r>
            <a:br>
              <a:rPr sz="2800"/>
            </a:br>
            <a:r>
              <a:rPr b="0" lang="en-US" sz="2800" spc="-1" strike="noStrike">
                <a:solidFill>
                  <a:srgbClr val="663300"/>
                </a:solidFill>
                <a:latin typeface="Arial"/>
              </a:rPr>
              <a:t>- соотнесенность частей и глав,</a:t>
            </a:r>
            <a:br>
              <a:rPr sz="2800"/>
            </a:br>
            <a:r>
              <a:rPr b="0" lang="en-US" sz="2800" spc="-1" strike="noStrike">
                <a:solidFill>
                  <a:srgbClr val="663300"/>
                </a:solidFill>
                <a:latin typeface="Arial"/>
              </a:rPr>
              <a:t>-</a:t>
            </a:r>
            <a:r>
              <a:rPr b="1" lang="en-US" sz="3600" spc="-1" strike="noStrike">
                <a:solidFill>
                  <a:srgbClr val="663300"/>
                </a:solidFill>
                <a:latin typeface="Arial"/>
              </a:rPr>
              <a:t> </a:t>
            </a:r>
            <a:r>
              <a:rPr b="0" lang="en-US" sz="2800" spc="-1" strike="noStrike">
                <a:solidFill>
                  <a:srgbClr val="663300"/>
                </a:solidFill>
                <a:latin typeface="Arial"/>
              </a:rPr>
              <a:t>взаимодействие сюжетных и внесюжетных эпизодов ( лирических отступлений, вставных рассказов, снов, песен, писем…),</a:t>
            </a:r>
            <a:br>
              <a:rPr sz="2800"/>
            </a:br>
            <a:r>
              <a:rPr b="0" lang="en-US" sz="2800" spc="-1" strike="noStrike">
                <a:solidFill>
                  <a:srgbClr val="663300"/>
                </a:solidFill>
                <a:latin typeface="Arial"/>
              </a:rPr>
              <a:t>- систему персонажей (группировка, двойники, антагонисты…),</a:t>
            </a:r>
            <a:br>
              <a:rPr sz="2800"/>
            </a:br>
            <a:r>
              <a:rPr b="0" lang="en-US" sz="2800" spc="-1" strike="noStrike">
                <a:solidFill>
                  <a:srgbClr val="663300"/>
                </a:solidFill>
                <a:latin typeface="Arial"/>
              </a:rPr>
              <a:t>- пейзажные и портретные зарисовки, интерьер…</a:t>
            </a:r>
            <a:endParaRPr b="0" lang="en-US" sz="2800" spc="-1" strike="noStrike">
              <a:solidFill>
                <a:srgbClr val="000000"/>
              </a:solidFill>
              <a:latin typeface="Arial"/>
            </a:endParaRPr>
          </a:p>
        </p:txBody>
      </p:sp>
      <p:sp>
        <p:nvSpPr>
          <p:cNvPr id="60" name="PlaceHolder 2"/>
          <p:cNvSpPr>
            <a:spLocks noGrp="1"/>
          </p:cNvSpPr>
          <p:nvPr>
            <p:ph/>
          </p:nvPr>
        </p:nvSpPr>
        <p:spPr>
          <a:xfrm>
            <a:off x="610920" y="1413000"/>
            <a:ext cx="8281800" cy="4781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0" y="0"/>
            <a:ext cx="9144000" cy="6858000"/>
          </a:xfrm>
          <a:prstGeom prst="rect">
            <a:avLst/>
          </a:prstGeom>
          <a:ln w="0">
            <a:noFill/>
          </a:ln>
        </p:spPr>
      </p:pic>
      <p:sp>
        <p:nvSpPr>
          <p:cNvPr id="62" name="PlaceHolder 1"/>
          <p:cNvSpPr>
            <a:spLocks noGrp="1"/>
          </p:cNvSpPr>
          <p:nvPr>
            <p:ph type="title"/>
          </p:nvPr>
        </p:nvSpPr>
        <p:spPr>
          <a:xfrm>
            <a:off x="68436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3300"/>
                </a:solidFill>
                <a:latin typeface="Arial"/>
              </a:rPr>
              <a:t>Композиционные приемы:</a:t>
            </a:r>
            <a:endParaRPr b="0" lang="en-US" sz="4000" spc="-1" strike="noStrike">
              <a:solidFill>
                <a:srgbClr val="000000"/>
              </a:solidFill>
              <a:latin typeface="Arial"/>
            </a:endParaRPr>
          </a:p>
        </p:txBody>
      </p:sp>
      <p:sp>
        <p:nvSpPr>
          <p:cNvPr id="63" name="PlaceHolder 2"/>
          <p:cNvSpPr>
            <a:spLocks noGrp="1"/>
          </p:cNvSpPr>
          <p:nvPr>
            <p:ph/>
          </p:nvPr>
        </p:nvSpPr>
        <p:spPr>
          <a:xfrm>
            <a:off x="1042560" y="1341360"/>
            <a:ext cx="7488360" cy="4781520"/>
          </a:xfrm>
          <a:prstGeom prst="rect">
            <a:avLst/>
          </a:prstGeom>
          <a:noFill/>
          <a:ln w="0">
            <a:noFill/>
          </a:ln>
        </p:spPr>
        <p:txBody>
          <a:bodyPr lIns="90000" rIns="90000" tIns="46800" bIns="46800" anchor="t">
            <a:normAutofit/>
          </a:bodyPr>
          <a:p>
            <a:pPr marL="343080" indent="-343080">
              <a:lnSpc>
                <a:spcPct val="90000"/>
              </a:lnSpc>
              <a:spcBef>
                <a:spcPts val="7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обрамление повествования,</a:t>
            </a:r>
            <a:endParaRPr b="0" lang="en-US" sz="3200" spc="-1" strike="noStrike">
              <a:solidFill>
                <a:srgbClr val="000000"/>
              </a:solidFill>
              <a:latin typeface="Arial"/>
            </a:endParaRPr>
          </a:p>
          <a:p>
            <a:pPr marL="343080" indent="-343080">
              <a:lnSpc>
                <a:spcPct val="90000"/>
              </a:lnSpc>
              <a:spcBef>
                <a:spcPts val="7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нарушение хронологии,</a:t>
            </a:r>
            <a:endParaRPr b="0" lang="en-US" sz="3200" spc="-1" strike="noStrike">
              <a:solidFill>
                <a:srgbClr val="000000"/>
              </a:solidFill>
              <a:latin typeface="Arial"/>
            </a:endParaRPr>
          </a:p>
          <a:p>
            <a:pPr marL="343080" indent="-343080">
              <a:lnSpc>
                <a:spcPct val="90000"/>
              </a:lnSpc>
              <a:spcBef>
                <a:spcPts val="7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умолчание,</a:t>
            </a:r>
            <a:endParaRPr b="0" lang="en-US" sz="3200" spc="-1" strike="noStrike">
              <a:solidFill>
                <a:srgbClr val="000000"/>
              </a:solidFill>
              <a:latin typeface="Arial"/>
            </a:endParaRPr>
          </a:p>
          <a:p>
            <a:pPr marL="343080" indent="-343080">
              <a:lnSpc>
                <a:spcPct val="90000"/>
              </a:lnSpc>
              <a:spcBef>
                <a:spcPts val="7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повторы,</a:t>
            </a:r>
            <a:endParaRPr b="0" lang="en-US" sz="3200" spc="-1" strike="noStrike">
              <a:solidFill>
                <a:srgbClr val="000000"/>
              </a:solidFill>
              <a:latin typeface="Arial"/>
            </a:endParaRPr>
          </a:p>
          <a:p>
            <a:pPr marL="343080" indent="-343080">
              <a:lnSpc>
                <a:spcPct val="90000"/>
              </a:lnSpc>
              <a:spcBef>
                <a:spcPts val="7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лейтмотивы,</a:t>
            </a:r>
            <a:endParaRPr b="0" lang="en-US" sz="3200" spc="-1" strike="noStrike">
              <a:solidFill>
                <a:srgbClr val="000000"/>
              </a:solidFill>
              <a:latin typeface="Arial"/>
            </a:endParaRPr>
          </a:p>
          <a:p>
            <a:pPr marL="343080" indent="-343080">
              <a:lnSpc>
                <a:spcPct val="90000"/>
              </a:lnSpc>
              <a:spcBef>
                <a:spcPts val="7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сопоставление и противопоставление,</a:t>
            </a:r>
            <a:endParaRPr b="0" lang="en-US" sz="3200" spc="-1" strike="noStrike">
              <a:solidFill>
                <a:srgbClr val="000000"/>
              </a:solidFill>
              <a:latin typeface="Arial"/>
            </a:endParaRPr>
          </a:p>
          <a:p>
            <a:pPr marL="343080" indent="-343080">
              <a:lnSpc>
                <a:spcPct val="90000"/>
              </a:lnSpc>
              <a:spcBef>
                <a:spcPts val="7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смена точек зрения на повествование…</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6858000"/>
          </a:xfrm>
          <a:prstGeom prst="rect">
            <a:avLst/>
          </a:prstGeom>
          <a:ln w="0">
            <a:noFill/>
          </a:ln>
        </p:spPr>
      </p:pic>
      <p:sp>
        <p:nvSpPr>
          <p:cNvPr id="65" name="PlaceHolder 1"/>
          <p:cNvSpPr>
            <a:spLocks noGrp="1"/>
          </p:cNvSpPr>
          <p:nvPr>
            <p:ph type="title"/>
          </p:nvPr>
        </p:nvSpPr>
        <p:spPr>
          <a:xfrm>
            <a:off x="68436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3300"/>
                </a:solidFill>
                <a:latin typeface="Arial"/>
              </a:rPr>
              <a:t>Типы композиций</a:t>
            </a:r>
            <a:endParaRPr b="0" lang="en-US" sz="4000" spc="-1" strike="noStrike">
              <a:solidFill>
                <a:srgbClr val="000000"/>
              </a:solidFill>
              <a:latin typeface="Arial"/>
            </a:endParaRPr>
          </a:p>
        </p:txBody>
      </p:sp>
      <p:sp>
        <p:nvSpPr>
          <p:cNvPr id="66" name="PlaceHolder 2"/>
          <p:cNvSpPr>
            <a:spLocks noGrp="1"/>
          </p:cNvSpPr>
          <p:nvPr>
            <p:ph/>
          </p:nvPr>
        </p:nvSpPr>
        <p:spPr>
          <a:xfrm>
            <a:off x="971640" y="1484280"/>
            <a:ext cx="7488000" cy="4781520"/>
          </a:xfrm>
          <a:prstGeom prst="rect">
            <a:avLst/>
          </a:prstGeom>
          <a:noFill/>
          <a:ln w="0">
            <a:noFill/>
          </a:ln>
        </p:spPr>
        <p:txBody>
          <a:bodyPr lIns="90000" rIns="90000" tIns="46800" bIns="46800" anchor="t">
            <a:normAutofit/>
          </a:bodyPr>
          <a:p>
            <a:pPr marL="343080" indent="-343080">
              <a:spcBef>
                <a:spcPts val="7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строгая соразмерность всех частей ( античность, классицизм);</a:t>
            </a:r>
            <a:endParaRPr b="0" lang="en-US" sz="3200" spc="-1" strike="noStrike">
              <a:solidFill>
                <a:srgbClr val="000000"/>
              </a:solidFill>
              <a:latin typeface="Arial"/>
            </a:endParaRPr>
          </a:p>
          <a:p>
            <a:pPr marL="343080" indent="-343080">
              <a:spcBef>
                <a:spcPts val="7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последовательное чередование частей («Обломов»);</a:t>
            </a:r>
            <a:endParaRPr b="0" lang="en-US" sz="3200" spc="-1" strike="noStrike">
              <a:solidFill>
                <a:srgbClr val="000000"/>
              </a:solidFill>
              <a:latin typeface="Arial"/>
            </a:endParaRPr>
          </a:p>
          <a:p>
            <a:pPr marL="343080" indent="-343080">
              <a:spcBef>
                <a:spcPts val="7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свободное чередование эпизодов со вставными конструкциями («Евгений Онегин»).</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144000" cy="6858000"/>
          </a:xfrm>
          <a:prstGeom prst="rect">
            <a:avLst/>
          </a:prstGeom>
          <a:ln w="0">
            <a:noFill/>
          </a:ln>
        </p:spPr>
      </p:pic>
      <p:sp>
        <p:nvSpPr>
          <p:cNvPr id="68" name="PlaceHolder 1"/>
          <p:cNvSpPr>
            <a:spLocks noGrp="1"/>
          </p:cNvSpPr>
          <p:nvPr>
            <p:ph/>
          </p:nvPr>
        </p:nvSpPr>
        <p:spPr>
          <a:xfrm>
            <a:off x="899640" y="620640"/>
            <a:ext cx="7488360" cy="5904000"/>
          </a:xfrm>
          <a:prstGeom prst="rect">
            <a:avLst/>
          </a:prstGeom>
          <a:noFill/>
          <a:ln w="0">
            <a:noFill/>
          </a:ln>
        </p:spPr>
        <p:txBody>
          <a:bodyPr lIns="90000" rIns="90000" tIns="46800" bIns="46800" anchor="t">
            <a:normAutofit/>
          </a:bodyPr>
          <a:p>
            <a:pPr marL="343080" indent="-343080">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Кольцевая композиция («Обломов»);</a:t>
            </a:r>
            <a:endParaRPr b="0" lang="en-US" sz="2800" spc="-1" strike="noStrike">
              <a:solidFill>
                <a:srgbClr val="000000"/>
              </a:solidFill>
              <a:latin typeface="Arial"/>
            </a:endParaRPr>
          </a:p>
          <a:p>
            <a:pPr marL="343080" indent="-343080">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Зеркальная («Евгений Онегин»);</a:t>
            </a:r>
            <a:endParaRPr b="0" lang="en-US" sz="2800" spc="-1" strike="noStrike">
              <a:solidFill>
                <a:srgbClr val="000000"/>
              </a:solidFill>
              <a:latin typeface="Arial"/>
            </a:endParaRPr>
          </a:p>
          <a:p>
            <a:pPr marL="343080" indent="-343080">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Рамочная («После бала»);</a:t>
            </a:r>
            <a:endParaRPr b="0" lang="en-US" sz="2800" spc="-1" strike="noStrike">
              <a:solidFill>
                <a:srgbClr val="000000"/>
              </a:solidFill>
              <a:latin typeface="Arial"/>
            </a:endParaRPr>
          </a:p>
          <a:p>
            <a:pPr marL="343080" indent="-343080">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Монтажная («Три смерти»)…</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   </a:t>
            </a:r>
            <a:r>
              <a:rPr b="0" i="1" lang="en-US" sz="2800" spc="-1" strike="noStrike">
                <a:solidFill>
                  <a:srgbClr val="663300"/>
                </a:solidFill>
                <a:latin typeface="Arial"/>
              </a:rPr>
              <a:t>«В настоящем художественном произведении…нельзя вынуть один стих, одну сцену, одну фигуру, один такт из своего места и поставить в другое, не нарушив значение всего произведения».</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                          </a:t>
            </a:r>
            <a:r>
              <a:rPr b="0" lang="en-US" sz="2800" spc="-1" strike="noStrike">
                <a:solidFill>
                  <a:srgbClr val="663300"/>
                </a:solidFill>
                <a:latin typeface="Arial"/>
              </a:rPr>
              <a:t>Л.Н.Толсто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sp>
        <p:nvSpPr>
          <p:cNvPr id="70" name="PlaceHolder 1"/>
          <p:cNvSpPr>
            <a:spLocks noGrp="1"/>
          </p:cNvSpPr>
          <p:nvPr>
            <p:ph type="title"/>
          </p:nvPr>
        </p:nvSpPr>
        <p:spPr>
          <a:xfrm>
            <a:off x="684360" y="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Arial"/>
              </a:rPr>
              <a:t>Вопросы и задания</a:t>
            </a:r>
            <a:endParaRPr b="0" lang="en-US" sz="3600" spc="-1" strike="noStrike">
              <a:solidFill>
                <a:srgbClr val="000000"/>
              </a:solidFill>
              <a:latin typeface="Arial"/>
            </a:endParaRPr>
          </a:p>
        </p:txBody>
      </p:sp>
      <p:sp>
        <p:nvSpPr>
          <p:cNvPr id="71" name="PlaceHolder 2"/>
          <p:cNvSpPr>
            <a:spLocks noGrp="1"/>
          </p:cNvSpPr>
          <p:nvPr>
            <p:ph/>
          </p:nvPr>
        </p:nvSpPr>
        <p:spPr>
          <a:xfrm>
            <a:off x="611280" y="620280"/>
            <a:ext cx="8208720" cy="547236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   </a:t>
            </a:r>
            <a:r>
              <a:rPr b="0" lang="en-US" sz="2400" spc="-1" strike="noStrike">
                <a:solidFill>
                  <a:srgbClr val="663300"/>
                </a:solidFill>
                <a:latin typeface="Arial"/>
              </a:rPr>
              <a:t>Прочитайте рассказ Л.Н.Толстого «Три смерти» и ответьте на вопросы:</a:t>
            </a:r>
            <a:endParaRPr b="0" lang="en-US" sz="2400" spc="-1" strike="noStrike">
              <a:solidFill>
                <a:srgbClr val="000000"/>
              </a:solidFill>
              <a:latin typeface="Arial"/>
            </a:endParaRPr>
          </a:p>
          <a:p>
            <a:pPr marL="339480" indent="-339480">
              <a:lnSpc>
                <a:spcPct val="9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С какой целью автор в 1 абзаце изображает картину по принципу сужения пространства?</a:t>
            </a:r>
            <a:endParaRPr b="0" lang="en-US" sz="2400" spc="-1" strike="noStrike">
              <a:solidFill>
                <a:srgbClr val="000000"/>
              </a:solidFill>
              <a:latin typeface="Arial"/>
            </a:endParaRPr>
          </a:p>
          <a:p>
            <a:pPr marL="339480" indent="-339480">
              <a:lnSpc>
                <a:spcPct val="9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Как пейзажные зарисовки в 1 части связаны с идеей рассказа?</a:t>
            </a:r>
            <a:endParaRPr b="0" lang="en-US" sz="2400" spc="-1" strike="noStrike">
              <a:solidFill>
                <a:srgbClr val="000000"/>
              </a:solidFill>
              <a:latin typeface="Arial"/>
            </a:endParaRPr>
          </a:p>
          <a:p>
            <a:pPr marL="339480" indent="-339480">
              <a:lnSpc>
                <a:spcPct val="9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В 1 части даны 2 портрета: госпожи и горничной. Как они вводятся и на какие мысли наводит их сопоставление?</a:t>
            </a:r>
            <a:endParaRPr b="0" lang="en-US" sz="2400" spc="-1" strike="noStrike">
              <a:solidFill>
                <a:srgbClr val="000000"/>
              </a:solidFill>
              <a:latin typeface="Arial"/>
            </a:endParaRPr>
          </a:p>
          <a:p>
            <a:pPr marL="339480" indent="-339480">
              <a:lnSpc>
                <a:spcPct val="9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В 1 части  героини крестятся на церковь. С какими эпизодами 3 части взаимодействует этот фрагмент?</a:t>
            </a:r>
            <a:endParaRPr b="0" lang="en-US" sz="2400" spc="-1" strike="noStrike">
              <a:solidFill>
                <a:srgbClr val="000000"/>
              </a:solidFill>
              <a:latin typeface="Arial"/>
            </a:endParaRPr>
          </a:p>
          <a:p>
            <a:pPr marL="339480" indent="-339480">
              <a:lnSpc>
                <a:spcPct val="9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С какой целью введен эпизод с девочками, побежавшими смотреть больную барыню?</a:t>
            </a:r>
            <a:endParaRPr b="0" lang="en-US" sz="2400" spc="-1" strike="noStrike">
              <a:solidFill>
                <a:srgbClr val="000000"/>
              </a:solidFill>
              <a:latin typeface="Arial"/>
            </a:endParaRPr>
          </a:p>
          <a:p>
            <a:pPr marL="339480" indent="-339480">
              <a:lnSpc>
                <a:spcPct val="9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Как разговор о детях помогает понять характер барыни? Как тема детей развивается в 3 части?</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4000" cy="6858000"/>
          </a:xfrm>
          <a:prstGeom prst="rect">
            <a:avLst/>
          </a:prstGeom>
          <a:ln w="0">
            <a:noFill/>
          </a:ln>
        </p:spPr>
      </p:pic>
      <p:sp>
        <p:nvSpPr>
          <p:cNvPr id="73" name="PlaceHolder 1"/>
          <p:cNvSpPr>
            <a:spLocks noGrp="1"/>
          </p:cNvSpPr>
          <p:nvPr>
            <p:ph/>
          </p:nvPr>
        </p:nvSpPr>
        <p:spPr>
          <a:xfrm>
            <a:off x="468000" y="90000"/>
            <a:ext cx="8675640" cy="72262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 </a:t>
            </a:r>
            <a:r>
              <a:rPr b="0" lang="en-US" sz="2000" spc="-1" strike="noStrike">
                <a:solidFill>
                  <a:srgbClr val="663300"/>
                </a:solidFill>
                <a:latin typeface="Arial"/>
              </a:rPr>
              <a:t>-  </a:t>
            </a:r>
            <a:r>
              <a:rPr b="0" lang="en-US" sz="2400" spc="-1" strike="noStrike">
                <a:solidFill>
                  <a:srgbClr val="663300"/>
                </a:solidFill>
                <a:latin typeface="Arial"/>
              </a:rPr>
              <a:t>Вычлените внутренние реплики больной барыни. Какая между ними связь? Как это помогает понять характер барыни?</a:t>
            </a:r>
            <a:endParaRPr b="0" lang="en-US" sz="2400" spc="-1" strike="noStrike">
              <a:solidFill>
                <a:srgbClr val="000000"/>
              </a:solidFill>
              <a:latin typeface="Arial"/>
            </a:endParaRPr>
          </a:p>
          <a:p>
            <a:pPr marL="343080" indent="-343080">
              <a:lnSpc>
                <a:spcPct val="8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Какая реплика будет повторена и на что это указывает?</a:t>
            </a:r>
            <a:endParaRPr b="0" lang="en-US" sz="2400" spc="-1" strike="noStrike">
              <a:solidFill>
                <a:srgbClr val="000000"/>
              </a:solidFill>
              <a:latin typeface="Arial"/>
            </a:endParaRPr>
          </a:p>
          <a:p>
            <a:pPr marL="343080" indent="-343080">
              <a:lnSpc>
                <a:spcPct val="8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Почему 1 часть завершается многоточием и отточием?</a:t>
            </a:r>
            <a:endParaRPr b="0" lang="en-US" sz="2400" spc="-1" strike="noStrike">
              <a:solidFill>
                <a:srgbClr val="000000"/>
              </a:solidFill>
              <a:latin typeface="Arial"/>
            </a:endParaRPr>
          </a:p>
          <a:p>
            <a:pPr marL="343080" indent="-343080">
              <a:lnSpc>
                <a:spcPct val="8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Толстой в комментариях назвал барыню «жалкой и гадкой». Почему?</a:t>
            </a:r>
            <a:endParaRPr b="0" lang="en-US" sz="2400" spc="-1" strike="noStrike">
              <a:solidFill>
                <a:srgbClr val="000000"/>
              </a:solidFill>
              <a:latin typeface="Arial"/>
            </a:endParaRPr>
          </a:p>
          <a:p>
            <a:pPr marL="343080" indent="-343080">
              <a:lnSpc>
                <a:spcPct val="8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Проанализируйте диалог ямщика и больного Федора. Сопоставьте его с диалогом барыни и мужа. Какие авторские мысли становятся очевидными?</a:t>
            </a:r>
            <a:endParaRPr b="0" lang="en-US" sz="2400" spc="-1" strike="noStrike">
              <a:solidFill>
                <a:srgbClr val="000000"/>
              </a:solidFill>
              <a:latin typeface="Arial"/>
            </a:endParaRPr>
          </a:p>
          <a:p>
            <a:pPr marL="343080" indent="-343080">
              <a:lnSpc>
                <a:spcPct val="8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В чем символический смысл сна кухарки? Как он помогает понять образ Федора?</a:t>
            </a:r>
            <a:endParaRPr b="0" lang="en-US" sz="2400" spc="-1" strike="noStrike">
              <a:solidFill>
                <a:srgbClr val="000000"/>
              </a:solidFill>
              <a:latin typeface="Arial"/>
            </a:endParaRPr>
          </a:p>
          <a:p>
            <a:pPr marL="343080" indent="-343080">
              <a:lnSpc>
                <a:spcPct val="8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Какая цитата из Псалтыри № часть) связана с идеей рассказа?</a:t>
            </a:r>
            <a:endParaRPr b="0" lang="en-US" sz="2400" spc="-1" strike="noStrike">
              <a:solidFill>
                <a:srgbClr val="000000"/>
              </a:solidFill>
              <a:latin typeface="Arial"/>
            </a:endParaRPr>
          </a:p>
          <a:p>
            <a:pPr marL="343080" indent="-343080">
              <a:lnSpc>
                <a:spcPct val="8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В чем смысл деления рассказа на 4 части? Какие темы и проблемы являются сквозными?</a:t>
            </a:r>
            <a:endParaRPr b="0" lang="en-US" sz="2400" spc="-1" strike="noStrike">
              <a:solidFill>
                <a:srgbClr val="000000"/>
              </a:solidFill>
              <a:latin typeface="Arial"/>
            </a:endParaRPr>
          </a:p>
          <a:p>
            <a:pPr marL="343080" indent="-343080">
              <a:lnSpc>
                <a:spcPct val="8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Какова роль приемов контраста и антитезы?</a:t>
            </a:r>
            <a:endParaRPr b="0" lang="en-US" sz="2400" spc="-1" strike="noStrike">
              <a:solidFill>
                <a:srgbClr val="000000"/>
              </a:solidFill>
              <a:latin typeface="Arial"/>
            </a:endParaRPr>
          </a:p>
          <a:p>
            <a:pPr marL="343080" indent="-343080">
              <a:lnSpc>
                <a:spcPct val="8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В композиции есть хронологические смещения, пропуск эпизодов. Какие задачи решает такая композиция?</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6T16:04:33Z</dcterms:created>
  <dc:creator>Катрин</dc:creator>
  <dc:description/>
  <dc:language>en-US</dc:language>
  <cp:lastModifiedBy>Катрин</cp:lastModifiedBy>
  <dcterms:modified xsi:type="dcterms:W3CDTF">2010-06-16T19:26:48Z</dcterms:modified>
  <cp:revision>3</cp:revision>
  <dc:subject/>
  <dc:title>Анализ  художественного текста</dc:title>
</cp:coreProperties>
</file>