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68DE-A954-4DF3-BB2C-17D91A8DBAE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м люди жи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знаем, что мы перешли из смерти и жизнь, потому что любим братьев: не любящий брата пребывает в смер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 посл. Иоан. III,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кто имеет достаток в мире, но, видя брата своего в нужде, затворяет от него сердце свое: как пребывает в том любовь бож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II,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ти мои! станем любить не словом или языком, но делом и истин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II,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бовь от бога, и всякий любящий рожден от бога и знает бо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V,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не любит, тот не познал бога, потому что бог есть любов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V,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 никто никогда не видел. Если мы любим друг друга, то бог в нас пребыв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V,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 есть любовь, и пребывающий в любви пребывает в боге, и бог в н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V,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говорит: я люблю бога, а брата своего ненавидит, тот лжец, ибо не любящий брата своего, которого видит, как может любить бога, которого не вид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V,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ил сапожник с женой и детьми у мужика на квартире. Ни дома своего, ни земли у него не было, и кормился он с семьею сапожной работой. Хлеб был дорогой, а работа дешевая, и что заработает, то и проест. Была у сапожника одна шуба с женой, да и та износилась в лохмотья; и второй год собирался сапожник купить овчин на новую шуб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осени собрались у сапожника деньжонки: три рубля бумажка лежала у бабы в сундуке, а еще пять рублей двадцать копеек было за мужиками в се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собрался с утра сапожник в село за шубой. Надел нанковую бабью куртушку на вате на рубаху, сверху кафтан суконный, взял бумажку трехрублевую в карман, выломал палку и пошел после завтрака. Думал: «Получу пять рублей с мужиков, приложу своих три, – куплю овчин на шуб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шел сапожник в село, зашел к одному мужику – дома нет, обещала баба на неделе прислать мужа с деньгами, а денег не дала; зашел к другому, – забожился мужик, что нет денег, только двадцать копеек отдал за починку сапог. Думал сапожник в долг взять овчины, – в долг не поверил овчинн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нежки, – говорит, – принеси, тогда выбирай любые, а то знаем мы, как долги выбир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и не сделал сапожник никакого дела, только получил двадцать копеек за починку да взял у мужика старые валенки кожей обши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ужил сапожник, выпил на все двадцать копеек водки и пошел домой без шубы. С утра сапожнику морозно показалось, а выпивши – тепло было и без шубы. Идет сапожник дорогой, одной рукой палочкой по мерзлым калмыжкам постукивает, а другой рукой сапогами валеными помахивает, сам с собой разговарив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 говорит, – и без шубы тёпел. Выпил шкалик; оно во всех жилках играет. И тулупа не надо. Иду, забывши горе. Вот какой я человек! Мне что? Я без шубы проживу. Мне ее век не надо. Одно – баба заскучает. Да и обидно – ты на него работай, а он тебя водит. Постой же ты теперь: не принесешь денежки, я с тебя шапку сниму, ей-богу, сниму. А то что же это? По двугривенному отдает! Ну что на двугривенный сделаешь? Выпить – одно. Говорит: нужда. Тебе нужда, а мне не нужда? У тебя и дом, и скотина, и все, а я весь тут; у тебя свой хлеб, а я на покупном, – откуда хочешь, а три рубля в неделю на один хлеб подай. Приду домой – а хлеб дошел; опять полтора рубля выложь. Так ты мне мое отда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ит так сапожник к часовне у повертка, глядит – за самой за часовней что-то белеется. Стало уж смеркаться. Приглядывается сапожник, а не может рассмотреть, что такое. «Камня, думает, здесь такого не было. Скотина? На скотину не похоже. С головы похоже на человека, да бело что-то. Да и человеку зачем тут бы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шел ближе – совсем видно стало. Что за чудо: точно, человек, живой ли, мертвый, голышом сидит, прислонен к часовне и не шевелится. Страшно стало сапожнику; думает себе: «Убили какие-нибудь человека, раздели, да и бросили тут. Подойди только, и не разделаешься пот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ошел сапожник мимо. Зашел за часовню – не видать стало человека. Прошел часовню, оглянулся, видит – человек отслонился от часовни, шевелится, как будто приглядывается. Еще больше заробел сапожник, думает себе: «Подойти или мимо пройти? Подойти – как бы худо не было: кто его знает, какой он? Не за добрые дела попал сюда. Подойдешь, а он вскочит да задушит, и не уйдешь от него. А не задушит, так поди вожжайся с ним. Что с ним, с голым, делать? Не с себя же снять, последнее отдать. Пронеси только бо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рибавил сапожник шагу. Стал уж проходить часовню, да зазрила его сове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остановился сапожник на дорог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ы что же это, – говорит на себя, – Семен, делаешь? Человек в беде помирает, а ты заробел, мимо идешь. Али дюже разбогател? боишься, ограбят богатство твое? Ай, Сема, нелад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рнулся Семен и пошел к челове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ит Семен к человеку, разглядывает его и видит: человек молодой, в силе, не видать на теле побоев, только видно – измерз человек и напуган; сидит, прислонясь, и не глядит на Семена, будто ослаб, глаз поднять не может. Подошел Семен вплоть, и вдруг как будто очнулся человек, повернул голову, открыл глаза и взглянул на Семена. И с этого взгляда полюбился человек Семену. Бросил он наземь валенки, распоясался, положил подпояску на валенки, скинул кафт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удет, – говорит, – толковать-то! Одевай, что ли! Ну-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ял Семен человека под локоть, стал поднимать. Поднялся человек. И видит Семен – тело тонкое, чистое, руки, ноги не ломаные и лицо умильное. Накинул ему Семен кафтан на плечи, – не попадет в рукава. Заправил ему Семен руки, натянул, запахнул кафтан и подтянул подпояско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нял было Семен картуз рваный, хотел на голого надеть, да холодно голове стало, думает: «У меня лысина во всю голову, а у него виски курчавые, длинные». Надел опять. «Лучше сапоги ему обу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адил его и сапоги валеные обул е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ел его сапожник и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то, брат. Ну-ка, разминайся да согревайся. А эти дела все без нас разберут. Идти можеш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оит человек, умильно глядит на Семена, а выговорить ничего не мож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 же не говоришь? Не зимовать же тут. Надо к жилью. Ну-ка, на вот дубинку мою, обопрись, коли ослаб. Раскачивайся-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ошел человек. И пошел легко, не отст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дут они дорогой, и говорит Сем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ей, значит, будеш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не здеш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ешних-то я знаю. Попал-то, значит, как сюда, под часовн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льзя мне сказ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лжно, люди обид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икто меня не обидел. Меня бог наказ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звестно, все бог, да все же куда-нибудь прибиваться надо. Куда надо-то теб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не все од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ивился Семен. Не похож на озорника и на речах мягок, а не сказывает про себя. И думает Семен: «Мало ли какие дела бывают», – и говорит челове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 ж, так пойдем ко мне в дом, хоть отойдешь мало-мальс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дет Семен, не отстает от него странник, рядом идет. Поднялся ветер, прохватывает Семена под рубаху, и стал с него сходить хмель, и прозябать стал. Идет он, носом посапывает, запахивает на себе куртушку бабью и думает: «Вот-те и шуба, пошел за шубой, а без кафтана приду да еще голого с собой приведу. Не похвалит Матрена!» И как подумает об Матрене, скучно станет Семену. А как поглядит на странника, вспомнит, как он взглянул на него за часовней, так взыграет в нем сердц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бралась Семена жена рано. Дров нарубила, воды принесла, ребят накормила, сама закусила и задумалась; задумалась, когда хлебы ставить: нынче или завтра? Краюшка большая остала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думает, Семен там пообедает да много за ужином не съест, на завтра хватит хлеб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ртела, повертела Матрена краюху, думает: «Не стану нынче хлебов ставить. Муки и то всего на одни хлебы осталось. Еще до пятницы протян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брала Матрена хлеб и села у стола заплату на мужнину рубаху нашить. Шьет и думает Матрена про мужа, как он будет овчины на шубу покуп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обманул бы его овчинник. А то прост уж очень мой-то. Сам никого не обманет, а его малое дитя проведет. Восемь рублей деньги не малые. Можно хорошую шубу собрать. Хоть не дубленая, а все шуба. Прошлую зиму как бились без шубы! Ни на речку выйти, ни куда. А то вот пошел со двора, все на себя падел, мне и одеть нечего. Не рано пошел. Пора бы ему. Уж не загулял ли соколик-то м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подумала Матрена, заскрипели ступеньки на крыльце, кто-то вошел. Воткнула Матрена иголку, вышла в сени. Видит – вошли двое: Семен и с ним мужик какой-то без шапки и в валенк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азу почуяла Матрена дух винный от мужа. «Ну, думает, так и есть загулял». Да как увидела, что он без кафтана, в куртушке в одной и не несет ничего, а молчит, ужимается, оборвалось у Матрены сердце. «Пропил, думает, деньги, загулял с каким-нибудь непутевым, да и его еще с собой прив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пустила их Матрена в избу, сама вошла, видит – человек чужой, молодой, худощавый, кафтан на нем ихний. Рубахи не видать под кафтаном, шапки нет. Как вошел, так стал, не шевелится и глаз не поднимает. И думает Матрена: недобрый человек – бои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супилась Матрена, отошла к печи, глядит, что от них буд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нял Семен шапку, сел на лавку, как добр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 ж, – говорит, – Матрена, собери ужинать, что 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бурчала что-то себе под нос Матрена. Как стала у печи, не шевельнется: то на одного, то на другого посмотрит и только головой покачивает. Видит Семен, что баба не в себе, да делать нечего: как будто не примечает, берет за руку стран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дись, – говорит, – брат, ужинать стан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л странник на лав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 же, али не вари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яло зло Матре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арила, да не про тебя. Ты и ум, я вижу, пропил. Пошел за шубой, а без кафтана пришел, да еще какого-то бродягу голого с собой привел. Нет у меня про вас, пьяниц, уж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удет, Матрена, что без толку-то языком стрекотать! Ты спроси прежде, какой челове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ы сказывай, куда деньги дев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ез Семен в кафтан, вынул бумажку, разверну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ньги – вот они, а Трифонов не отдал, завтра посуди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е пуще взяло зло Матрену: шубы не купил, а последний кафтан на какого-то голого надел да к себе прив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ватила со стола бумажку, понесла прятать, сама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т у меня ужина. Всех пьяниц голых не накормиш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х, Матрена, подержи язык-то. Прежде послушай, что говоря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слушаешься ума от пьяного дурака. Недаром не хотела за тебя, пьяницу, замуж идти. Матушка мне холсты отдала – ты пропил; пошел шубу купить – пропи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чет Семен растолковать жене, что пропил он только двадцать копеек, хочет сказать, где он человека нашел, – не дает ему Матрена слова вставить: откуда что берется, по два слова вдруг говорит. Что десять лет тому назад было, и то все помяну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ворила, говорила Матрена, подскочила к Семену, схватила его за рука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авай поддевку-то мою. А то одна осталась, и ту с меня снял да на себя напер. Давай сюда, конопатый пес, пострел тебя расшиб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л снимать с себя Семен куцавейку, рукав вывернул, дернула баба – затрещала в швах куцавейка. Схватила Матрена поддевку, на голову накинула и взялась за дверь. Хотела уйти, да остановилась: и сердце в ней расходилось – хочется ей зло сорвать и узнать хочется, какой-такой челове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тановилась Матрена и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абы добрый человек, так голый бы не был, а то на нем и рубахи-то нет. Кабы за добрыми делами пошел, ты бы сказал, откуда привел щеголя так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а я сказываю тебе: иду, у часовни сидит этот раздемши, застыл совсем. Не лето ведь, нагишом-то. Нанес меня на него бог, а то бы пропасть. Ну, как быть? Мало ли какие дела бывают! Взял, одел и привел сюда. Утиши ты свое сердце. Грех, Матрена. Помирать буд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ела Матрена изругаться, да поглядела на странника и замолчала. Сидит странник – не шевельнется, как сел на краю лавки. Руки сложены на коленях, голова на грудь опущена, глаз не раскрывает и все морщится, как будто душит его что. Замолчала Матрена. Семен и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атрена, али в тебе бога н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ыхала это слово Матрена, взглянула еще на странника, и вдруг сошло в ней сердце. Отошла она от двери, подошла к печному углу, достала ужинать. Поставила чашку на стол, налила квасу, выложила краюшку последнюю. Подала нож и лож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лебайте, что ль, –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винул Семен стран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лезай, – говорит, – молоде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резал Семен хлеба, накрошил, и стали ужинать. А Матрена села об угол стола, подперлась рукой и глядит на стран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жалко стало Матрене странника, и полюбила она его. И вдруг повеселел странник, перестал морщиться, поднял глаза на Матрену и улыбну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ужинали; убрала баба и стала спрашивать стран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а ты чей будеш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 здешний 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а как же ты на дорогу-то поп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льзя мне сказ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то ж тебя обобр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ня бог наказ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 голый и леж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 и лежал нагой, замерзал. Увидал меня Семен, пожалел, снял с себя кафтан, на меня надел и велел сюда прийти. А здесь ты меня накормила, напоила, пожалела. Спасет вас господ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ала Матрена, взяла с окна рубаху старую Семенову, ту самую, что платила, подала страннику; нашла еще портки, под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 вот, я вижу, у тебя и рубахи-то нет. Оденься да ложись где полюбится – на хоры али на печ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нял странник кафтан, одел рубаху и портки и лег на хоры. Потушила Матрена свет, взяла кафтан и полезла к муж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крылась Матрена концом кафтана, лежит и не спит, все странник ей с мыслей не ид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спомнит, что он последнюю краюшку доел и на завтра нет хлеба, как вспомнит, что рубаху и портки отдала, так скучно ей станет; а вспомнит, как он улыбнулся, и взыграет в ней сердц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 не спала Матрена и слышит – Семен тоже не спит, кафтан на себя тащ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ем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леб-то последний поели, а я не ставила. На завтра, не знаю, как быть. Нечто у кумы Маланьи попрош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Живы будем, сыты буд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ежала баба, помолч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 человек, видно, хороший, только что ж он не сказывает про себ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лжно, нельз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ё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ы-то даем, да что ж нам никто не д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знал Семен, что сказать. Говорит: «Будет толковать-то». Повернулся и засну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тро проснулся Семен. Дети спят, жена пошла к соседям хлеба занимать. Один вчерашний странник в старых портках и рубахе на лавке сидит, вверх смотрит. И лицо у него против вчерашнего светл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говорит Сем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его ж, милая голова: брюхо хлеба просит, а голое тело одежи. Кормиться надо. Что работать умееш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ничего не уме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ивился Семен и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ыла бы охота. Всему люди уча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юди работают, и я работать бу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ебя как зв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ихаи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у, Михайла, сказывать про себя не хочешь – твое дело, а кормиться надо. Работать будешь, что прикажу, – кормить бу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аси тебя господь, а я учиться буду. Покажи, что дел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ял Семен пряжу, надел на пальцы и стал делать коне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ло не хитрое, гля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мотрел Михаила, надел также на пальцы, тотчас перенял, сделал коне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л ему Семен, как наваривать. Также сразу понял Михайла. Показал хозяин и как всучить щетинку и как тачать, и тоже сразу понял Михай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ую ни покажет ему работу Семен, все сразу поймет, и с третьего дня стал работать, как будто век шил. Работает без разгиба, ест мало; перемежится работа – молчит и все вверх глядит. На улицу не ходит, не говорит лишнего, не шутит, не сме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и видели раз, как он улыбнулся в первый вечер, когда ему баба ужинать собр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V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нь ко дню, неделя к неделе, вскружился и год. Живет Михайла по-прежнему у Семена, работает. И прошла про Семенова работника слава, что никто так чисто и крепко сапог не сошьет, как Семенов работник Михайла, и стали из округи к Семену за сапогами ездить, и стал у Семена достаток прибавлять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дят раз по зиме Семен с Михайлой, работают, подъезжает к избе тройкой с колокольцами возок. Поглядели в окно: остановился возок против избы, соскочил молодец с облучка, отворил дверцу. Вылезает из возка в шубе барин. Вышел из возка, пошел к Семенову дому, вошел на крыльцо. Выскочила Матрена, распахнула дверь настежь. Нагнулся барин, вошел в избу, выпрямился, чуть головой до потолка не достал, весь угол захвати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ал Семен, поклонился и дивуется на барина. И не видывал он людей таких. Сам Семен поджарый и Михайла худощавый, а Матрена и вовсе как щепка сухая, а этот – как с другого света человек: морда красная, налитая, шея как у быка, весь как из чугуна выл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дулся барин, снял шубу, сел на лавку и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то хозяин сапожн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шел Семен,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ваше степен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кнул барин на своего мал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й, Федька, подай сюда това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бежал малый, внес узелок. Взял барин узел, положил на сто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звяжи, –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язал малый. Ткнул барин пальцем товар сапожный и говорит Семе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у, слушай же ты, сапожник. Видишь това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ижу, – говорит, – ваше благород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а ты понимаешь ли, какой это това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щупал Семен товар,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овар хорош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о-то хороший! Ты, дурак, еще не видал товару такого. Товар немецкий, двадцать рублей плач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робел Семен,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де же нам вид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у, то-то. Можешь ты из этого товара на мою ногу сапоги сши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ожно, ваше степен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ричал на него бар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о-то «можно». Ты понимай, ты на кого шьешь, из какого товару. Такие сапоги мне сшей, чтобы год носились, не кривились, не поролись. Можешь – берись, режь товар, а не можешь – и не берись и не режь товару. Я тебе наперед говорю: распорются, скривятся сапоги раньше году, я тебя в острог засажу; не скривятся, не распорются до году, я за работу десять рублей отд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робел Семен и не знает, что сказать. Оглянулся на Михайлу. Толканул его локтем и шепч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рать, что 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ивнул головой Михаила: «Бери, мол, раб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ушался Семен Михаилу, взялся такие сапоги сшить, чтобы год не кривились, не поро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кнул барин малого, велел снять сапог с левой ноги, вытянул но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нимай мер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шил Семен бумажку в десять вершков, загладил, стал на коленки, руку об фартук обтер хорошенько, чтобы барский чулок не попачкать, и стал мерить. Обмерил Семен подошву, обмерил в подъеме; стал икру мерить, не сошлась бумажка. Ножища в икре как бревно толст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мотри, в голенище не обуз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л Семен еще бумажку нашивать. Сидит барин, пошевеливает перстами в чулке, народ в избе оглядывает. Увидал Михай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о кто ж, – говорит, – у теб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 это самый мой мастер, он и шить буд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мотри же, – говорит барин на Михайлу, – помни, так сшей, чтобы год проноси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лянулся и Семен на Михайлу; видит – Михайла на барина и не глядит, а уставился в угол за барином, точно вглядывается в кого. Глядел, глядел Михаила и вдруг улыбнулся и просветлел ве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ы что, дурак, зубы скалишь? Ты лучше смотри, чтобы к сроку готовы бы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говорит Михай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ак раз поспеют, когда над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о-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дел барин сапог, шубу, запахнулся и пошел к двери. Да забыл нагнуться, стукнулся в притолоку головой. Разругался барин, потер себе голову, сел в возок и уех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ъехал барин, Семен и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у уж кремняст. Этого долбней не убьешь. Косяк головой высадил, а ему горя мал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Матрена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 житья такого как им гладким не быть. Этакого заклепа и смерть не возьм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V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говорит Семен Михай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зять-то взяли работу, да как бы нам беды не нажить. Товар дорогой, а барин сердитый. Как бы не ошибиться. Ну-ка ты, у тебя и глаза повострее, да и в руках-то больше моего сноровки стало, на-ка мерку. Крои товар, а я головки дошивать бу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ослушался Михайла, вяял товар барский, разостлал на столе, сложил вдвое, взял нож и начал крои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шла Матрена, глядит, как Михайла кроит, и дивится, что такое Михайла делает. Привыкла уж и Матрена к сапожному делу, глядит и видит, что Михайла не по-сапожному товар кроит, а на круглые вырез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ела сказать Матрена, да думает себе: «Должно, не поняла я, как сапоги барину шить; должно, Михайла лучше знает, не стану мешать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роил Михаила пару, взял конец и стал сшивать не по-сапожному, в два конца, а одним концом, как босовики шь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ивилась и на это Матрена, да тоже мешаться не стала. А Михайла все шьет. Стали полудновать, поднялся Семен, смотрит – у Михайлы из барского товару босовики сши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хнул Семен. «Как это, думает, Михайла год целый жил, не ошибался ни в чем, а теперь беду такую наделал? Барин сапоги вытяжные на ранту заказывал, а он босовики сшил без подошвы, товар испортил. Как я теперь разделаюсь с барином? Товару такого не найдеш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говорит он Михай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ы что же это, – говорит, – милая голова, наделал? Зарезал ты меня! Ведь барин сапоги заказывал, а ты что сши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начал он выговаривать Михайле – грох в кольцо у двери, стучится кто-то. Глянули в окно: верхом кто-то приехал, лошадь привязывает. Отперли: входит тот самый малый от бар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оро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орово. Чего над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а вот барыня прислала об сапог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 об сапог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а что об сапогах! сапог не нужно барину. Приказал долго жить бар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 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 вас до дома не доехал, в возке и помер. Подъехала повозка к дому, вышли высаживать, а он как куль завалился, уж и закоченел, мертвый лежит, насилу из возка выпростали. Барыня и прислала, говорит: «Скажи ты сапожнику, что был, мол, у вас барин, сапоги заказывал и товар оставил, так скажи: сапог не нужно, а чтобы босовики на мертвого поскорее из товару сшил. Да дождись, пока сошьют, и с собой босовики привези». Вот и приех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ял Михайла со стола обрезки товара, свернул трубкой, взял и босовики готовые, щелкнул друг об друга, обтер фартуком и подал малому. Взял малый босов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щайте, хозяева! Час добр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VI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ел и еще год, и два, и живет Михайла уже шестой год у Семена. Живет по-прежнему. Никуда не ходит, лишнего не говорит и во все время только два раза улыбнулся: один раз, когда баба ему ужинать собрала, другой раз на барина. Не нарадуется Семен на своего работника. И не спрашивает его больше, откуда он; только одного боится, чтоб не ушел от него Михай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дят раз дома. Хозяйка в печь чугуны ставит, а ребята по лавкам бегают, в окна глядят. Семен тачает у одного окна, а Михайла у другого каблук набив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бежал мальчик по лавке к Михайле, оперся ему на плечо и глядит в ок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ядя Михайла, глянь-ка, купчиха с девочками, никак, к нам идет. А девочка одна хром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сказал это мальчик, Михайла бросил работу, повернулся к окну, глядит на улиц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удивился Семен. То никогда не глядит на улицу Михайла, а теперь припал к окну, глядит на что-то. Поглядел и Семен в окно; видит – вправду идет женщина к его двору, одета чисто, ведет за ручки двух девочек в шубках, в платочках в ковровых. Девочки одна в одну, разузнать нельзя. Только у одной левая ножка попорчена – идет, припад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ошла женщина на крыльцо, в сени, ощупала дверь, потянула за скобу – отворила. Пропустила вперед себя двух девочек и вошла в изб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орово, хозяе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сим милости. Что над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ла женщина к столу. Прижались ей девочки в колени, людей чудя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а вот девочкам на весну кожаные башмачки сши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 же, можно. Не шивали мы маленьких таких, да все можно. Можно рантовые, можно выворотные на холсте. Вот Михайла у меня маст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лянулся Семен на Михайлу и видит: Михайла работу бросил, сидит, глаз не сводит с девоче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одивился Семен на Михайлу. Правда, хороши, думает, девочки: черноглазенькие, пухленькие, румяненькие, и шубки и платочки на них хорошие, а все не поймет Семен, что он так приглядывается на них, точно знакомые они е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ивился Семен и стал с женщиной толковать – рядиться. Порядился, сложил мерку. Подняла себе женщина на колени хроменькую и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от с этой две мерки сними; на кривенькую ножку один башмачок сшей, а на пряменькую три. У них ножки одинакие, одна в одну. Двойни о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нял Семен мерку и говорит на хроменьку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 чего же это с ней сталось? Девочка такая хорошая. Сроду, что 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т, мать задави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упилась Матрена, хочется ей узнать, чья такая женщина и чьи дети, и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 ты разве им не мать будеш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не мать им и не родня, хозяюшка, чужие вовсе – приемыш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 свои дети, а как жалеешь 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ак мне их не жалеть, я их обеих своею грудью выкормила. Свое было детище, да бог прибрал, его так не жалела, как их жале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а чьи же о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говорилась женщина и стала рассказывать. – Годов шесть, – говорит, – тому дело было, в одну неделю обмерли сиротки эти: отца во вторник похоронили, а мать в пятницу померла. Остались обморушки эти от отца трех деньков, а мать и дня не прожила. Я в эту пору с мужем в крестьянстве жила. Соседи были, двор об двор жили. Отец их мужик одинокий был, в роще работал. Да уронили дерево как-то на него, его поперек прихватило, все нутро выдавило. Только довезли, он и отдал богу душу, а баба его в ту же неделю и роди двойню, вот этих девочек. Бедность, одиночество, одна баба была, – ни старухи, ни девчонки. Одна родила, одна и помер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шла я наутро проведать соседку, прихожу в избу, а она, сердечная, уж и застыла. Да как помирала, завалилась на девочку. Вот эту задавила – ножку вывернула. Собрался народ – обмыли, спрятали, гроб сделали, похоронили. Всё добрые люди. Остались девчонки одни. Куда их деть? А я из баб одна с ребенком была. Первенького мальчика восьмую неделю кормила. Взяла я их до времени к себе. Собрались мужики, думали, думали, куда их деть, и говорят мне: «Ты, Марья, подержи покамест девчонок у себя, а мы, дай срок, их обдумаем». А я разок покормила грудью пряменькую, а эту раздавленную и кормить не стала: не чаяла ей живой быть. Да думаю себе, за что ангельская душка млеет? Жалко стало и ту. Стала кормить, да так-то одного своего да этих двух – троих грудью и выкормила! Молода была, сила была, да и пища хорошая. И молока столько бог дал в грудях было, что зальются, бывало. Двоих кормлю, бывало, а третья ждет. Отвалится одна, третью возьму. Да так-то бог привел, что этих выкормила, а своего по второму годочку схоронила. И больше бог и детей не дал. А достаток прибавляться стал. Вот теперь живем здесь на мельнице у купца. Жалованье большое, жизнь хорошая. А детей нет. И как бы мне жить одной, кабы не девчонки эти! Как же мне их не любить! Только у меня и воску в свечке, что о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жала к себе женщина одною рукой девочку хроменькую, а другою рукой стала со щек слезы стир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здохнула Матрена и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идно, пословица не мимо молвится: без отца, матери проживут, а без бога не проживу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говорили они так промеж себя, поднялась женщина идти; проводили ее хозяева, оглянулись на Михайлу. А он сидит, сложивши руки на коленках, глядит вверх, улыба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шел к нему Семен: что, говорит, ты, Михайла! Встал Михайла с лавки, положил работу, снял фартук, поклонился хозяину с хозяйкой и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стите, хозяева. Меня бог простил. Простите и 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идят хозяева, что от Михайлы свет идет. И встал Семен, поклонился Михайле и сказал е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ижу я, Михайла, что ты не простой человек, и не могу я тебя держать, и не могу я тебя спрашивать. Скажи мне только одно: отчего, когда я нашел тебя и привел в дом, ты был пасмурен, и когда баба подала тебе ужинать, ты улыбнулся на нее и с тех пор стал светлее? Потом, когда барин заказывал сапоги, ты улыбнулся в другой раз и с тех пор стал еще светлее? И теперь, когда женщина приводила девочек, ты улыбнулся в третий раз и весь просветлел. Скажи мне, Михайла, отчего такой свет от тебя и отчего ты улыбнулся три ра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сказал Михай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того свет от меня, что я был наказан, а теперь бог простил меня. А улыбнулся я три раза оттого, что мне надо было узнать три слова божии. И я узнал слова божьи; одно слово я узнал, когда твоя жена пожалела меня, и оттого я в первый раз улыбнулся. Другое слово я узнал, когда богач заказывал сапоги, и я в другой раз улыбнулся; и теперь, когда я увидал девочек, я узнал последнее, третье слово, и я улыбнулся в третий р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сказал Сем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кажи мне, Михайла, за что бог наказал тебя и какие те слова бога, чтобы мне зн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сказал Михай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казал меня бог за то, что я ослушался его. Я был ангел на небе и ослушался бога. Был я ангел на небе, и послал меня господь вынуть из женщины душу. Слетел я на землю, вижу: лежит одна жена – больна, родила двойню, двух девочек. Копошатся девочки подле матери, и не может их мать к грудям взять. Увидала меня жена, поняла, что бог меня по душу послал, заплакала и говорит: «Ангел божий! мужа моего только схоронили, деревом в лесу убило. Нет у меня ни сестры, ни тетки, ни бабки, некому моих сирот взрастить. Не бери ты мою душеньку, дай мне самой детей вспоить, вскормить, на ноги поставить! Нельзя детям без отца, без матери прожить!» И послушал я матери, приложил одну девочку к груди, подал другую матери в руки и поднялся к господу на небо. Прилетел к господу и говорю: «Не мог я из родильницы души вынуть. Отца деревом убило, мать родила двойню и молит не брать из нее души, говорит: „Дай мне детей вспоить, вскормить, на ноги поставить. Нельзя детям без отца, без матери прожить“. Не вынул я из родильницы душу». И сказал господь: «Поди вынь из родильницы душу и узнаешь три слова: узнаешь, что есть в людях, и чего не дано людям, и чем люди живы. Когда узнаешь, вернешься на небо». Полетел я назад на землю и вынул из родильницы душ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пали младенцы от грудей. Завалилось на кровати мертвое тело, придавило одну девочку, вывернуло ей ножку. Поднялся я над селом, хотел отнести душу богу, подхватил меня ветер, повисли у меня крылья, отвалились, и пошла душа одна к богу, а я упал у дороги на зем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X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оняли Семен с Матреной, кого они одели и накормили и кто жил с ними, и заплакали они от страха и рад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сказал анг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стался я один в поле и нагой. Не знал я прежде нужды людской, не знал ни холода, ни голода, и стал человеком. Проголодался, измерз и не знал, что делать. Увидал я – в поле часовня для бога сделана, подошел к божьей часовне, хотел в ней укрыться. Часовня заперта была замком, и войти нельзя было. И сел я за часовней, чтобы укрыться от ветра. Пришел вечер, проголодался я и застыл и изболел весь. Вдруг слышу: идет человек по дороге, несет сапоги, сам с собой говорит. И увидал я впервой смертное лицо человеческое после того, как стал человеком, и страшно мне стало это лицо, отвернулся я от него. И слышу я, что говорит сам с собой этот человек о том, как ему свое тело от стужи в зиму прикрыть, как жену и детей прокормить. И подумал: «Я пропадаю от холода и голода, а вот идет человек, только о том и думает, как себя с женой шубой прикрыть и хлебом прокормить. Нельзя ему помочь мне». Увидал меня человек, нахмурился, стал еще страшнее и прошел мимо. И отчаялся я. Вдруг слышу, идет назад человек. Взглянул я и не узнал прежнего человека: то в лице его была смерть, а теперь вдруг стал живой, и в лице его я узнал бога. Подошел он ко мне, одел меня, взял с собой и повел к себе в дом. Пришел я в его дом, вышла нам навстречу женщина и стала говорить. Женщина была еще страшнее человека – мертвый дух шел у нее изо рта, и я не мог продохнуть от смрада смерти. Она хотела выгнать меня на холод, и я знал, что умрет она, если выгонит меня. И вдруг муж ее напомнил ей о боге, и женщина вдруг переменилась. И когда она подала нам ужинать, а сама глядела на меня, я взглянул на нее – в ней уже не было смерти, она была живая, и я и в ней узнал бо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спомнил я первое слово бога: «Узнаешь, что есть в людях». И я узнал, что есть в людях любовь. И обрадовался я тому, что бог уже начал открывать мне то, что обещал, и улыбнулся в первый раз. Но всего не мог я узнать еще. Не мог я понять, чего не дано людям и чем люди жи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л я жить у вас и прожил год. И приехал человек заказывать сапоги такие, чтобы год носились, не поролись, не кривились. Я взглянул на него и вдруг за плечами его увидал товарища своего, смертного ангела. Никто, кроме меня, не видал этого ангела, но я знал его и знал, что не зайдет еще солнце, как возьмется душа богача. И подумал я: «Припасает себе человек на год, а не знает, что не будет жив до вечера». И вспомнил я другое слово бога: «Узнаешь, чего не дано люд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есть в людях, я уже знал. Теперь я узнал, чего не дано людям. Не дано людям знать, чего им для своего тела нужно. И улыбнулся я в другой раз. Обрадовался я тому, что увидал товарища ангела, и тому, что бог мне другое слово откры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всего не мог я понять. Не мог еще я понять, чем люди живы. И все жил я и ждал, когда бог откроет мне последнее слово. И на шестом году пришли девочки-двойни с женщиной, и узнал я девочек, и узнал, как остались живы девочки эти. Узнал и подумал: «Просила мать за детей, и поверил я матери, – думал, что без отца, матери нельзя прожить детям, а чужая женщина вскормила, взрастила их». И когда умилилась женщина на чужих детей и заплакала, я в ней увидал живого бога и понял, чем люди живы. И узнал, что бог открыл мне последнее слово и простил меня, и улыбнулся я в третий р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X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обнажилось тело ангела, и оделся он весь светом, так что глазу нельзя смотреть на него; и заговорил он громче, как будто не из него, а с неба шел его голос. И сказал анг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знал я, что жив всякий человек не заботой о себе, а любов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дано было знать матери, чего ее детям для жизни нужно. Не дано было знать богачу, чего ему самому нужно. И не дано знать ни одному человеку – сапоги на живого или босовики ему же на мертвого к вечеру нуж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тался я жив, когда был человеком, не тем, что я сам себя обдумал, а тем, что была любовь в прохожем человеке и в жене его и они пожалели и полюбили меня. Остались живы сироты не тем, что обдумали их, а тем, что была любовь в сердце чужой женщины и она пожалела, полюбила их. И живы все люди не тем, что они сами себя обдумывают, а тем, что есть любовь в люд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л я прежде, что бог дал жизнь людям и хочет, чтобы они жили; теперь понял я еще и друго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понял, что бог не хоте</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РИ СМЕРТ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ыла осень. По большой дороге скорой рысью ехали два экипажа. В передней карете сидели две женщины. Одна была госпожа, худая и бледная. Другая горничная, глянцовито-румяная и полная. Короткие сухие волоса выбивались из-под полинявшей шляпки, красная рука в прорванной перчатке порывисто поправляла их. Высокая грудь, покрытая ковровым платком, дышала здоровьем, быстрые черные глаза то следили через окно за убегающими полями, то робко взглядывали на госпожу, то беспокойно окидывали углы кареты. Перед носом горничной качалась привешенная к сетке барынина шляпка, на коленях ее лежал щенок, ноги ее поднимались от шкатулок, стоявших на полу, и чуть слышно подбарабанивали по ним под звук тряски рессор и побрякиванья стекол.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ложив руки на коленях и закрыв глаза, госпожа слабо покачивалась на подушках, заложенных ей за спину, и, слегка наморщившись, внутрено покашливала. На голове ее был белый ночной чепчик и голубая косыночка, завязанная на нежной, бледной шее. Прямой ряд, уходя под чепчик, разделял русые, чрезвычайно плоские напомаженные волосы, и было что-то сухое, мертвенное в белизне кожи этого просторного ряда. Вялая, несколько желтоватая кожа неплотно обтягивала тонкие и красивые очертания лица и краснелась на щеках и скулах. Губы были сухи и неспокойны, редкие ресницы не курчавились, и дорожный суконный капот делал прямые складки на впалой груди. Несмотря на то, что глаза были закрыты, лицо госпожи выражало усталость, раздраженье и привычное страдань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Лакей, облокотившись на свое кресло, дремал на козлах, почтовый ямщик, покрикивая бойко, гнал крупную потную четверку, изредка оглядываясь на другого ямщика, покрикивавшего сзади в коляске. Параллельные широкие следы шин ровно и шибко стлались по известковой грязи дороги. Небо было серо и холодно, сырая мгла сыпалась на поля и дорогу. В карете было душно и пахло одеколоном и пылью. Больная потянула назад голову и медленно открыла глаза. Большие глаза были блестящи и прекрасного темного цвет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Опять, - сказала она, нервически отталкивая красивой худощавой рукой конец салопа горничной, чуть-чуть прикасавшийся к ее ноге; и рот ее болезненно изогнулся. Матреша подобрала обеими руками салоп, приподнялась на сильных ногах и села дальше. Свежее лицо ее покрылось ярким румянцем. Прекрасные темные глаза больной жадно следили за движениями горничной. Госпожа уперлась обеими руками о сиденье и также хотела приподняться, чтоб подсесть выше; но силы отказали ей. Рот ее изогнулся, и все лицо ее исказилось выражением бессильной, злой иронии. - Хоть бы ты помогла мне!.. Ах! не нужно! Я сама могу, только не клади за меня свои какие-то мешки, сделай милость!.. Да уж не трогай лучше, коли ты не умеешь! - Госпожа закрыла глаза и, снова быстро подняв веки, взглянула на горничную. Матреша, глядя на нее, кусала нижнюю красную губу. Тяжелый вздох поднялся из груди больной, но вздох, не кончившись, превратился в кашель. Она отвернулась, сморщилась и обеими руками схватилась за грудь. Когда кашель прошел, она снова закрыла глаза и продолжала сидеть неподвижно. Карета и коляска въехали в деревню. Матреша высунула толстую руку из-под платка и перекрестилас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Что это? - спросила госпож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Станция, сударын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Что ж ты крестишься, я спрашиваю?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Церковь, сударын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ольная повернулась к окну и стала медленно креститься, глядя во все большие глаза на большую деревенскую церковь, которую объезжала карета больно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арета и коляска вместе остановились у станции. Из коляски вышли муж больной женщины и доктор и подошли к карет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Как вы себя чувствуете? - спросил доктор, щупая пульс.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у, как ты, мой друг, не устала? - спросил муж по-французски. - Не хочешь ли выйт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атреша, подобрав узелки, жалась в угол, чтобы не мешать разговариват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ичего, то же самое, - отвечала больная. - Я не выйд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уж, постояв немного, вошел в станционный дом. Матреша, выскочив из кареты, на цыпочках побежала по грязи в ворот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Коли мне плохо, это не резон, чтобы вам не завтракать, - слегка улыбаясь, сказала больная доктору, который стоял у окн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икому им до меня дела нет, - прибавила она про себя, как только доктор, тихим шагом отойдя от нее, рысью взбежал на ступени станции. - Им хорошо, так и все равно. О! Боже мо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у что, Эдуард Иванович, - сказал муж, встречая доктора и с веселой улыбкой потирая руки, - я велел погребец принести, вы как думаете насчет этого?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Можно, - отвечал доктор.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у, что она? - со вздохом спросил муж, понижая голос и поднимая бров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Я говорил: она не может доехать не только до Италии, - до Москвы дай бог. Особенно по этой дорог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Так что ж делать? Ах, боже мой! боже мой! - Муж закрыл глаза рукою. Подай сюда, - прибавил он человеку, вносившему погребец.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Оставаться надо было, - пожав плечами, отвечал доктор.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Да скажите, что же я мог сделать? - возразил муж. - Ведь я употребил все, чтобы удержать ее; я говорил и о средствах, и о детях, которых мы должны оставить, и о моих делах, - она ничего слышать не хочет. Она делает планы о жизни за границей, как бы здоровая. А сказать ей о ее положении - ведь это значило бы убить е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Да она уже убита, вам надо знать это, Василий Дмитрич. Человек не может жить, когда у него нет легких, и легкие опять вырасти не могут. Грустно, тяжело, но что ж делать? Наше и ваше дело только в том, чтобы конец ее был сколь возможно спокоен. Тут духовник нужен.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Ах, боже мой! да вы поймите мое положение, напоминая ей о последней воле. Пусть будет, что будет, а я не скажу ей этого. Ведь вы знаете, как она добр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Все-таки попробуйте уговорить ее остаться до зимнего пути, - сказал доктор, значительно покачивая головой, - а то дорогой может быть худо...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Аксюша, а Аксюша! - визжала смотрительская дочь, накинув на голову кацавейку и топчась на грязном заднем крыльце. - Пойдем ширкинскую барыню посмотрим; говорят, от грудной болезни за границу везут. Я никогда еще не видала, какие в чахотке бываю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Аксюша выскочила на порог, и обе, схватившись за руки, побежали за ворота. Уменьшив шаг, они прошли мимо кареты и заглянули в опущенное окно. Больная повернула к ним голову, но, заметив их любопытство, нахмурилась и отвернулас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Мм-а-тушки! - сказала смотрительская дочь, быстро оборачивая голову. Какая была красавица чудная, нынче что стало? Страшно даже. Видела, видела, Аксюш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Да, какая худая! - поддакивала Аксюша. - Пойдем еще посмотрим, будто к колодцу. Вишь, отвернулась, а я еще видела. Как жалко, Маш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Да и грязь же какая! - отвечала Маша; и обе побежали назад в ворот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идно, я страшна стала, - думала больная. - Только бы поскорей, поскорей за границу, там я скоро поправлюс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Что, как ты, мой друг? - сказал муж, подходя к карете и прожевывая кусок.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се один и тот же вопрос, - подумала больная, - а сам ес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ичего, - пропустила она сквозь зуб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Знаешь ли, мой друг, я боюсь, тебе хуже будет от дороги в эту погоду, и Эдуард Иваныч то же говорит. Не вернуться ли нам?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на сердито молчал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Погода поправится, может быть, путь установится, и тебе бы лучше стало; мы бы и поехали все вмест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Извини меня. Ежели бы я давно тебя не слушала, я бы была теперь в Берлине и была бы совсем здоров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Что ж делать, мой ангел, невозможно было, ты знаешь. А теперь ежели бы ты осталась на месяц, ты бы славно поправилась; я бы кончил дела, и детей бы мы взял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Дети здоровы, а я не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Да ведь пойми, мой друг, что с этой погодой, ежели тебе сделается хуже дорогой... тогда по крайней мере дом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Что ж, что дома?.. Умереть дома? - вспыльчиво отвечала больная. Но слово умереть, видимо, испугало ее, она умоляюще и вопросительно посмотрела на мужа. Он опустил глаза и молчал. Рот больной вдруг детски изогнулся, и слезы полились из ее глаз. Муж закрыл лицо платком и молча отошел от карет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ет, я поеду, - сказала больная, подняла глаза к небу, сложила руки и стала шептать несвязные слова. - Боже мой! за что же? - говорила она, и слезы лились сильнее. Она долго и горячо молилась, но в груди так же было больно и тесно, в небе, в полях и по дороге было так же серо и пасмурно, и та же осенняя мгла, ни чаще, ни реже, а все так же сыпалась на грязь дороги, на крыши, на карету и на тулупы ямщиков, которые, переговариваясь сильными, веселыми голосами, мазали и закладывали карет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I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арета была заложена; но ямщик мешкал. Он зашел в ямскую избу. В избе было жарко, душно, темно и тяжело, пахло жильем, печеным хлебом, капустой и овчиной. Несколько человек ямщиков было в горнице, кухарка возилась у печи, на печи в овчинах лежал больно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Дядя Хведор! а дядя Хведор, - сказал молодой парень, ямщик в тулупе и с кнутом за поясом, входя в комнату и обращаясь к больном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Ты чаво, шабала, Федьку спрашиваешь? - отозвался один из ямщиков. Вишь, тебя в карету жду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Хочу сапог попросить; свои избил, - отвечал парень, вскидывая волосами и оправляя рукавицы за поясом. - Аль спит? А дядя Хведор? - повторил он, подходя к печ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Чаво? - послышался слабый голос, и рыжее худое лицо нагнулось с печи. Широкая, исхудалая и побледневшая рука, покрытая волосами, натягивала армяк на острое плечо в грязной рубахе. - Дай испить, брат; ты чаво?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арень подал ковшик с водо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Да что, Федя, - сказал он, переминаясь, - тебе, чай, сапог новых не надо теперь; отдай мне, ходить, чай, не будеш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ольной, припав усталой головой к глянцевитому ковшу и макая редкие отвисшие усы в темной воде, слабо и жадно пил. Спутанная борода его была нечиста, впалые, тусклые глаза с трудом поднялись на лицо парня. Отстав от воды, он хотел поднять руку, чтобы отереть мокрые губы, но не мог и отерся о рукав армяка. Молча и тяжело дыша носом, он смотрел прямо в глаза парню, сбираясь с силам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Може, ты кому пообещал уже, - сказал парень, - так даром. Главное дело, мокреть на дворе, а мне с работой ехать; я и подумал себе: дай у Федьки сапог попрошу, ему, чай, не надо. Може, тебе самому надобны, ты скаж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груди больного что-то стало переливаться и бурчать; он перегнулся и стал давиться горловым, неразрешавшимся кашлем.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Уж где надобны, - неожиданно сердито на всю избу затрещала кухарка, второй месяц с печи не слезает. Вишь, надрывается, даже у самой внутренность болит, как слышишь только. Где ему сапоги надобны? В новых сапогах хоронить не станут. А уж давно пора, прости господи согрешенье. Вишь, надрывается. Либо перевесть его, что ль, в избу в другую, или куда. Такие больницы, слышь, в городу есть; а то разве дело - занял весь угол, да и шабаш. Нет тебе простору никакого. А тоже, чистоту спрашиваю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Эй, Серега! иди садись, господа ждут, - крикнул в дверь почтовый старост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ерега хотел уйти, не дождавшись ответа, но больной глазами, во время кашля, давал ему знать, что хочет ответит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Ты сапоги возьми, Серега, - сказал он, подавив кашель и отдохнув немного. - Только, слышь, камень купи, как помру, - хрипя прибавил он.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Спасибо, дядя, так я возьму, а камень, ей-ей, куплю.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Вот, ребята, слышали, - мог выговорить еще больной и снова перегнулся вниз и стал давитьс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Ладно, слышали, - сказал один из ямщиков. - Иди, Серега, садись, а то вон опять староста бежит. Барыня, вишь, ширкинская больна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ерега живо скинул свои прорванные, несоразмерно большие сапоги и швырнул под лавку. Новые сапоги дяди Федора пришлись как раз по ногам, и Серега, поглядывая на них, вышел к карет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Эк сапоги важные! дай помажу, - сказал ямщик с помазкою в руке, в то время как Серега, влезая на козлы, подбирал вожжи. - Даром отдал?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Аль завидно, - отвечал Серега, приподнимаясь и повертывая около ног полы армяка. - Пущай! Эх вы, любезные! - крикнул он на лошадей, взмахнув кнутиком; и карета и коляска с своими седоками, чемоданами и важами, скрываясь в сером осеннем тумане, шибко покатились по мокрой дорог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ольной ямщик остался в душной избе на печи и, не выкашлявшись, через силу перевернулся на другой бок и затих.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избе до вечера приходили, уходили, обедали, - больного было не слышно. Перед ночью кухарка влезла на печь и через его ноги достала тулуп.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Ты на меня не серчай, Настасья, - проговорил больной, - скоро опростаю угол-то тво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Ладно, ладно, что ж, ничаво, - пробормотала Настасья. - Да что у тебя болит-то, дядя? Ты скаж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утро все изныло. Бог его знает что.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ебось, и глотка болит, как кашляеш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Везде больно. Смерть моя пришла - вот что. Ох, ох, ох! - простонал больно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Ты ноги-то укрой вот так, - сказала Настасья, по дороге натягивая на него армяк и слезая с печ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очью в избе слабо светил ночник. Настасья и человек десять ямщиков с громким храпом спали на полу и по лавкам. Один больной слабо кряхтел, кашлял и ворочался на печи. К утру он затих совершенно.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Чудно что-то я нынче во сне видела, - говорила кухарка, в полусвете потягиваясь на другое утро. - Вижу я, будто дядя Хведор с печи слез и пошел дрова рубить. Дай, говорит, Настя, я тебе подсоблю; а я ему говорю: куда уж тебе дрова рубить; а он как схватит топор да и почнет рубить, так шибко, шибко, только щепки летят. Что ж, я говорю, ты ведь болен был. Нет, говорит, я здоров, да как замахнется, на меня страх и нашел. Как я закричу, и проснулась. Уж не помер ли? Дядя Хведор! а дяд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Федор не откликалс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И то, не помер ли? Пойти посмотреть, - сказал один из проснувшихся ямщиков.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висшая с печи худая рука, покрытая рыжеватыми волосами, была холодна и бледн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Пойти смотрителю сказать, кажись, помер, - сказал ямщик.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одных у Федора не было - он был дальний. На другой день его похоронили на новом кладбище, за рощей, и Настасья несколько дней рассказывала всем про сон, который она видела, и про то, что она первая хватилась дяди Федор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II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ишла весна. По мокрым улицам города, между навозными льдинками, журчали торопливые ручьи; цвета одежд и звуки говора движущегося народа были ярки. В садиках за заборами пухнули почки дерев, и ветви их чуть слышно покачивались от свежего ветра. Везде лились и капали прозрачные капли... Воробьи нескладно подпискивали и подпархивали на своих маленьких крыльях. На солнечной стороне, на заборах, домах и деревьях, все двигалось и блестело. Радостно, молодо было и на небе, и на земле, и в сердце человек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одной из главных улиц, перед большим барским домом, была постелена свежая солома; в доме была та самая умирающая больная, которая спешила за границ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 затворенных дверей комнаты стояли муж больной и пожилая женщина. На диване сидел священник, опустив глаза и держа что-то завернутым в эпитрахили. В углу, в вольтеровском кресле, лежала старушка - мать больной - и горько плакала. Подле нее горничная держала на руке чистый носовой платок, дожидаясь, чтобы старушка спросила его; другая чем-то терла виски старушки и дула ей под чепчик в седую голов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у, Христос с вами, мой друг, - говорил муж пожилой женщине, стоявшей с ним у двери, - она такое имеет доверие к вам, вы так умеете говорить с ней, уговорите ее хорошенько, голубушка, идите же. - Он хотел уже отворить ей дверь; но кузина удержала его, приложила несколько раз платок к глазам и встряхнула голово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Вот теперь, кажется, я не заплакана, - сказала она и, сама отворив дверь, прошла в не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уж был в сильном волнении и казался совершенно растерян. Он направился было к старушке; но, не дойдя несколько шагов, повернулся, прошел по комнате и подошел к священнику. Священник посмотрел на него, поднял брови к небу и вздохнул. Густая с проседью бородка тоже поднялась кверху и опустилас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Боже мой! Боже мой! - сказал муж.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Что делать? - вздыхая, сказал священник, и снова брови и бородка его поднялись кверху и опустилис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И матушка тут! - почти с отчаяньем сказал муж. - Она не вынесет этого. Ведь так любить, так любить ее, как она... я не знаю. Хоть бы вы, батюшка, попытались успокоить ее и уговорить уйти отсюд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вященник встал и подошел к старушк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Точно-с, материнское сердце никто оценить не может, - сказал он, однако бог милосерд.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Лицо старушки вдруг стало все подергиваться, и с ней сделалась истерическая икот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Бог милосерд, - продолжал священник, когда она успокоилась немного. - Я вам доложу, в моем приходе был один больной, много хуже Марьи Дмитриевны, и что же, простой мещанин травами вылечил в короткое время. И даже мещанин этот самый теперь в Москве. Я говорил Василью Дмитревичу - можно бы испытать. По крайности утешенье для больной бы было. Для бога все возможно.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ет, уже ей не жить, - проговорила старушка, - чем бы меня, а ее бог берет. - И истерическая икота усилилась так, что чувства оставили е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уж больной закрыл лицо руками и выбежал из комнат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коридоре первое лицо, встретившее его, был шестилетний мальчик, во весь дух догонявший младшую девочк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Что ж детей-то, не прикажете к мамаше сводить? - спросила нян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ет, она не хочет их видеть. Это расстроит е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альчик остановился на минуту, пристально всматриваясь в лицо отца, и вдруг подбрыкнул ногой и с веселым криком побежал дальш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Это она будто бы вороная, папаша! - прокричал мальчик, указывая на сестр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ежду тем в другой комнате кузина сидела подле больной и искусно веденным разговором старалась приготовить ее к мысли о смерти. Доктор у другого окна мешал пить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ольная, в белом капоте, вся обложенная подушками, сидела на постели и молча смотрела на кузин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Ах, мой друг, - сказала она, неожиданно перебивая ее, - не приготавливайте меня. Не считайте меня за дитя. Я христианка. Я все знаю. Я знаю, что мне жить недолго, я знаю, что ежели бы муж мой раньше послушал меня, я бы была в Италии и, может быть, - даже наверно, - была бы здорова. Это все ему говорили. Но что ж делать, видно богу было так угодно. На всех нас много грехов, я знаю это; но надеюсь на милость бога; всем простится, должно быть, всем простится. Я стараюсь понять себя. И на мне было много грехов, мой друг. Но зато сколько я выстрадала. Я старалась сносить с терпением свои страдань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Так позвать батюшку, мой друг? вам будет еще легче, причастившись, сказала кузин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ольная нагнула голову в знак соглась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Боже! прости меня грешную, - прошептала он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узина вышла и мигнула батюшк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Это ангел! - сказала она мужу с слезами на глазах. Муж заплакал, священник прошел в дверь, старушка все еще была без памяти, и в первой комнате стало совершенно тихо. Через пять минут священник вышел из двери и, сняв эпитрахиль, оправил волос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Слава богу, оне спокойнее теперь, - сказал он, - желают вас видет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узина и муж вышли. Больная тихо плакала, глядя на образ.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Поздравляю тебя, мой друг, - сказал муж.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Благодарствуй! Как мне теперь хорошо стало, какую непонятную сладость я испытываю, - говорила больная, и легкая улыбка играла на ее тонких губах. Как бог милостив! Не правда ли, он милостив и всемогущ? - И она снова с жадной мольбой смотрела полными слез глазами на образ.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том вдруг как будто что-то вспомнилось ей. Она знаками подозвала к себе муж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Ты никогда не хочешь сделать, что я прошу, - сказала она слабым и недовольным голосом.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уж, вытянув шею, покорно слушал е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Что, мой друг?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Сколько раз я говорила, что эти доктора ничего не знают; есть простые лекарки, они вылечивают... Вот батюшка говорил... мещанин... Пошл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За кем, мой друг?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Боже мой! ничего не хочет понимать!.. - И больная сморщилась и закрыла глаз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октор, подойдя к ней, взял ее за руку. Пульс заметно бился слабее и слабее. Он мигнул мужу. Больная заметила этот жест и испуганно оглянулась. Кузина отвернулась и заплакал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е плачь, не мучь себя и меня, - говорила больная, - это отнимает у меня последнее спокойстви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Ты ангел! - сказала кузина, целуя ее рук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ет, сюда поцелуй, только мертвых целуют в руку. Боже мой! Боже мо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тот же вечер больная уже была тело, и тело в гробу стояло в зале большого дома. В большой комнате с затворенными дверями сидел один дьячок и в нос, мерным голосом, читал песни Давида. Яркий восковой свет с высоких серебряных подсвечников падал на бледный лоб усопшей, на тяжелые восковые руки и окаменелые складки покрова, страшно поднимающегося на коленах и пальцах ног. Дьячок, не понимая своих слов, мерно читал, и в тихой комнате странно звучали и замирали слова. Изредка из дальней комнаты долетали звуки детских голосов и их топот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окроешь лицо твое - смущаются, - гласил псалтырь, - возьмешь от них дух - умирают и в прах свой возвращаются. Пошлешь дух твой - созидаются и обновляют лицо земли. Да будет господу слава вовек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Лицо усопшей было строго, спокойно и величаво. Ни в чистом холодном лбе, ни в твердо сложенных устах ничто не двигалось. Она вся была внимание. Но понимала ли она хоть теперь великие слова эт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IV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Через месяц над могилой усопшей воздвиглась каменная часовня. Над могилой ямщика все еще не было камня, и только светло-зеленая трава пробивала над бугорком, служившим единственным признаком прошедшего существования человек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А грех тебе будет, Серега, - говорила раз кухарка на станции, - коли ты Хведору камня не купишь. То говорил: зима, зима, а нынче что ж слова не держишь? Ведь при мне было. Он уж приходил к тебе раз просить: не купишь, еще раз придет, душить стане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Да что, я разве отрекаюсь, - отвечал Серега, - я камень куплю, как сказал, куплю, в полтора целковых куплю. Я не забыл, да ведь привезть надо. Как случай в город будет, так и куплю.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Ты бы хошь крест поставил, вот что, - отозвался старый ямщик, - а то впрямь дурно. Сапоги-то носиш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Где его возьмешь крест-то? из полена не вытешеш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Что говоришь-то? Из полена не вытешешь, возьми топор да в рощу пораньше сходи, вот и вытешешь. Ясенку ли, что ли, срубишь. Вот и голубец будет. А то, поди, еще объездчика пой водкой. За всякой дрянью поить не наготовишься. Вон я намедни вагу сломал, новую вырубил важную, никто слова не сказал.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анним утром, чуть зорька, Серега взял топор и пошел в рощ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всем лежал холодный матовый покров еще падавшей, не освещенной солнцем росы. Восток незаметно яснел, отражая свой слабый свет на подернутом тонкими тучами своде неба. Ни одна травка внизу, ни один лист на верхней ветви дерева не шевелились. Только изредка слышавшиеся звуки крыльев в чаще дерева или шелеста по земле нарушали тишину леса. Вдруг странный, чуждый природе звук разнесся и замер на опушке леса. Но снова послышался звук и равномерно стал повторяться внизу около ствола одного из неподвижных деревьев. Одна из макуш необычайно затрепетала, сочные листья ее зашептали что-то, и малиновка, сидевшая на одной из ветвей ее, со свистом перепорхнула два раза и, подергивая хвостиком, села на другое дерево.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опор низом звучал глуше и глуше, сочные белые щепки летели на росистую траву, и легкий треск послышался из-за ударов. Дерево вздрогнуло всем телом, погнулось и быстро выпрямилось, испуганно колебаясь на своем корне. На мгновенье все затихло, но снова погнулось дерево, снова послышался треск в его стволе, и, ломая сучья и спустив ветви, оно рухнулось макушей на сырую землю. Звуки топора и шагов затихли. Малиновка свистнула и вспорхнула выше. Ветка, которую она зацепила своими крыльями, покачалась несколько времени и замерла, как и другие, со всеми своими листьями. Деревья еще радостнее красовались на новом просторе своими неподвижными ветвям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ервые лучи солнца, пробив сквозившую тучу, блеснули в небе и пробежали по земле и небу. Туман волнами стал переливаться в лощинах, роса, блестя, заиграла на зелени, прозрачные побелевшие тучки спеша разбегались по синевшему своду. Птицы гомозились в чаще и, как потерянные, щебетали что-то счастливое; сочные листья радостно и спокойно шептались в вершинах, и ветви живых дерев медленно, величаво зашевелились над мертвым, поникшим деревом.</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88FB0-81A9-4ACC-81DD-AC60C17BC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438C1-95B3-4AC5-A47A-84F376B38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83E99-239E-4C1E-918F-8977E509A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1B97F-B3A4-455A-8C9A-E57C0D26B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0BEA2-C192-405B-844D-7EF13BD98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E23DA-99E4-4EC6-8B0D-266D7D667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E49DF-EB86-413C-832A-586A155AA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72AF6-C471-4ED8-AD33-4E3163BDC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8E68D-5376-4857-BC94-93CE82A72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3AF23-F14E-4290-BB27-E00610864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4B288-A15F-4C2F-BCC1-DF687E9B6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11EAD-8D2B-4358-B0F8-D9DE6E199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F5FBE-E7BF-4EFF-A487-5AE79FF674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Анализ </a:t>
            </a:r>
            <a:br>
              <a:rPr sz="4400"/>
            </a:br>
            <a:r>
              <a:rPr b="1" lang="en-US" sz="4400" spc="-1" strike="noStrike">
                <a:solidFill>
                  <a:srgbClr val="663300"/>
                </a:solidFill>
                <a:latin typeface="Arial"/>
              </a:rPr>
              <a:t>художественного текста</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Тема 9</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 </a:t>
            </a:r>
            <a:r>
              <a:rPr b="1" lang="en-US" sz="2800" spc="-1" strike="noStrike">
                <a:solidFill>
                  <a:srgbClr val="663300"/>
                </a:solidFill>
                <a:latin typeface="Arial"/>
              </a:rPr>
              <a:t>Композиция художественного произведения</a:t>
            </a:r>
            <a:endParaRPr b="0" lang="en-US" sz="2800" spc="-1" strike="noStrike">
              <a:solidFill>
                <a:srgbClr val="000000"/>
              </a:solidFill>
              <a:latin typeface="Arial"/>
            </a:endParaRPr>
          </a:p>
        </p:txBody>
      </p:sp>
      <p:pic>
        <p:nvPicPr>
          <p:cNvPr id="51" name="" descr=""/>
          <p:cNvPicPr/>
          <p:nvPr/>
        </p:nvPicPr>
        <p:blipFill>
          <a:blip r:embed="rId2"/>
          <a:stretch/>
        </p:blipFill>
        <p:spPr>
          <a:xfrm>
            <a:off x="3924360" y="544680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684360" y="18900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Домашнее задание</a:t>
            </a:r>
            <a:endParaRPr b="0" lang="en-US" sz="3600" spc="-1" strike="noStrike">
              <a:solidFill>
                <a:srgbClr val="000000"/>
              </a:solidFill>
              <a:latin typeface="Arial"/>
            </a:endParaRPr>
          </a:p>
        </p:txBody>
      </p:sp>
      <p:sp>
        <p:nvSpPr>
          <p:cNvPr id="76" name="PlaceHolder 2"/>
          <p:cNvSpPr>
            <a:spLocks noGrp="1"/>
          </p:cNvSpPr>
          <p:nvPr>
            <p:ph/>
          </p:nvPr>
        </p:nvSpPr>
        <p:spPr>
          <a:xfrm>
            <a:off x="610920" y="981000"/>
            <a:ext cx="8281800" cy="4781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lang="en-US" sz="2800" spc="-1" strike="noStrike">
                <a:solidFill>
                  <a:srgbClr val="663300"/>
                </a:solidFill>
                <a:latin typeface="Arial"/>
              </a:rPr>
              <a:t>Прочитайте рассказ Л.Н.Толстого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lang="en-US" sz="2800" spc="-1" strike="noStrike">
                <a:solidFill>
                  <a:srgbClr val="663300"/>
                </a:solidFill>
                <a:latin typeface="Arial"/>
              </a:rPr>
              <a:t>«Чем люди живы» и ответьте на вопросы:</a:t>
            </a:r>
            <a:endParaRPr b="0" lang="en-US" sz="2800" spc="-1" strike="noStrike">
              <a:solidFill>
                <a:srgbClr val="000000"/>
              </a:solidFill>
              <a:latin typeface="Arial"/>
            </a:endParaRPr>
          </a:p>
          <a:p>
            <a:pPr marL="343080" indent="-34308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Каким в 1 части представляется мир человеческих отношений?</a:t>
            </a:r>
            <a:endParaRPr b="0" lang="en-US" sz="2800" spc="-1" strike="noStrike">
              <a:solidFill>
                <a:srgbClr val="000000"/>
              </a:solidFill>
              <a:latin typeface="Arial"/>
            </a:endParaRPr>
          </a:p>
          <a:p>
            <a:pPr marL="343080" indent="-34308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Какие законы жизни человеческой души открываются в каждой части?</a:t>
            </a:r>
            <a:endParaRPr b="0" lang="en-US" sz="2800" spc="-1" strike="noStrike">
              <a:solidFill>
                <a:srgbClr val="000000"/>
              </a:solidFill>
              <a:latin typeface="Arial"/>
            </a:endParaRPr>
          </a:p>
          <a:p>
            <a:pPr marL="343080" indent="-34308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На каких повторах строится рассказ?</a:t>
            </a:r>
            <a:endParaRPr b="0" lang="en-US" sz="2800" spc="-1" strike="noStrike">
              <a:solidFill>
                <a:srgbClr val="000000"/>
              </a:solidFill>
              <a:latin typeface="Arial"/>
            </a:endParaRPr>
          </a:p>
          <a:p>
            <a:pPr marL="343080" indent="-34308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Как соотносится образ Матрены с образом женщины, вырастившей девочек?</a:t>
            </a:r>
            <a:endParaRPr b="0" lang="en-US" sz="2800" spc="-1" strike="noStrike">
              <a:solidFill>
                <a:srgbClr val="000000"/>
              </a:solidFill>
              <a:latin typeface="Arial"/>
            </a:endParaRPr>
          </a:p>
          <a:p>
            <a:pPr marL="343080" indent="-34308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Докажите, что грех ангела присущ большей части героев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Литература выделяет три уровня художественной формы:</a:t>
            </a:r>
            <a:endParaRPr b="0" lang="en-US" sz="3600" spc="-1" strike="noStrike">
              <a:solidFill>
                <a:srgbClr val="000000"/>
              </a:solidFill>
              <a:latin typeface="Arial"/>
            </a:endParaRPr>
          </a:p>
        </p:txBody>
      </p:sp>
      <p:sp>
        <p:nvSpPr>
          <p:cNvPr id="54" name="PlaceHolder 2"/>
          <p:cNvSpPr>
            <a:spLocks noGrp="1"/>
          </p:cNvSpPr>
          <p:nvPr>
            <p:ph/>
          </p:nvPr>
        </p:nvSpPr>
        <p:spPr>
          <a:xfrm>
            <a:off x="971640" y="2076480"/>
            <a:ext cx="7488000" cy="4781520"/>
          </a:xfrm>
          <a:prstGeom prst="rect">
            <a:avLst/>
          </a:prstGeom>
          <a:noFill/>
          <a:ln w="0">
            <a:noFill/>
          </a:ln>
        </p:spPr>
        <p:txBody>
          <a:bodyPr lIns="90000" rIns="90000" tIns="46800" bIns="46800" anchor="t">
            <a:normAutofit/>
          </a:bodyPr>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3300"/>
                </a:solidFill>
                <a:uFillTx/>
                <a:latin typeface="Arial"/>
              </a:rPr>
              <a:t>Речевой строй произведения</a:t>
            </a:r>
            <a:r>
              <a:rPr b="0" lang="en-US" sz="3200" spc="-1" strike="noStrike">
                <a:solidFill>
                  <a:srgbClr val="663300"/>
                </a:solidFill>
                <a:latin typeface="Arial"/>
              </a:rPr>
              <a:t> (ритм, темп, особенности синтаксиса, средства выразительности);</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3300"/>
                </a:solidFill>
                <a:uFillTx/>
                <a:latin typeface="Arial"/>
              </a:rPr>
              <a:t>Предметная изобразительность</a:t>
            </a:r>
            <a:r>
              <a:rPr b="0" lang="en-US" sz="3200" spc="-1" strike="noStrike">
                <a:solidFill>
                  <a:srgbClr val="663300"/>
                </a:solidFill>
                <a:latin typeface="Arial"/>
              </a:rPr>
              <a:t> (персонажи и события, портрет, пейзаж, интерьер);</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3300"/>
                </a:solidFill>
                <a:uFillTx/>
                <a:latin typeface="Arial"/>
              </a:rPr>
              <a:t>Композиция</a:t>
            </a:r>
            <a:r>
              <a:rPr b="0" lang="en-US" sz="3200" spc="-1" strike="noStrike">
                <a:solidFill>
                  <a:srgbClr val="6633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Arial"/>
              </a:rPr>
              <a:t>Композиция-</a:t>
            </a:r>
            <a:endParaRPr b="0" lang="en-US" sz="4000" spc="-1" strike="noStrike">
              <a:solidFill>
                <a:srgbClr val="000000"/>
              </a:solidFill>
              <a:latin typeface="Arial"/>
            </a:endParaRPr>
          </a:p>
        </p:txBody>
      </p:sp>
      <p:sp>
        <p:nvSpPr>
          <p:cNvPr id="57" name="PlaceHolder 2"/>
          <p:cNvSpPr>
            <a:spLocks noGrp="1"/>
          </p:cNvSpPr>
          <p:nvPr>
            <p:ph/>
          </p:nvPr>
        </p:nvSpPr>
        <p:spPr>
          <a:xfrm>
            <a:off x="610920" y="1413000"/>
            <a:ext cx="8281800" cy="4781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дисциплинирующая сила и организатор произведения», «ее цель- расположить все куски так, чтобы они замыкались в полное выражение иде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П.В.Палиевски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684360" y="333360"/>
            <a:ext cx="8229600" cy="619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        </a:t>
            </a:r>
            <a:r>
              <a:rPr b="1" lang="en-US" sz="3600" spc="-1" strike="noStrike">
                <a:solidFill>
                  <a:srgbClr val="663300"/>
                </a:solidFill>
                <a:latin typeface="Arial"/>
              </a:rPr>
              <a:t>При анализе композиции  </a:t>
            </a:r>
            <a:br>
              <a:rPr sz="3600"/>
            </a:br>
            <a:r>
              <a:rPr b="1" lang="en-US" sz="3600" spc="-1" strike="noStrike">
                <a:solidFill>
                  <a:srgbClr val="663300"/>
                </a:solidFill>
                <a:latin typeface="Arial"/>
              </a:rPr>
              <a:t>        обращается внимание на: </a:t>
            </a:r>
            <a:br>
              <a:rPr sz="3600"/>
            </a:br>
            <a:r>
              <a:rPr b="0" lang="en-US" sz="2800" spc="-1" strike="noStrike">
                <a:solidFill>
                  <a:srgbClr val="663300"/>
                </a:solidFill>
                <a:latin typeface="Arial"/>
              </a:rPr>
              <a:t>- стадии развития действия,</a:t>
            </a:r>
            <a:br>
              <a:rPr sz="2800"/>
            </a:br>
            <a:r>
              <a:rPr b="0" lang="en-US" sz="2800" spc="-1" strike="noStrike">
                <a:solidFill>
                  <a:srgbClr val="663300"/>
                </a:solidFill>
                <a:latin typeface="Arial"/>
              </a:rPr>
              <a:t>- соотнесенность частей и глав,</a:t>
            </a:r>
            <a:br>
              <a:rPr sz="2800"/>
            </a:br>
            <a:r>
              <a:rPr b="0" lang="en-US" sz="2800" spc="-1" strike="noStrike">
                <a:solidFill>
                  <a:srgbClr val="663300"/>
                </a:solidFill>
                <a:latin typeface="Arial"/>
              </a:rPr>
              <a:t>-</a:t>
            </a:r>
            <a:r>
              <a:rPr b="1" lang="en-US" sz="3600" spc="-1" strike="noStrike">
                <a:solidFill>
                  <a:srgbClr val="663300"/>
                </a:solidFill>
                <a:latin typeface="Arial"/>
              </a:rPr>
              <a:t> </a:t>
            </a:r>
            <a:r>
              <a:rPr b="0" lang="en-US" sz="2800" spc="-1" strike="noStrike">
                <a:solidFill>
                  <a:srgbClr val="663300"/>
                </a:solidFill>
                <a:latin typeface="Arial"/>
              </a:rPr>
              <a:t>взаимодействие сюжетных и внесюжетных эпизодов ( лирических отступлений, вставных рассказов, снов, песен, писем…),</a:t>
            </a:r>
            <a:br>
              <a:rPr sz="2800"/>
            </a:br>
            <a:r>
              <a:rPr b="0" lang="en-US" sz="2800" spc="-1" strike="noStrike">
                <a:solidFill>
                  <a:srgbClr val="663300"/>
                </a:solidFill>
                <a:latin typeface="Arial"/>
              </a:rPr>
              <a:t>- систему персонажей (группировка, двойники, антагонисты…),</a:t>
            </a:r>
            <a:br>
              <a:rPr sz="2800"/>
            </a:br>
            <a:r>
              <a:rPr b="0" lang="en-US" sz="2800" spc="-1" strike="noStrike">
                <a:solidFill>
                  <a:srgbClr val="663300"/>
                </a:solidFill>
                <a:latin typeface="Arial"/>
              </a:rPr>
              <a:t>- пейзажные и портретные зарисовки, интерьер…</a:t>
            </a:r>
            <a:endParaRPr b="0" lang="en-US" sz="2800" spc="-1" strike="noStrike">
              <a:solidFill>
                <a:srgbClr val="000000"/>
              </a:solidFill>
              <a:latin typeface="Arial"/>
            </a:endParaRPr>
          </a:p>
        </p:txBody>
      </p:sp>
      <p:sp>
        <p:nvSpPr>
          <p:cNvPr id="60" name="PlaceHolder 2"/>
          <p:cNvSpPr>
            <a:spLocks noGrp="1"/>
          </p:cNvSpPr>
          <p:nvPr>
            <p:ph/>
          </p:nvPr>
        </p:nvSpPr>
        <p:spPr>
          <a:xfrm>
            <a:off x="610920" y="1413000"/>
            <a:ext cx="8281800" cy="4781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Arial"/>
              </a:rPr>
              <a:t>Композиционные приемы:</a:t>
            </a:r>
            <a:endParaRPr b="0" lang="en-US" sz="4000" spc="-1" strike="noStrike">
              <a:solidFill>
                <a:srgbClr val="000000"/>
              </a:solidFill>
              <a:latin typeface="Arial"/>
            </a:endParaRPr>
          </a:p>
        </p:txBody>
      </p:sp>
      <p:sp>
        <p:nvSpPr>
          <p:cNvPr id="63" name="PlaceHolder 2"/>
          <p:cNvSpPr>
            <a:spLocks noGrp="1"/>
          </p:cNvSpPr>
          <p:nvPr>
            <p:ph/>
          </p:nvPr>
        </p:nvSpPr>
        <p:spPr>
          <a:xfrm>
            <a:off x="1042560" y="1341360"/>
            <a:ext cx="7488360" cy="4781520"/>
          </a:xfrm>
          <a:prstGeom prst="rect">
            <a:avLst/>
          </a:prstGeom>
          <a:noFill/>
          <a:ln w="0">
            <a:noFill/>
          </a:ln>
        </p:spPr>
        <p:txBody>
          <a:bodyPr lIns="90000" rIns="90000" tIns="46800" bIns="46800" anchor="t">
            <a:normAutofit/>
          </a:bodyPr>
          <a:p>
            <a:pPr marL="343080" indent="-343080">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обрамление повествования,</a:t>
            </a:r>
            <a:endParaRPr b="0" lang="en-US" sz="3200" spc="-1" strike="noStrike">
              <a:solidFill>
                <a:srgbClr val="000000"/>
              </a:solidFill>
              <a:latin typeface="Arial"/>
            </a:endParaRPr>
          </a:p>
          <a:p>
            <a:pPr marL="343080" indent="-343080">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нарушение хронологии,</a:t>
            </a:r>
            <a:endParaRPr b="0" lang="en-US" sz="3200" spc="-1" strike="noStrike">
              <a:solidFill>
                <a:srgbClr val="000000"/>
              </a:solidFill>
              <a:latin typeface="Arial"/>
            </a:endParaRPr>
          </a:p>
          <a:p>
            <a:pPr marL="343080" indent="-343080">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умолчание,</a:t>
            </a:r>
            <a:endParaRPr b="0" lang="en-US" sz="3200" spc="-1" strike="noStrike">
              <a:solidFill>
                <a:srgbClr val="000000"/>
              </a:solidFill>
              <a:latin typeface="Arial"/>
            </a:endParaRPr>
          </a:p>
          <a:p>
            <a:pPr marL="343080" indent="-343080">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повторы,</a:t>
            </a:r>
            <a:endParaRPr b="0" lang="en-US" sz="3200" spc="-1" strike="noStrike">
              <a:solidFill>
                <a:srgbClr val="000000"/>
              </a:solidFill>
              <a:latin typeface="Arial"/>
            </a:endParaRPr>
          </a:p>
          <a:p>
            <a:pPr marL="343080" indent="-343080">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лейтмотивы,</a:t>
            </a:r>
            <a:endParaRPr b="0" lang="en-US" sz="3200" spc="-1" strike="noStrike">
              <a:solidFill>
                <a:srgbClr val="000000"/>
              </a:solidFill>
              <a:latin typeface="Arial"/>
            </a:endParaRPr>
          </a:p>
          <a:p>
            <a:pPr marL="343080" indent="-343080">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сопоставление и противопоставление,</a:t>
            </a:r>
            <a:endParaRPr b="0" lang="en-US" sz="3200" spc="-1" strike="noStrike">
              <a:solidFill>
                <a:srgbClr val="000000"/>
              </a:solidFill>
              <a:latin typeface="Arial"/>
            </a:endParaRPr>
          </a:p>
          <a:p>
            <a:pPr marL="343080" indent="-343080">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смена точек зрения на повествование…</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Arial"/>
              </a:rPr>
              <a:t>Типы композиций</a:t>
            </a:r>
            <a:endParaRPr b="0" lang="en-US" sz="4000" spc="-1" strike="noStrike">
              <a:solidFill>
                <a:srgbClr val="000000"/>
              </a:solidFill>
              <a:latin typeface="Arial"/>
            </a:endParaRPr>
          </a:p>
        </p:txBody>
      </p:sp>
      <p:sp>
        <p:nvSpPr>
          <p:cNvPr id="66" name="PlaceHolder 2"/>
          <p:cNvSpPr>
            <a:spLocks noGrp="1"/>
          </p:cNvSpPr>
          <p:nvPr>
            <p:ph/>
          </p:nvPr>
        </p:nvSpPr>
        <p:spPr>
          <a:xfrm>
            <a:off x="971640" y="1484280"/>
            <a:ext cx="7488000" cy="4781520"/>
          </a:xfrm>
          <a:prstGeom prst="rect">
            <a:avLst/>
          </a:prstGeom>
          <a:noFill/>
          <a:ln w="0">
            <a:noFill/>
          </a:ln>
        </p:spPr>
        <p:txBody>
          <a:bodyPr lIns="90000" rIns="90000" tIns="46800" bIns="46800" anchor="t">
            <a:normAutofit/>
          </a:bodyPr>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строгая соразмерность всех частей ( античность, классицизм);</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последовательное чередование частей («Обломов»);</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свободное чередование эпизодов со вставными конструкциями («Евгений Онеги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899640" y="620640"/>
            <a:ext cx="7488360" cy="5904000"/>
          </a:xfrm>
          <a:prstGeom prst="rect">
            <a:avLst/>
          </a:prstGeom>
          <a:noFill/>
          <a:ln w="0">
            <a:noFill/>
          </a:ln>
        </p:spPr>
        <p:txBody>
          <a:bodyPr lIns="90000" rIns="90000" tIns="46800" bIns="46800" anchor="t">
            <a:normAutofit/>
          </a:bodyPr>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Кольцевая композиция («Обломов»);</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Зеркальная («Евгений Онегин»);</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Рамочная («После бала»);</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Монтажная («Три смерт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i="1" lang="en-US" sz="2800" spc="-1" strike="noStrike">
                <a:solidFill>
                  <a:srgbClr val="663300"/>
                </a:solidFill>
                <a:latin typeface="Arial"/>
              </a:rPr>
              <a:t>«В настоящем художественном произведении…нельзя вынуть один стих, одну сцену, одну фигуру, один такт из своего места и поставить в другое, не нарушив значение всего произведения».</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lang="en-US" sz="2800" spc="-1" strike="noStrike">
                <a:solidFill>
                  <a:srgbClr val="663300"/>
                </a:solidFill>
                <a:latin typeface="Arial"/>
              </a:rPr>
              <a:t>Л.Н.Толсто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684360" y="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Вопросы и задания</a:t>
            </a:r>
            <a:endParaRPr b="0" lang="en-US" sz="3600" spc="-1" strike="noStrike">
              <a:solidFill>
                <a:srgbClr val="000000"/>
              </a:solidFill>
              <a:latin typeface="Arial"/>
            </a:endParaRPr>
          </a:p>
        </p:txBody>
      </p:sp>
      <p:sp>
        <p:nvSpPr>
          <p:cNvPr id="71" name="PlaceHolder 2"/>
          <p:cNvSpPr>
            <a:spLocks noGrp="1"/>
          </p:cNvSpPr>
          <p:nvPr>
            <p:ph/>
          </p:nvPr>
        </p:nvSpPr>
        <p:spPr>
          <a:xfrm>
            <a:off x="611280" y="620280"/>
            <a:ext cx="8208720" cy="5472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Прочитайте рассказ Л.Н.Толстого «Три смерти» и ответьте на вопросы:</a:t>
            </a:r>
            <a:endParaRPr b="0" lang="en-US" sz="2400" spc="-1" strike="noStrike">
              <a:solidFill>
                <a:srgbClr val="000000"/>
              </a:solidFill>
              <a:latin typeface="Arial"/>
            </a:endParaRPr>
          </a:p>
          <a:p>
            <a:pPr marL="339480" indent="-3394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С какой целью автор в 1 абзаце изображает картину по принципу сужения пространства?</a:t>
            </a:r>
            <a:endParaRPr b="0" lang="en-US" sz="2400" spc="-1" strike="noStrike">
              <a:solidFill>
                <a:srgbClr val="000000"/>
              </a:solidFill>
              <a:latin typeface="Arial"/>
            </a:endParaRPr>
          </a:p>
          <a:p>
            <a:pPr marL="339480" indent="-3394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Как пейзажные зарисовки в 1 части связаны с идеей рассказа?</a:t>
            </a:r>
            <a:endParaRPr b="0" lang="en-US" sz="2400" spc="-1" strike="noStrike">
              <a:solidFill>
                <a:srgbClr val="000000"/>
              </a:solidFill>
              <a:latin typeface="Arial"/>
            </a:endParaRPr>
          </a:p>
          <a:p>
            <a:pPr marL="339480" indent="-3394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В 1 части даны 2 портрета: госпожи и горничной. Как они вводятся и на какие мысли наводит их сопоставление?</a:t>
            </a:r>
            <a:endParaRPr b="0" lang="en-US" sz="2400" spc="-1" strike="noStrike">
              <a:solidFill>
                <a:srgbClr val="000000"/>
              </a:solidFill>
              <a:latin typeface="Arial"/>
            </a:endParaRPr>
          </a:p>
          <a:p>
            <a:pPr marL="339480" indent="-3394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В 1 части  героини крестятся на церковь. С какими эпизодами 3 части взаимодействует этот фрагмент?</a:t>
            </a:r>
            <a:endParaRPr b="0" lang="en-US" sz="2400" spc="-1" strike="noStrike">
              <a:solidFill>
                <a:srgbClr val="000000"/>
              </a:solidFill>
              <a:latin typeface="Arial"/>
            </a:endParaRPr>
          </a:p>
          <a:p>
            <a:pPr marL="339480" indent="-3394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С какой целью введен эпизод с девочками, побежавшими смотреть больную барыню?</a:t>
            </a:r>
            <a:endParaRPr b="0" lang="en-US" sz="2400" spc="-1" strike="noStrike">
              <a:solidFill>
                <a:srgbClr val="000000"/>
              </a:solidFill>
              <a:latin typeface="Arial"/>
            </a:endParaRPr>
          </a:p>
          <a:p>
            <a:pPr marL="339480" indent="-3394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Как разговор о детях помогает понять характер барыни? Как тема детей развивается в 3 части?</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468000" y="90000"/>
            <a:ext cx="8675640" cy="7226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  </a:t>
            </a:r>
            <a:r>
              <a:rPr b="0" lang="en-US" sz="2400" spc="-1" strike="noStrike">
                <a:solidFill>
                  <a:srgbClr val="663300"/>
                </a:solidFill>
                <a:latin typeface="Arial"/>
              </a:rPr>
              <a:t>Вычлените внутренние реплики больной барыни. Какая между ними связь? Как это помогает понять характер барыни?</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Какая реплика будет повторена и на что это указывает?</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Почему 1 часть завершается многоточием и отточием?</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Толстой в комментариях назвал барыню «жалкой и гадкой». Почему?</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Проанализируйте диалог ямщика и больного Федора. Сопоставьте его с диалогом барыни и мужа. Какие авторские мысли становятся очевидными?</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В чем символический смысл сна кухарки? Как он помогает понять образ Федора?</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Какая цитата из Псалтыри № часть) связана с идеей рассказа?</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В чем смысл деления рассказа на 4 части? Какие темы и проблемы являются сквозными?</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Какова роль приемов контраста и антитезы?</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В композиции есть хронологические смещения, пропуск эпизодов. Какие задачи решает такая композици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16:04:33Z</dcterms:created>
  <dc:creator>Катрин</dc:creator>
  <dc:description/>
  <dc:language>en-US</dc:language>
  <cp:lastModifiedBy>Катрин</cp:lastModifiedBy>
  <dcterms:modified xsi:type="dcterms:W3CDTF">2010-06-16T19:26:48Z</dcterms:modified>
  <cp:revision>3</cp:revision>
  <dc:subject/>
  <dc:title>Анализ  художественного текста</dc:title>
</cp:coreProperties>
</file>