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544-CEA0-44A8-B635-B0EDBB27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A68-2E14-434A-922A-4FA075A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E47-FFC6-46EE-B0E4-0215E8A6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69E-1094-4AC6-B3B1-0DD0C0E1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FE6E-DBBF-4D00-A336-E4A48F80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669F-7F48-4B02-9FC1-A599144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7EE-22FD-4F27-9491-B4C1B2A0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52C-4D0F-4F66-A934-3B2BD61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653-00CB-4AE6-8B85-F22E4E3D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7436-57BF-41F8-AB53-193C74B9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5A4F-4EEB-44D6-B13C-132FC11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290-6016-45EA-8B30-3E0E1A0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8C90-BD91-491F-A889-5261855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44AA-3A86-4FB3-8AE4-DC61233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EB6B-5F55-4F9C-9229-3BC6CA0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8A57-0679-483F-BD16-9B1B277F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CFB-DF13-4B91-83D1-96DDC9F2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905-1917-464A-81FC-B82F00C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297-B079-4852-97FF-7D4E48C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888-C19B-4B58-82D0-279E3DE1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01D-1B0B-4F21-95AE-E907439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7F1-0373-43E4-84AA-560FC4D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ABC-6416-4762-9778-D1F71B26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987-9C11-400D-B74F-066D74D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0891-A566-4754-8941-6A5CD7365A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B367-BF9D-4D5F-9B71-6E3ADFF545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Способы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219320" y="45720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оксиды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амфотер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33520" y="1676520"/>
            <a:ext cx="8076960" cy="2361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кислот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2НС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→ Zn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 Н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кислотными оксид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Si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Si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33520" y="4191120"/>
            <a:ext cx="8153280" cy="24382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основания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2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Н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Н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основными оксид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Mg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MgZn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Копия J0233971_WMF"/>
          <p:cNvPicPr/>
          <p:nvPr/>
        </p:nvPicPr>
        <p:blipFill>
          <a:blip r:embed="rId1"/>
          <a:stretch/>
        </p:blipFill>
        <p:spPr>
          <a:xfrm>
            <a:off x="152280" y="304920"/>
            <a:ext cx="698760" cy="129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Способы получения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Горение сложных вещест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С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4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2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= С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2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Горение простых веществ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Mg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Mg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Разложение сложных вещест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1. Нерастворимых оснований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u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Н)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u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+ 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2. Некоторых кис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iO</a:t>
            </a:r>
            <a:r>
              <a:rPr b="1" i="1" lang="ru-RU" sz="30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= SiO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+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3. Некоторых с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СаСО</a:t>
            </a:r>
            <a:r>
              <a:rPr b="1" i="1" lang="ru-RU" sz="30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= С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fire16"/>
          <p:cNvPicPr/>
          <p:nvPr/>
        </p:nvPicPr>
        <p:blipFill>
          <a:blip r:embed="rId1"/>
          <a:stretch/>
        </p:blipFill>
        <p:spPr>
          <a:xfrm>
            <a:off x="6937200" y="3581280"/>
            <a:ext cx="1549440" cy="289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Классификация оксидов по химическим свойства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71800" y="1523880"/>
            <a:ext cx="2819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99"/>
                </a:solidFill>
                <a:latin typeface="Arial"/>
              </a:rPr>
              <a:t>ОКС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rot="8919600">
            <a:off x="1793880" y="2355480"/>
            <a:ext cx="1295280" cy="325440"/>
          </a:xfrm>
          <a:prstGeom prst="rightArrow">
            <a:avLst>
              <a:gd name="adj1" fmla="val 50000"/>
              <a:gd name="adj2" fmla="val 9950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rot="2005200">
            <a:off x="5367240" y="2273400"/>
            <a:ext cx="1204920" cy="333360"/>
          </a:xfrm>
          <a:prstGeom prst="rightArrow">
            <a:avLst>
              <a:gd name="adj1" fmla="val 50000"/>
              <a:gd name="adj2" fmla="val 903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rot="9052800">
            <a:off x="2819520" y="4267080"/>
            <a:ext cx="2743200" cy="177840"/>
          </a:xfrm>
          <a:prstGeom prst="rightArrow">
            <a:avLst>
              <a:gd name="adj1" fmla="val 50000"/>
              <a:gd name="adj2" fmla="val 3856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 rot="4705200">
            <a:off x="6424560" y="4167000"/>
            <a:ext cx="1600200" cy="123840"/>
          </a:xfrm>
          <a:prstGeom prst="rightArrow">
            <a:avLst>
              <a:gd name="adj1" fmla="val 50000"/>
              <a:gd name="adj2" fmla="val 32303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7089000">
            <a:off x="4755600" y="4159080"/>
            <a:ext cx="1752840" cy="139680"/>
          </a:xfrm>
          <a:prstGeom prst="rightArrow">
            <a:avLst>
              <a:gd name="adj1" fmla="val 50000"/>
              <a:gd name="adj2" fmla="val 31372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8600" y="2971800"/>
            <a:ext cx="380988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Не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Безраз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99"/>
                </a:solidFill>
                <a:latin typeface="Arial"/>
              </a:rPr>
              <a:t>СО, </a:t>
            </a:r>
            <a:r>
              <a:rPr b="1" i="1" lang="en-US" sz="3200" spc="-1" strike="noStrike">
                <a:solidFill>
                  <a:srgbClr val="669999"/>
                </a:solidFill>
                <a:latin typeface="Arial"/>
              </a:rPr>
              <a:t>NO, N</a:t>
            </a:r>
            <a:r>
              <a:rPr b="1" i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669999"/>
                </a:solidFill>
                <a:latin typeface="Arial"/>
              </a:rPr>
              <a:t>O, 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486400" y="289548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Солеобразующие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992520" y="5105520"/>
            <a:ext cx="24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99"/>
                </a:solidFill>
                <a:latin typeface="Arial"/>
              </a:rPr>
              <a:t>ВаО, С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581280" y="5105520"/>
            <a:ext cx="2057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, N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5867280" y="5181480"/>
            <a:ext cx="307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ZnO, Al 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>
            <a:hlinkClick r:id="rId6" action="ppaction://hlinksldjump"/>
          </p:cNvPr>
          <p:cNvSpPr/>
          <p:nvPr/>
        </p:nvSpPr>
        <p:spPr>
          <a:xfrm>
            <a:off x="7162920" y="6248520"/>
            <a:ext cx="1676160" cy="4572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Несолеобразующие оксиды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7e9ce8"/>
                </a:solidFill>
                <a:latin typeface="Arial"/>
              </a:rPr>
              <a:t>– это оксиды, которые не взаимодействуют ни с кислотами, ни с основаниями и не образуют сол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26280" y="5715000"/>
            <a:ext cx="428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Comic Sans MS"/>
              </a:rPr>
              <a:t>СО, </a:t>
            </a:r>
            <a:r>
              <a:rPr b="1" i="1" lang="en-US" sz="4000" spc="-1" strike="noStrike">
                <a:solidFill>
                  <a:srgbClr val="ff33cc"/>
                </a:solidFill>
                <a:latin typeface="Comic Sans MS"/>
              </a:rPr>
              <a:t>NO, N</a:t>
            </a:r>
            <a:r>
              <a:rPr b="1" i="1" lang="ru-RU" sz="40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i="1" lang="en-US" sz="4000" spc="-1" strike="noStrike">
                <a:solidFill>
                  <a:srgbClr val="ff33cc"/>
                </a:solidFill>
                <a:latin typeface="Comic Sans MS"/>
              </a:rPr>
              <a:t>O, S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previousslide"/>
          </p:cNvPr>
          <p:cNvSpPr/>
          <p:nvPr/>
        </p:nvSpPr>
        <p:spPr>
          <a:xfrm>
            <a:off x="228600" y="6324480"/>
            <a:ext cx="976320" cy="381240"/>
          </a:xfrm>
          <a:prstGeom prst="leftArrow">
            <a:avLst>
              <a:gd name="adj1" fmla="val 50000"/>
              <a:gd name="adj2" fmla="val 6402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7772400" y="62485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Копия (2) J0233971_WMF"/>
          <p:cNvPicPr/>
          <p:nvPr/>
        </p:nvPicPr>
        <p:blipFill>
          <a:blip r:embed="rId1"/>
          <a:stretch/>
        </p:blipFill>
        <p:spPr>
          <a:xfrm>
            <a:off x="7467480" y="152280"/>
            <a:ext cx="1549440" cy="19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Солеобразующие оксиды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7e9ce8"/>
                </a:solidFill>
                <a:latin typeface="Arial"/>
              </a:rPr>
              <a:t>– это оксиды, которые взаимодействуют  с кислотами или со щелочами с образованием солей и вод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7772400" y="62485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Копия 1236586384_normal_chem"/>
          <p:cNvPicPr/>
          <p:nvPr/>
        </p:nvPicPr>
        <p:blipFill>
          <a:blip r:embed="rId1"/>
          <a:stretch/>
        </p:blipFill>
        <p:spPr>
          <a:xfrm>
            <a:off x="7543800" y="152280"/>
            <a:ext cx="1447920" cy="157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5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сновные оксиды</a:t>
            </a:r>
            <a:r>
              <a:rPr b="1" lang="ru-RU" sz="4000" spc="-1" strike="noStrike">
                <a:solidFill>
                  <a:srgbClr val="330066"/>
                </a:solidFill>
                <a:latin typeface="Comic Sans MS"/>
              </a:rPr>
              <a:t> – это оксиды, которым в качестве гидроксидов соответствуют основа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e9ce8"/>
                </a:solidFill>
                <a:latin typeface="Arial"/>
              </a:rPr>
              <a:t>Образованы металлами в степени окисления +1, 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880" y="4495680"/>
            <a:ext cx="358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К</a:t>
            </a:r>
            <a:r>
              <a:rPr b="1" i="1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О 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450880" y="5562720"/>
            <a:ext cx="449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MgO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Mg(OH)</a:t>
            </a:r>
            <a:r>
              <a:rPr b="1" i="1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7772400" y="63244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6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Comic Sans MS"/>
              </a:rPr>
              <a:t>Кислотные оксиды</a:t>
            </a: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 – это оксиды, которым в качестве гидроксидов соответствуют кисл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Образованы неметаллами и металлами в степени окисления +5 и вы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721520" y="4952880"/>
            <a:ext cx="3984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→ 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Н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04920" y="617220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7924680" y="6248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32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Comic Sans MS"/>
              </a:rPr>
              <a:t>Амфотерные оксиды</a:t>
            </a: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 – это оксиды, которым соответствуют гидроксиды, проявляющие свойства как оснований, так и кисло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Образованы металлами в степени окисления +3, +4, а также оксид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еО, </a:t>
            </a: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ZnO, SnO, P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72760" y="5334120"/>
            <a:ext cx="7292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O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 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(OH)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 или Н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7848720" y="6248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основ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ой оксид + вода =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а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ый оксид + кислота = соль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Cu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Cu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ый оксид + кислотный оксид = сол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кислот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вода =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основание = соль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+ Mg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основный оксид = сол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MgO =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800600" y="297180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334120" y="35053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7T16:50:0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