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008-86D2-4FC0-93D0-B5DB6004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B4D-98FF-4185-977E-9BB64568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9B2-B000-43A1-9B96-331E3A69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7B4-0EB8-49D9-A3A5-ADEDED72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3C30-080A-4977-8548-EF0257F1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C933-E5C1-435A-B7EE-7EBBAE4E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2A0D-6718-4495-AF81-0EE155D6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E929-3A3A-4692-A811-FCA94346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FF83-2FB2-46E0-95EC-ED5813C7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B8F4-AB90-423B-8F13-ABE18BF4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F409-A08A-454E-80A0-2213E39A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B1C-00E5-4323-BDDA-7A0CDC49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2809-8F1A-45BC-BA93-E005FD1E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97D4-B024-48FE-973C-F12462A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C2D9-588C-42A5-97DB-4EF20249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8A1F-5548-43D7-BDE0-EA3EA6AE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BEA7-9D88-44A5-B205-7DC45877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422-9BB3-4F51-BD1B-CE7558D4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F4E-BA86-45DB-BA6E-FF9FF409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12D-AF44-4DFD-BCD8-32499ACA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6B4-9AC7-4BED-A399-20B2088B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75D-4DB2-40A0-9921-F0E9D693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58A-8961-4CE7-99D2-91626F61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796-B6B7-4443-BC3E-C406013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1FC0-FCCF-4D56-870D-4D2FEC1673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F4B3-797E-4179-86B2-C521CDBD0D69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4495320"/>
            <a:ext cx="54864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d60093"/>
                </a:solidFill>
                <a:latin typeface="Comic Sans MS"/>
              </a:rPr>
              <a:t>КИСЛОТЫ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66"/>
                </a:solidFill>
                <a:latin typeface="Comic Sans MS"/>
              </a:rPr>
              <a:t>Классификация сложных неорганических веще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0920" y="304920"/>
            <a:ext cx="7597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33ff"/>
                </a:solidFill>
                <a:latin typeface="Arial"/>
              </a:rPr>
              <a:t>КИСЛОТЫ ПРИМЕНЯЮТСЯ В КУЛИНАРИ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95280" y="270828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Уксусная кислота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Лимонная кислот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5" descr="max_1054"/>
          <p:cNvPicPr/>
          <p:nvPr/>
        </p:nvPicPr>
        <p:blipFill>
          <a:blip r:embed="rId1"/>
          <a:stretch/>
        </p:blipFill>
        <p:spPr>
          <a:xfrm>
            <a:off x="4419720" y="1905120"/>
            <a:ext cx="4452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.Формула кислоты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а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 NaOH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  б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 HCL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    в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  CuCL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2</a:t>
            </a:r>
            <a:r>
              <a:rPr b="0" lang="ru-RU" sz="2400" spc="-1" strike="noStrike" baseline="-25000">
                <a:solidFill>
                  <a:srgbClr val="336666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г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    SO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ислота, применяющаяся в кулина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8a8a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а) серная</a:t>
            </a:r>
            <a:r>
              <a:rPr b="1" lang="en-US" sz="2400" spc="-1" strike="noStrike" baseline="-25000">
                <a:solidFill>
                  <a:srgbClr val="3366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б) лимонная     в) соляная</a:t>
            </a:r>
            <a:r>
              <a:rPr b="1" lang="ru-RU" sz="2400" spc="-1" strike="noStrike" baseline="-25000">
                <a:solidFill>
                  <a:srgbClr val="336666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г) азо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 Кислородсодержащ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8a8a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а) 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Cl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  б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F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в) 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NO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г)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 Двухосновная кисло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8a8a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а) 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NO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3</a:t>
            </a:r>
            <a:r>
              <a:rPr b="0" lang="ru-RU" sz="2400" spc="-1" strike="noStrike" baseline="-25000">
                <a:solidFill>
                  <a:srgbClr val="336666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б) 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HCl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     в) Н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6666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О</a:t>
            </a:r>
            <a:r>
              <a:rPr b="0" lang="en-US" sz="2400" spc="-1" strike="noStrike" baseline="-25000">
                <a:solidFill>
                  <a:srgbClr val="336666"/>
                </a:solidFill>
                <a:latin typeface="Comic Sans MS"/>
              </a:rPr>
              <a:t>4</a:t>
            </a:r>
            <a:r>
              <a:rPr b="1" lang="en-US" sz="2400" spc="-1" strike="noStrike">
                <a:solidFill>
                  <a:srgbClr val="33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. Степень окисления хлора в соляной кислоте (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8a8a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336666"/>
                </a:solidFill>
                <a:latin typeface="Comic Sans MS"/>
              </a:rPr>
              <a:t>а) -2     б) -1   в) +2  г) 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v25ani"/>
          <p:cNvPicPr/>
          <p:nvPr/>
        </p:nvPicPr>
        <p:blipFill>
          <a:blip r:embed="rId1"/>
          <a:stretch/>
        </p:blipFill>
        <p:spPr>
          <a:xfrm>
            <a:off x="7086600" y="4419720"/>
            <a:ext cx="157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9000" y="190440"/>
            <a:ext cx="5105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Если ты ответил правильно на все вопросы  – получи отметку «5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4620"/>
                </a:solidFill>
                <a:latin typeface="Arial"/>
              </a:rPr>
              <a:t>Если все же ты ошибся, но всего 1 лишь раз,  твоя отметка «4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Кто ошибся 2 раза, получил отметку «3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Arial"/>
              </a:rPr>
              <a:t>Остальным сегодня не повезло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6477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3399"/>
                </a:solidFill>
                <a:latin typeface="Arial"/>
              </a:rPr>
              <a:t>Сложные вещест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19520" y="129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943600" y="129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357280" y="259092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mic Sans MS"/>
              </a:rPr>
              <a:t>неорганическ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810400" y="259092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mic Sans MS"/>
              </a:rPr>
              <a:t>органическ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07800" y="351468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сиды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879280" y="4800600"/>
            <a:ext cx="247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omic Sans MS"/>
              </a:rPr>
              <a:t>кислоты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914400" y="4343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ания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5350320" y="4495680"/>
            <a:ext cx="10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 rot="9897600">
            <a:off x="931680" y="3122280"/>
            <a:ext cx="1447560" cy="268200"/>
          </a:xfrm>
          <a:prstGeom prst="rightArrow">
            <a:avLst>
              <a:gd name="adj1" fmla="val 50000"/>
              <a:gd name="adj2" fmla="val 134933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 rot="7268400">
            <a:off x="1643400" y="3736080"/>
            <a:ext cx="1357560" cy="250920"/>
          </a:xfrm>
          <a:prstGeom prst="rightArrow">
            <a:avLst>
              <a:gd name="adj1" fmla="val 50000"/>
              <a:gd name="adj2" fmla="val 1352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AutoShape 14"/>
          <p:cNvSpPr/>
          <p:nvPr/>
        </p:nvSpPr>
        <p:spPr>
          <a:xfrm rot="5400000">
            <a:off x="3192480" y="3817800"/>
            <a:ext cx="1339560" cy="257040"/>
          </a:xfrm>
          <a:prstGeom prst="rightArrow">
            <a:avLst>
              <a:gd name="adj1" fmla="val 50000"/>
              <a:gd name="adj2" fmla="val 13028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 rot="2944800">
            <a:off x="4462560" y="3666960"/>
            <a:ext cx="1492200" cy="247680"/>
          </a:xfrm>
          <a:prstGeom prst="rightArrow">
            <a:avLst>
              <a:gd name="adj1" fmla="val 50000"/>
              <a:gd name="adj2" fmla="val 15061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5" name="Picture 15" descr="90b61cc30a34"/>
          <p:cNvPicPr/>
          <p:nvPr/>
        </p:nvPicPr>
        <p:blipFill>
          <a:blip r:embed="rId1"/>
          <a:stretch/>
        </p:blipFill>
        <p:spPr>
          <a:xfrm>
            <a:off x="6934320" y="4776840"/>
            <a:ext cx="1981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90720" y="1676520"/>
            <a:ext cx="7696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omic Sans MS"/>
              </a:rPr>
              <a:t>дать определение кислотам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omic Sans MS"/>
              </a:rPr>
              <a:t>рассмотреть состав кислот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omic Sans MS"/>
              </a:rPr>
              <a:t>классифицировать кислоты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Comic Sans MS"/>
              </a:rPr>
              <a:t>ознакомиться с формулами и названиями основных неорганических кислот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733200" y="517680"/>
            <a:ext cx="402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219320" y="1828800"/>
            <a:ext cx="748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6666"/>
                </a:solidFill>
                <a:latin typeface="Tahoma"/>
              </a:rPr>
              <a:t>– </a:t>
            </a: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ЭТО СЛОЖНЫЕ ВЕЩЕСТВА, молекулы которых состоят из атомов водорода, способных замещаться на атомы металла, и кислотных остатков.</a:t>
            </a: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Picture 4" descr="J0239707"/>
          <p:cNvPicPr/>
          <p:nvPr/>
        </p:nvPicPr>
        <p:blipFill>
          <a:blip r:embed="rId1"/>
          <a:stretch/>
        </p:blipFill>
        <p:spPr>
          <a:xfrm>
            <a:off x="0" y="228600"/>
            <a:ext cx="2239920" cy="1798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417840" y="533520"/>
            <a:ext cx="4047120" cy="109944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0066"/>
                </a:solidFill>
                <a:latin typeface="Arial"/>
              </a:rPr>
              <a:t>Кислоты</a:t>
            </a:r>
            <a:r>
              <a:rPr b="0" lang="ru-RU" sz="66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757320" y="3048120"/>
            <a:ext cx="21024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i="1" lang="ru-RU" sz="7200" spc="-1" strike="noStrike">
                <a:solidFill>
                  <a:srgbClr val="003399"/>
                </a:solidFill>
                <a:latin typeface="Arial"/>
              </a:rPr>
              <a:t>О</a:t>
            </a:r>
            <a:r>
              <a:rPr b="0" i="1" lang="ru-RU" sz="72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r>
              <a:rPr b="0" i="1" lang="ru-RU" sz="7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897280" y="3048120"/>
            <a:ext cx="8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d60093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Стрелка вправо 17"/>
          <p:cNvSpPr/>
          <p:nvPr/>
        </p:nvSpPr>
        <p:spPr>
          <a:xfrm rot="1860600">
            <a:off x="4692240" y="4451400"/>
            <a:ext cx="978120" cy="152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79132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Кислотный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остато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590920" y="3048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336666"/>
                </a:solidFill>
                <a:latin typeface="Arial"/>
              </a:rPr>
              <a:t>Na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97164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Tahoma"/>
              </a:rPr>
              <a:t>КЛАССИФИКАЦИЯ КИСЛОТ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 rot="21089400">
            <a:off x="642600" y="3273840"/>
            <a:ext cx="381636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бескислородные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F  </a:t>
            </a: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Cl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Br  </a:t>
            </a: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I  </a:t>
            </a: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295280" y="981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1. По содержанию кислорода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 rot="543000">
            <a:off x="4651560" y="3285000"/>
            <a:ext cx="424836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ислородсодержащ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N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  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S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C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  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PO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 rot="16200000">
            <a:off x="4038480" y="0"/>
            <a:ext cx="914400" cy="4572000"/>
          </a:xfrm>
          <a:custGeom>
            <a:avLst/>
            <a:gdLst>
              <a:gd name="textAreaLeft" fmla="*/ 0 w 914400"/>
              <a:gd name="textAreaRight" fmla="*/ 914760 w 914400"/>
              <a:gd name="textAreaTop" fmla="*/ 1143000 h 4572000"/>
              <a:gd name="textAreaBottom" fmla="*/ 342900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9895"/>
                </a:lnTo>
                <a:lnTo>
                  <a:pt x="5500" y="19895"/>
                </a:lnTo>
                <a:lnTo>
                  <a:pt x="10800" y="21600"/>
                </a:lnTo>
                <a:lnTo>
                  <a:pt x="16100" y="19895"/>
                </a:lnTo>
                <a:lnTo>
                  <a:pt x="13500" y="19895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1705"/>
                </a:lnTo>
                <a:lnTo>
                  <a:pt x="16100" y="1705"/>
                </a:lnTo>
                <a:lnTo>
                  <a:pt x="10800" y="0"/>
                </a:lnTo>
                <a:lnTo>
                  <a:pt x="5500" y="1705"/>
                </a:lnTo>
                <a:lnTo>
                  <a:pt x="8100" y="1705"/>
                </a:lnTo>
                <a:lnTo>
                  <a:pt x="8100" y="54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66"/>
                </a:solidFill>
                <a:latin typeface="Arial"/>
              </a:rPr>
              <a:t>кислоты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523880" y="333360"/>
            <a:ext cx="700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Comic Sans MS"/>
              </a:rPr>
              <a:t>2. По количеству атомов водорода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 rot="10800000">
            <a:off x="2362320" y="1675800"/>
            <a:ext cx="4572000" cy="2057400"/>
          </a:xfrm>
          <a:prstGeom prst="pie">
            <a:avLst/>
          </a:prstGeom>
          <a:solidFill>
            <a:srgbClr val="99cc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ИСЛОТЫ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2362320"/>
            <a:ext cx="3429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одноосновны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Cl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N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819520" y="3962520"/>
            <a:ext cx="31240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двухосновны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S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095880" y="2819520"/>
            <a:ext cx="30481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трехосновны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336666"/>
                </a:solidFill>
                <a:latin typeface="Arial"/>
              </a:rPr>
              <a:t>PO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9"/>
          <p:cNvSpPr/>
          <p:nvPr/>
        </p:nvSpPr>
        <p:spPr>
          <a:xfrm>
            <a:off x="1828800" y="12952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ФОРМУЛА КИСЛОТЫ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4991760" y="129528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НАЗВАНИЕ КИСЛОТЫ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2668680" y="54100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F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2509560" y="1981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C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Rectangle 37"/>
          <p:cNvSpPr/>
          <p:nvPr/>
        </p:nvSpPr>
        <p:spPr>
          <a:xfrm>
            <a:off x="5117040" y="5334120"/>
            <a:ext cx="2189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фтороводородная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(плавиковая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4838400" y="190512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хлороводородная (соляная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2514600" y="4038480"/>
            <a:ext cx="83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NO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2362320" y="2666880"/>
            <a:ext cx="84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SO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2438280" y="3352680"/>
            <a:ext cx="924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CO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Rectangle 48"/>
          <p:cNvSpPr/>
          <p:nvPr/>
        </p:nvSpPr>
        <p:spPr>
          <a:xfrm>
            <a:off x="2362320" y="4724280"/>
            <a:ext cx="99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H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 baseline="-25000">
                <a:solidFill>
                  <a:srgbClr val="336666"/>
                </a:solidFill>
                <a:latin typeface="Arial"/>
              </a:rPr>
              <a:t>3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Rectangle 49"/>
          <p:cNvSpPr/>
          <p:nvPr/>
        </p:nvSpPr>
        <p:spPr>
          <a:xfrm>
            <a:off x="5708160" y="40384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азотна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Rectangle 51"/>
          <p:cNvSpPr/>
          <p:nvPr/>
        </p:nvSpPr>
        <p:spPr>
          <a:xfrm>
            <a:off x="5708520" y="25909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ерна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Rectangle 52"/>
          <p:cNvSpPr/>
          <p:nvPr/>
        </p:nvSpPr>
        <p:spPr>
          <a:xfrm>
            <a:off x="5731920" y="3276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угольна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Rectangle 54"/>
          <p:cNvSpPr/>
          <p:nvPr/>
        </p:nvSpPr>
        <p:spPr>
          <a:xfrm>
            <a:off x="5639400" y="47242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фосфорная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47920" y="914400"/>
          <a:ext cx="6933960" cy="5257800"/>
        </p:xfrm>
        <a:graphic>
          <a:graphicData uri="http://schemas.openxmlformats.org/drawingml/2006/table">
            <a:tbl>
              <a:tblPr/>
              <a:tblGrid>
                <a:gridCol w="2971800"/>
                <a:gridCol w="396216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66"/>
                          </a:solidFill>
                          <a:latin typeface="Comic Sans MS"/>
                        </a:rPr>
                        <a:t>  </a:t>
                      </a:r>
                      <a:endParaRPr b="0" lang="en-US" sz="2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68360" y="4508640"/>
            <a:ext cx="521964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Comic Sans MS"/>
              </a:rPr>
              <a:t>Соляная кислота, находящаяся в желудке, помогает переваривать пищу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456000" y="1484280"/>
            <a:ext cx="5437080" cy="1373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66"/>
                </a:solidFill>
                <a:latin typeface="Comic Sans MS"/>
              </a:rPr>
              <a:t>Молочная кислота образуется в мышцах при физической нагрузк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3" name="Picture 4" descr="PE01981_"/>
          <p:cNvPicPr/>
          <p:nvPr/>
        </p:nvPicPr>
        <p:blipFill>
          <a:blip r:embed="rId3"/>
          <a:stretch/>
        </p:blipFill>
        <p:spPr>
          <a:xfrm>
            <a:off x="179280" y="1341360"/>
            <a:ext cx="3178440" cy="302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10"/>
          <p:cNvPicPr/>
          <p:nvPr/>
        </p:nvPicPr>
        <p:blipFill>
          <a:blip r:embed="rId4"/>
          <a:stretch/>
        </p:blipFill>
        <p:spPr>
          <a:xfrm>
            <a:off x="5580000" y="3789360"/>
            <a:ext cx="3210120" cy="2762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КИСЛОТЫ СОДЕРЖАТСЯ В ЖИВЫХ  ОРГАНИ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09320" y="260280"/>
            <a:ext cx="678204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33ff"/>
                </a:solidFill>
                <a:latin typeface="Arial"/>
              </a:rPr>
              <a:t>КИСЛОТЫ                        ПРИМЕНЯЮТСЯ  В МЕДИЦИН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P1040635"/>
          <p:cNvPicPr/>
          <p:nvPr/>
        </p:nvPicPr>
        <p:blipFill>
          <a:blip r:embed="rId1"/>
          <a:stretch/>
        </p:blipFill>
        <p:spPr>
          <a:xfrm>
            <a:off x="380880" y="3733920"/>
            <a:ext cx="3733920" cy="2786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419720" y="2362320"/>
            <a:ext cx="3504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Аскорбиновая,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фолиевая,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липоевая,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ацетил-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салициловая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Comic Sans MS"/>
              </a:rPr>
              <a:t>и другие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9" name="Picture 5" descr="J0286856"/>
          <p:cNvPicPr/>
          <p:nvPr/>
        </p:nvPicPr>
        <p:blipFill>
          <a:blip r:embed="rId2"/>
          <a:stretch/>
        </p:blipFill>
        <p:spPr>
          <a:xfrm>
            <a:off x="7164360" y="4952880"/>
            <a:ext cx="1979640" cy="177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Копия (2) J0233971_WMF"/>
          <p:cNvPicPr/>
          <p:nvPr/>
        </p:nvPicPr>
        <p:blipFill>
          <a:blip r:embed="rId3"/>
          <a:stretch/>
        </p:blipFill>
        <p:spPr>
          <a:xfrm>
            <a:off x="135000" y="304920"/>
            <a:ext cx="1906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01T07:45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