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4D4-CFF5-443B-855C-C66332E6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607-BAC3-48AC-B774-51D3541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306-D64E-4F03-8857-CAD4852D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8A8-600E-468D-A2A1-62201168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877-4535-4A85-ACDD-DA76D6F5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96F6-F06C-40E2-8678-832EFC5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2D99-3445-421C-9320-3310F81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8E9-15C7-4984-BC91-4CB63BD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9F57-585C-4A2C-BCFF-CD1BA380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D451-ED3F-40AD-A41B-D442C40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23D-9C96-441B-9BAE-752D4B1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C98-C8EB-4725-8442-05BA4D7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0D5C-CBAD-4A4F-9643-7347F5B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599C-5D07-4D00-AE5F-475E53A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E8FD-BB8D-426A-BE91-64125D3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E9AC-2F13-4011-8FE5-5D5E811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C1D3-2485-4381-B87A-39C4AE94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1B6-47A7-4A8B-A700-1025682B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D7D-35EE-4028-BC97-C0525A87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1EE-42A7-4055-82B1-2A5087A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B3B-F8B9-4E0F-87D4-226F654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A77-812F-4EB2-A85B-A711014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F9F-6F17-4526-9F48-E8055CF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F2D-4435-4629-B3A4-DB77CBF3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E13-E652-4087-A95B-DD8AC974EB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92BB-7F82-4CF5-BF99-4271993C13FE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4495320"/>
            <a:ext cx="54864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60093"/>
                </a:solidFill>
                <a:latin typeface="Comic Sans MS"/>
              </a:rPr>
              <a:t>КИСЛОТЫ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66"/>
                </a:solidFill>
                <a:latin typeface="Comic Sans MS"/>
              </a:rPr>
              <a:t>Классификация сложных неорганических веще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0920" y="304920"/>
            <a:ext cx="7597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33ff"/>
                </a:solidFill>
                <a:latin typeface="Arial"/>
              </a:rPr>
              <a:t>КИСЛОТЫ ПРИМЕНЯЮТСЯ В КУЛИНАРИ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95280" y="270828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Уксусная кислота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Лимонная кислот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5" descr="max_1054"/>
          <p:cNvPicPr/>
          <p:nvPr/>
        </p:nvPicPr>
        <p:blipFill>
          <a:blip r:embed="rId1"/>
          <a:stretch/>
        </p:blipFill>
        <p:spPr>
          <a:xfrm>
            <a:off x="4419720" y="190512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Формула кислоты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NaOH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б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HCL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  в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 CuCL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2</a:t>
            </a:r>
            <a:r>
              <a:rPr b="0" lang="ru-RU" sz="2400" spc="-1" strike="noStrike" baseline="-25000">
                <a:solidFill>
                  <a:srgbClr val="336666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г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   S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ислота, применяющаяся в кулина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серная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б) лимонная     в) соляная</a:t>
            </a:r>
            <a:r>
              <a:rPr b="1" lang="ru-RU" sz="2400" spc="-1" strike="noStrike" baseline="-25000">
                <a:solidFill>
                  <a:srgbClr val="336666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г) азо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Кислородсодержащ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Cl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б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F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в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N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г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Двухосновная кисл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N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r>
              <a:rPr b="0" lang="ru-RU" sz="2400" spc="-1" strike="noStrike" baseline="-25000">
                <a:solidFill>
                  <a:srgbClr val="336666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б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Cl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в) Н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О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Степень окисления хлора в соляной кислоте (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-2     б) -1   в) +2  г) 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v25ani"/>
          <p:cNvPicPr/>
          <p:nvPr/>
        </p:nvPicPr>
        <p:blipFill>
          <a:blip r:embed="rId1"/>
          <a:stretch/>
        </p:blipFill>
        <p:spPr>
          <a:xfrm>
            <a:off x="7086600" y="4419720"/>
            <a:ext cx="157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9000" y="190440"/>
            <a:ext cx="5105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Если ты ответил правильно на все вопросы  – получи отметку «5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620"/>
                </a:solidFill>
                <a:latin typeface="Arial"/>
              </a:rPr>
              <a:t>Если все же ты ошибся, но всего 1 лишь раз,  твоя отметка «4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то ошибся 2 раза, получил отметку «3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стальным сегодня не повезло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477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Arial"/>
              </a:rPr>
              <a:t>Сложные ве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1952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36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3572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не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81040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7800" y="3514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сиды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79280" y="4800600"/>
            <a:ext cx="24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кислоты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14400" y="4343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ани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350320" y="449568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rot="9897600">
            <a:off x="931680" y="3122280"/>
            <a:ext cx="1447560" cy="268200"/>
          </a:xfrm>
          <a:prstGeom prst="rightArrow">
            <a:avLst>
              <a:gd name="adj1" fmla="val 50000"/>
              <a:gd name="adj2" fmla="val 13493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 rot="7268400">
            <a:off x="1643400" y="3736080"/>
            <a:ext cx="1357560" cy="250920"/>
          </a:xfrm>
          <a:prstGeom prst="rightArrow">
            <a:avLst>
              <a:gd name="adj1" fmla="val 50000"/>
              <a:gd name="adj2" fmla="val 1352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 rot="5400000">
            <a:off x="3192480" y="3817800"/>
            <a:ext cx="1339560" cy="257040"/>
          </a:xfrm>
          <a:prstGeom prst="rightArrow">
            <a:avLst>
              <a:gd name="adj1" fmla="val 50000"/>
              <a:gd name="adj2" fmla="val 130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2944800">
            <a:off x="4462560" y="3666960"/>
            <a:ext cx="1492200" cy="247680"/>
          </a:xfrm>
          <a:prstGeom prst="rightArrow">
            <a:avLst>
              <a:gd name="adj1" fmla="val 50000"/>
              <a:gd name="adj2" fmla="val 15061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5" descr="90b61cc30a34"/>
          <p:cNvPicPr/>
          <p:nvPr/>
        </p:nvPicPr>
        <p:blipFill>
          <a:blip r:embed="rId1"/>
          <a:stretch/>
        </p:blipFill>
        <p:spPr>
          <a:xfrm>
            <a:off x="6934320" y="4776840"/>
            <a:ext cx="1981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90720" y="1676520"/>
            <a:ext cx="7696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дать определение кислотам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рассмотреть состав кислот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классифицировать кислоты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ознакомиться с формулами и названиями основных неорганических кислот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733200" y="517680"/>
            <a:ext cx="40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219320" y="1828800"/>
            <a:ext cx="748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6666"/>
                </a:solidFill>
                <a:latin typeface="Tahoma"/>
              </a:rPr>
              <a:t>– </a:t>
            </a: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ЭТО СЛОЖНЫЕ ВЕЩЕСТВА, молекулы которых состоят из атомов водорода, способных замещаться на атомы металла, и кислотных остатков.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4" descr="J0239707"/>
          <p:cNvPicPr/>
          <p:nvPr/>
        </p:nvPicPr>
        <p:blipFill>
          <a:blip r:embed="rId1"/>
          <a:stretch/>
        </p:blipFill>
        <p:spPr>
          <a:xfrm>
            <a:off x="0" y="228600"/>
            <a:ext cx="2239920" cy="179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417840" y="533520"/>
            <a:ext cx="4047120" cy="10994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66"/>
                </a:solidFill>
                <a:latin typeface="Arial"/>
              </a:rPr>
              <a:t>Кислоты</a:t>
            </a:r>
            <a:r>
              <a:rPr b="0" lang="ru-RU" sz="6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757320" y="3048120"/>
            <a:ext cx="21024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i="1" lang="ru-RU" sz="72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0" i="1" lang="ru-RU" sz="72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i="1" lang="ru-RU" sz="7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897280" y="304812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d60093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Стрелка вправо 17"/>
          <p:cNvSpPr/>
          <p:nvPr/>
        </p:nvSpPr>
        <p:spPr>
          <a:xfrm rot="1860600">
            <a:off x="4692240" y="4451400"/>
            <a:ext cx="978120" cy="152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79132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Кислотны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остато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590920" y="3048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6666"/>
                </a:solidFill>
                <a:latin typeface="Arial"/>
              </a:rPr>
              <a:t>Na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7164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ahoma"/>
              </a:rPr>
              <a:t>КЛАССИФИКАЦИЯ КИСЛО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 rot="21089400">
            <a:off x="642600" y="3273840"/>
            <a:ext cx="3816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F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Br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I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95280" y="981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1. По содержанию кислорода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 rot="543000">
            <a:off x="4651560" y="3285000"/>
            <a:ext cx="42483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ислородсодержащ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 rot="16200000">
            <a:off x="4038480" y="0"/>
            <a:ext cx="914400" cy="4572000"/>
          </a:xfrm>
          <a:custGeom>
            <a:avLst/>
            <a:gdLst>
              <a:gd name="textAreaLeft" fmla="*/ 0 w 914400"/>
              <a:gd name="textAreaRight" fmla="*/ 914760 w 914400"/>
              <a:gd name="textAreaTop" fmla="*/ 1143000 h 4572000"/>
              <a:gd name="textAreaBottom" fmla="*/ 342900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9895"/>
                </a:lnTo>
                <a:lnTo>
                  <a:pt x="5500" y="19895"/>
                </a:lnTo>
                <a:lnTo>
                  <a:pt x="10800" y="21600"/>
                </a:lnTo>
                <a:lnTo>
                  <a:pt x="16100" y="19895"/>
                </a:lnTo>
                <a:lnTo>
                  <a:pt x="13500" y="19895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1705"/>
                </a:lnTo>
                <a:lnTo>
                  <a:pt x="16100" y="1705"/>
                </a:lnTo>
                <a:lnTo>
                  <a:pt x="10800" y="0"/>
                </a:lnTo>
                <a:lnTo>
                  <a:pt x="5500" y="1705"/>
                </a:lnTo>
                <a:lnTo>
                  <a:pt x="8100" y="1705"/>
                </a:lnTo>
                <a:lnTo>
                  <a:pt x="8100" y="54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66"/>
                </a:solidFill>
                <a:latin typeface="Arial"/>
              </a:rPr>
              <a:t>кислоты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523880" y="333360"/>
            <a:ext cx="700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Comic Sans MS"/>
              </a:rPr>
              <a:t>2. По количеству атомов водорода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 rot="10800000">
            <a:off x="2362320" y="1675800"/>
            <a:ext cx="4572000" cy="2057400"/>
          </a:xfrm>
          <a:prstGeom prst="pie">
            <a:avLst/>
          </a:prstGeom>
          <a:solidFill>
            <a:srgbClr val="99cc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2362320"/>
            <a:ext cx="3429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дно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19520" y="3962520"/>
            <a:ext cx="31240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вух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095880" y="2819520"/>
            <a:ext cx="3048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трех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9"/>
          <p:cNvSpPr/>
          <p:nvPr/>
        </p:nvSpPr>
        <p:spPr>
          <a:xfrm>
            <a:off x="1828800" y="12952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ФОРМУЛА КИСЛОТ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4991760" y="129528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ЗВАНИЕ КИСЛОТ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2668680" y="5410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F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509560" y="1981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5117040" y="5334120"/>
            <a:ext cx="2189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фтороводородная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(плавиковая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4838400" y="190512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хлороводородная (соляная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2514600" y="4038480"/>
            <a:ext cx="8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2362320" y="2666880"/>
            <a:ext cx="84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438280" y="3352680"/>
            <a:ext cx="92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Rectangle 48"/>
          <p:cNvSpPr/>
          <p:nvPr/>
        </p:nvSpPr>
        <p:spPr>
          <a:xfrm>
            <a:off x="2362320" y="472428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Rectangle 49"/>
          <p:cNvSpPr/>
          <p:nvPr/>
        </p:nvSpPr>
        <p:spPr>
          <a:xfrm>
            <a:off x="5708160" y="4038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азот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Rectangle 51"/>
          <p:cNvSpPr/>
          <p:nvPr/>
        </p:nvSpPr>
        <p:spPr>
          <a:xfrm>
            <a:off x="57085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ер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Rectangle 52"/>
          <p:cNvSpPr/>
          <p:nvPr/>
        </p:nvSpPr>
        <p:spPr>
          <a:xfrm>
            <a:off x="5731920" y="3276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уголь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>
            <a:off x="5639400" y="47242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фосфор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914400"/>
          <a:ext cx="6933960" cy="5257800"/>
        </p:xfrm>
        <a:graphic>
          <a:graphicData uri="http://schemas.openxmlformats.org/drawingml/2006/table">
            <a:tbl>
              <a:tblPr/>
              <a:tblGrid>
                <a:gridCol w="2971800"/>
                <a:gridCol w="3962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66"/>
                          </a:solidFill>
                          <a:latin typeface="Comic Sans MS"/>
                        </a:rPr>
                        <a:t>  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Comic Sans MS"/>
              </a:rPr>
              <a:t>Соляная кислота, находящаяся в желудке, помогает переваривать пищу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Comic Sans MS"/>
              </a:rPr>
              <a:t>Молочная кислота образуется в мышцах при физической нагрузк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Picture 4" descr="PE01981_"/>
          <p:cNvPicPr/>
          <p:nvPr/>
        </p:nvPicPr>
        <p:blipFill>
          <a:blip r:embed="rId3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0"/>
          <p:cNvPicPr/>
          <p:nvPr/>
        </p:nvPicPr>
        <p:blipFill>
          <a:blip r:embed="rId4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КИСЛОТЫ СОДЕРЖАТСЯ В ЖИВЫХ  ОРГ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320" y="260280"/>
            <a:ext cx="67820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33ff"/>
                </a:solidFill>
                <a:latin typeface="Arial"/>
              </a:rPr>
              <a:t>КИСЛОТЫ                        ПРИМЕНЯЮТСЯ  В МЕДИЦИН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P1040635"/>
          <p:cNvPicPr/>
          <p:nvPr/>
        </p:nvPicPr>
        <p:blipFill>
          <a:blip r:embed="rId1"/>
          <a:stretch/>
        </p:blipFill>
        <p:spPr>
          <a:xfrm>
            <a:off x="380880" y="3733920"/>
            <a:ext cx="3733920" cy="2786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419720" y="2362320"/>
            <a:ext cx="3504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Аскорбиновая,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фолиевая,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липоевая,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ацетил-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салицилова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и друг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9" name="Picture 5" descr="J0286856"/>
          <p:cNvPicPr/>
          <p:nvPr/>
        </p:nvPicPr>
        <p:blipFill>
          <a:blip r:embed="rId2"/>
          <a:stretch/>
        </p:blipFill>
        <p:spPr>
          <a:xfrm>
            <a:off x="7164360" y="4952880"/>
            <a:ext cx="1979640" cy="177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Копия (2) J0233971_WMF"/>
          <p:cNvPicPr/>
          <p:nvPr/>
        </p:nvPicPr>
        <p:blipFill>
          <a:blip r:embed="rId3"/>
          <a:stretch/>
        </p:blipFill>
        <p:spPr>
          <a:xfrm>
            <a:off x="135000" y="304920"/>
            <a:ext cx="1906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01T07:45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