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511-FB7B-4C0F-8E20-BFA6813F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DFB-DCC6-4063-BBA1-64EF1D51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8DF-1FFF-4D76-BD8E-D9ECE5B1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5FE-3726-474E-895E-33082238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64A-5583-4325-A247-537AA219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619-8E94-46AB-B4CF-D6A4EDC1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6B4-7CDB-4CC1-AF25-3B0EB356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16D-3C33-4BB9-AFA6-A8040557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73F-E214-4433-8DF9-363E9B93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A83-D5F7-426C-A66E-44B5264F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8B5-23F1-4D2C-A87C-58683982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E72-AE43-4DE2-9B44-C3F826CD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F922-5776-43B2-B4BB-4157761D80F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4038120"/>
            <a:ext cx="5334120" cy="21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Comic Sans MS"/>
              </a:rPr>
              <a:t>основания</a:t>
            </a: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80720" y="457200"/>
            <a:ext cx="6629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Comic Sans MS"/>
              </a:rPr>
              <a:t>Классификация сложных неорганических веще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8960" y="159984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Если ты ответил правильно на все вопросы  – получи отметку «5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620"/>
                </a:solidFill>
                <a:latin typeface="Arial"/>
              </a:rPr>
              <a:t>Если все же ты ошибся, но всего 1 лишь раз,  твоя отметка «4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Кто ошибся 2 раза, получил отметку «3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Остальным сегодня не повезло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520" y="190440"/>
            <a:ext cx="5867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33cc"/>
                </a:solidFill>
                <a:latin typeface="Arial"/>
              </a:rPr>
              <a:t>Сложные вещест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971800" y="1295280"/>
            <a:ext cx="581040" cy="1214640"/>
          </a:xfrm>
          <a:custGeom>
            <a:avLst/>
            <a:gdLst>
              <a:gd name="textAreaLeft" fmla="*/ 77760 w 581040"/>
              <a:gd name="textAreaRight" fmla="*/ 503280 w 58104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7010280" y="1295280"/>
            <a:ext cx="533520" cy="1214640"/>
          </a:xfrm>
          <a:custGeom>
            <a:avLst/>
            <a:gdLst>
              <a:gd name="textAreaLeft" fmla="*/ 71280 w 533520"/>
              <a:gd name="textAreaRight" fmla="*/ 462240 w 5335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57280" y="259092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неорганическ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267600" y="260028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органическ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07080" y="351468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ксиды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438360" y="4734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ислоты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3352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основания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5500440" y="46483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 rot="9897600">
            <a:off x="931320" y="3120840"/>
            <a:ext cx="1447560" cy="269640"/>
          </a:xfrm>
          <a:prstGeom prst="rightArrow">
            <a:avLst>
              <a:gd name="adj1" fmla="val 50000"/>
              <a:gd name="adj2" fmla="val 134212"/>
            </a:avLst>
          </a:pr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 rot="7268400">
            <a:off x="1796760" y="3736800"/>
            <a:ext cx="1357560" cy="249120"/>
          </a:xfrm>
          <a:prstGeom prst="rightArrow">
            <a:avLst>
              <a:gd name="adj1" fmla="val 50000"/>
              <a:gd name="adj2" fmla="val 136236"/>
            </a:avLst>
          </a:pr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 rot="5400000">
            <a:off x="3382920" y="3932280"/>
            <a:ext cx="1339920" cy="180720"/>
          </a:xfrm>
          <a:prstGeom prst="rightArrow">
            <a:avLst>
              <a:gd name="adj1" fmla="val 50000"/>
              <a:gd name="adj2" fmla="val 185359"/>
            </a:avLst>
          </a:pr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 rot="2944800">
            <a:off x="4615200" y="3666960"/>
            <a:ext cx="1492200" cy="247680"/>
          </a:xfrm>
          <a:prstGeom prst="rightArrow">
            <a:avLst>
              <a:gd name="adj1" fmla="val 50000"/>
              <a:gd name="adj2" fmla="val 150618"/>
            </a:avLst>
          </a:pr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7920" y="533520"/>
            <a:ext cx="6324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дать определение основани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рассмотреть состав основ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классифицировать основ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ознакомиться с номенклатурой осн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Comic Sans MS"/>
              </a:rPr>
              <a:t>Основания</a:t>
            </a:r>
            <a:r>
              <a:rPr b="0" lang="ru-RU" sz="3800" spc="-1" strike="noStrike">
                <a:solidFill>
                  <a:srgbClr val="ff33cc"/>
                </a:solidFill>
                <a:latin typeface="Comic Sans MS"/>
              </a:rPr>
              <a:t>– это сложные вещества, состоящие из ионов металлов и гидроксид - ион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43040" y="4876920"/>
            <a:ext cx="4419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общая форму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основ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22040" y="35053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3640" y="373392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ИДРОКСИД - ИОН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3080" y="3429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9920" y="4724280"/>
            <a:ext cx="22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Ме(     )п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15105 L 0.0066 0.18205 E">
                                      <p:cBhvr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Классификация оснований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38862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Comic Sans MS"/>
                <a:hlinkClick r:id="rId1" action="ppaction://hlinksldjump"/>
              </a:rPr>
              <a:t>2. По растворимости в во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872000" y="160020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Comic Sans MS"/>
              </a:rPr>
              <a:t>1. По числу гидроксид – ионо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" name="Выноска со стрелками влево/вправо 4"/>
          <p:cNvSpPr/>
          <p:nvPr/>
        </p:nvSpPr>
        <p:spPr>
          <a:xfrm>
            <a:off x="3200400" y="2209680"/>
            <a:ext cx="3200400" cy="576360"/>
          </a:xfrm>
          <a:custGeom>
            <a:avLst/>
            <a:gdLst>
              <a:gd name="textAreaLeft" fmla="*/ 830160 w 3200400"/>
              <a:gd name="textAreaRight" fmla="*/ 2370240 w 32004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20628" y="8100"/>
                </a:lnTo>
                <a:lnTo>
                  <a:pt x="20628" y="5500"/>
                </a:lnTo>
                <a:lnTo>
                  <a:pt x="21600" y="10800"/>
                </a:lnTo>
                <a:lnTo>
                  <a:pt x="20628" y="16100"/>
                </a:lnTo>
                <a:lnTo>
                  <a:pt x="20628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972" y="13500"/>
                </a:lnTo>
                <a:lnTo>
                  <a:pt x="972" y="16100"/>
                </a:lnTo>
                <a:lnTo>
                  <a:pt x="0" y="10800"/>
                </a:lnTo>
                <a:lnTo>
                  <a:pt x="972" y="5500"/>
                </a:lnTo>
                <a:lnTo>
                  <a:pt x="972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88680" y="228600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однокислотны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6788520" y="22860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многокислотны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1148400" y="274320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NaO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7098840" y="2666880"/>
            <a:ext cx="11041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Ca(OH) </a:t>
            </a:r>
            <a:r>
              <a:rPr b="1" lang="en-US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Fe(OH)</a:t>
            </a:r>
            <a:r>
              <a:rPr b="1" lang="en-US" sz="1800" spc="-1" strike="noStrike" baseline="-25000">
                <a:solidFill>
                  <a:srgbClr val="336666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6" name="Выноска со стрелками влево/вправо 11"/>
          <p:cNvSpPr/>
          <p:nvPr/>
        </p:nvSpPr>
        <p:spPr>
          <a:xfrm>
            <a:off x="3124080" y="4495680"/>
            <a:ext cx="3353040" cy="576360"/>
          </a:xfrm>
          <a:custGeom>
            <a:avLst/>
            <a:gdLst>
              <a:gd name="textAreaLeft" fmla="*/ 869760 w 3353040"/>
              <a:gd name="textAreaRight" fmla="*/ 2483280 w 33530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20672" y="8100"/>
                </a:lnTo>
                <a:lnTo>
                  <a:pt x="20672" y="5500"/>
                </a:lnTo>
                <a:lnTo>
                  <a:pt x="21600" y="10800"/>
                </a:lnTo>
                <a:lnTo>
                  <a:pt x="20672" y="16100"/>
                </a:lnTo>
                <a:lnTo>
                  <a:pt x="20672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928" y="13500"/>
                </a:lnTo>
                <a:lnTo>
                  <a:pt x="928" y="16100"/>
                </a:lnTo>
                <a:lnTo>
                  <a:pt x="0" y="10800"/>
                </a:lnTo>
                <a:lnTo>
                  <a:pt x="928" y="5500"/>
                </a:lnTo>
                <a:lnTo>
                  <a:pt x="928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918720" y="4724280"/>
            <a:ext cx="1748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Растворимы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cc"/>
                </a:solidFill>
                <a:latin typeface="Arial"/>
              </a:rPr>
              <a:t>ЩЕЛОЧИ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6793560" y="46483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нерастворимы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152280" y="54100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ОБРАЗУЮТ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Металлы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А группы - щелочны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Металлы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I I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А группы – щелочно-земельны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4760" y="502920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ОБРАЗУЮТ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Остальные металлы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748720" cy="3938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5280" y="2514600"/>
            <a:ext cx="1905120" cy="152280"/>
          </a:xfrm>
          <a:prstGeom prst="rightArrow">
            <a:avLst>
              <a:gd name="adj1" fmla="val 50000"/>
              <a:gd name="adj2" fmla="val 312766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3258360" y="2303280"/>
            <a:ext cx="322560" cy="135000"/>
          </a:xfrm>
          <a:prstGeom prst="rightArrow">
            <a:avLst>
              <a:gd name="adj1" fmla="val 50000"/>
              <a:gd name="adj2" fmla="val 59733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362320"/>
            <a:ext cx="1904760" cy="75960"/>
          </a:xfrm>
          <a:prstGeom prst="rightArrow">
            <a:avLst>
              <a:gd name="adj1" fmla="val 50000"/>
              <a:gd name="adj2" fmla="val 626896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2362320"/>
            <a:ext cx="3657600" cy="75960"/>
          </a:xfrm>
          <a:prstGeom prst="rightArrow">
            <a:avLst>
              <a:gd name="adj1" fmla="val 50000"/>
              <a:gd name="adj2" fmla="val 1203791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2514600"/>
            <a:ext cx="5257800" cy="76320"/>
          </a:xfrm>
          <a:prstGeom prst="rightArrow">
            <a:avLst>
              <a:gd name="adj1" fmla="val 50000"/>
              <a:gd name="adj2" fmla="val 172228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6552720" y="220968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95480" y="190080"/>
            <a:ext cx="563904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350520" y="3429000"/>
            <a:ext cx="440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Н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гидроксид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маг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871920" y="5181480"/>
            <a:ext cx="477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Н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гидроксид 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желез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II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68480" y="2819520"/>
            <a:ext cx="5170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ОН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гидроксид 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кальция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618720" y="5943600"/>
            <a:ext cx="48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Н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гидроксид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желез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III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61680" y="1295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Алгоритм составления названий основани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02960" y="1911240"/>
            <a:ext cx="93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omic Sans MS"/>
              </a:rPr>
              <a:t>На первое место ставится слово «гидроксид»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omic Sans MS"/>
              </a:rPr>
              <a:t>Затем – наименование металла в родительном падеже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03848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Если элемент проявляет переменную степень окисления, её значение указывают скобках римской после названия элемента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1960" y="190440"/>
            <a:ext cx="6172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cc"/>
                </a:solidFill>
                <a:latin typeface="Comic Sans MS"/>
              </a:rPr>
              <a:t>Применение щелоче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401000">
            <a:off x="837720" y="1371600"/>
            <a:ext cx="895320" cy="2484360"/>
          </a:xfrm>
          <a:custGeom>
            <a:avLst/>
            <a:gdLst>
              <a:gd name="textAreaLeft" fmla="*/ 119880 w 895320"/>
              <a:gd name="textAreaRight" fmla="*/ 775440 w 895320"/>
              <a:gd name="textAreaTop" fmla="*/ 470880 h 2484360"/>
              <a:gd name="textAreaBottom" fmla="*/ 1620360 h 24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90" stAng="-5400000" swAng="-5400000"/>
                <a:lnTo>
                  <a:pt x="0" y="9992"/>
                </a:lnTo>
                <a:arcTo wR="21600" hR="8190" stAng="10800000" swAng="-2820018"/>
                <a:lnTo>
                  <a:pt x="14400" y="21132"/>
                </a:lnTo>
                <a:lnTo>
                  <a:pt x="21600" y="17280"/>
                </a:lnTo>
                <a:lnTo>
                  <a:pt x="14400" y="12492"/>
                </a:lnTo>
                <a:lnTo>
                  <a:pt x="14400" y="15911"/>
                </a:lnTo>
                <a:arcTo wR="21600" hR="8190" stAng="7979982" swAng="2675828"/>
                <a:lnTo>
                  <a:pt x="131" y="9090"/>
                </a:lnTo>
                <a:arcTo wR="21600" hR="8190" stAng="-10655810" swAng="5255810"/>
                <a:close/>
              </a:path>
              <a:path fill="darkenLess" w="21600" h="21600">
                <a:moveTo>
                  <a:pt x="21600" y="0"/>
                </a:moveTo>
                <a:arcTo wR="21600" hR="8190" stAng="-5400000" swAng="-5400000"/>
                <a:lnTo>
                  <a:pt x="0" y="8190"/>
                </a:lnTo>
                <a:arcTo wR="21600" hR="8190" stAng="10800000" swAng="-144190"/>
                <a:lnTo>
                  <a:pt x="131" y="9090"/>
                </a:lnTo>
                <a:arcTo wR="21600" hR="8190" stAng="-10655810" swAng="5255810"/>
                <a:close/>
              </a:path>
            </a:pathLst>
          </a:custGeom>
          <a:solidFill>
            <a:srgbClr val="dcde8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2952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dcde8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729400">
            <a:off x="6975000" y="1234800"/>
            <a:ext cx="760680" cy="2338200"/>
          </a:xfrm>
          <a:custGeom>
            <a:avLst/>
            <a:gdLst>
              <a:gd name="textAreaLeft" fmla="*/ 101880 w 760680"/>
              <a:gd name="textAreaRight" fmla="*/ 658800 w 760680"/>
              <a:gd name="textAreaTop" fmla="*/ 435600 h 2338200"/>
              <a:gd name="textAreaBottom" fmla="*/ 156240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52" stAng="-5400000" swAng="5400000"/>
                <a:lnTo>
                  <a:pt x="21600" y="10406"/>
                </a:lnTo>
                <a:arcTo wR="21600" hR="8052" stAng="0" swAng="2790862"/>
                <a:lnTo>
                  <a:pt x="7200" y="21140"/>
                </a:lnTo>
                <a:lnTo>
                  <a:pt x="0" y="17280"/>
                </a:lnTo>
                <a:lnTo>
                  <a:pt x="7200" y="12500"/>
                </a:lnTo>
                <a:lnTo>
                  <a:pt x="7200" y="15643"/>
                </a:lnTo>
                <a:arcTo wR="21600" hR="8052" stAng="2790862" swAng="-2601693"/>
                <a:lnTo>
                  <a:pt x="21368" y="9229"/>
                </a:lnTo>
                <a:arcTo wR="21600" hR="8052" stAng="-189168" swAng="-5210832"/>
                <a:close/>
              </a:path>
              <a:path fill="darkenLess" w="21600" h="21600">
                <a:moveTo>
                  <a:pt x="0" y="0"/>
                </a:moveTo>
                <a:arcTo wR="21600" hR="8052" stAng="-5400000" swAng="5400000"/>
                <a:lnTo>
                  <a:pt x="21600" y="10406"/>
                </a:lnTo>
                <a:arcTo wR="21600" hR="8052" stAng="0" swAng="-189168"/>
                <a:lnTo>
                  <a:pt x="21368" y="9229"/>
                </a:lnTo>
                <a:arcTo wR="21600" hR="8052" stAng="-189168" swAng="-5210832"/>
                <a:close/>
              </a:path>
            </a:pathLst>
          </a:custGeom>
          <a:solidFill>
            <a:srgbClr val="dcde8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1096600">
            <a:off x="0" y="3580920"/>
            <a:ext cx="495288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NaOH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гидроксид натрия (едкий натр)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один из важнейших продуктов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химической промышленности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рименяется для очистки продуктов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ереработки нефти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в бумажной, текстильной и др. отраслях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057400"/>
            <a:ext cx="373392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H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гидроксид калия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(едкое кали)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рименяется в производстве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жидкого мыла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тугоплавкого стекла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904800">
            <a:off x="5638320" y="3809880"/>
            <a:ext cx="3124440" cy="2210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H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ru-RU" sz="16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гидроксид кальция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(гашеная известь)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рименяется в строительстве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ри кладке и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штукатурке стен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52280" y="173340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1.Формула основания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NaOH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   б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HCL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     в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 CuCL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2</a:t>
            </a:r>
            <a:r>
              <a:rPr b="1" lang="ru-RU" sz="2200" spc="-1" strike="noStrike" baseline="-25000">
                <a:solidFill>
                  <a:srgbClr val="ff33cc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г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   SO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2. Формула растворимого основа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) К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O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Н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 б) С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u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(ОН)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2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в) А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l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(ОН)</a:t>
            </a:r>
            <a:r>
              <a:rPr b="1" lang="ru-RU" sz="2200" spc="-1" strike="noStrike" baseline="-25000">
                <a:solidFill>
                  <a:srgbClr val="ff33cc"/>
                </a:solidFill>
                <a:latin typeface="Comic Sans MS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3. Степень окисления железа в </a:t>
            </a:r>
            <a:r>
              <a:rPr b="1" lang="en-US" sz="2200" spc="-1" strike="noStrike">
                <a:solidFill>
                  <a:srgbClr val="003399"/>
                </a:solidFill>
                <a:latin typeface="Comic Sans MS"/>
              </a:rPr>
              <a:t>Fe(OH)</a:t>
            </a:r>
            <a:r>
              <a:rPr b="1" lang="en-US" sz="22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r>
              <a:rPr b="1" lang="en-US" sz="2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) -2    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б) -1  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в) +3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г)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4. Формула гидроксида бар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) Ва(ОН)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2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    б) ВаОН       в) Ва(ОН)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3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5. Многокислотное основа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) К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O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Н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       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б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N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O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Н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      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в) 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Li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О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H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г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l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(ОН)</a:t>
            </a:r>
            <a:r>
              <a:rPr b="1" lang="ru-RU" sz="2200" spc="-1" strike="noStrike" baseline="-25000">
                <a:solidFill>
                  <a:srgbClr val="ff33cc"/>
                </a:solidFill>
                <a:latin typeface="Comic Sans MS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c8a8a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4c8a8a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8-19T16:23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