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4428-AE7C-4E76-9249-C2272FE80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E224-381F-4D84-BD27-2F6C6F13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7482-D3DA-4470-8C51-6069A320A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C3F8-998C-4991-9BF6-ED41C92A0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93D7-D93E-4BA3-8019-2CD9683D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1BBB-C69C-4FB9-B9FA-7C94CE40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0294-F529-4EDA-AD90-3257D4B4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5CA7-9729-4A51-9A53-622097C4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D166-A5F5-481D-903D-F9647B09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0FFB-247E-43EE-8FAE-5A59A3B3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D035-4407-46E7-B698-608057FC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A6D8-14BA-4B9B-8044-AA08A157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A667-2372-4A7E-AADA-C239D5658790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95120" y="4038120"/>
            <a:ext cx="5334120" cy="215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cc"/>
                </a:solidFill>
                <a:latin typeface="Comic Sans MS"/>
              </a:rPr>
              <a:t>основания</a:t>
            </a:r>
            <a:r>
              <a:rPr b="0" lang="en-US" sz="4800" spc="-1" strike="noStrike">
                <a:solidFill>
                  <a:srgbClr val="ff33cc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980720" y="457200"/>
            <a:ext cx="6629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66"/>
                </a:solidFill>
                <a:latin typeface="Comic Sans MS"/>
              </a:rPr>
              <a:t>Классификация сложных неорганических вещест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cc"/>
                </a:solidFill>
                <a:latin typeface="Arial"/>
              </a:rPr>
              <a:t>ОТВЕТЫ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ИТОГ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18960" y="1599840"/>
            <a:ext cx="7010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Если ты ответил правильно на все вопросы  – получи отметку «5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4620"/>
                </a:solidFill>
                <a:latin typeface="Arial"/>
              </a:rPr>
              <a:t>Если все же ты ошибся, но всего 1 лишь раз,  твоя отметка «4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Кто ошибся 2 раза, получил отметку «3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Остальным сегодня не повезло 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66520" y="190440"/>
            <a:ext cx="5867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33cc"/>
                </a:solidFill>
                <a:latin typeface="Arial"/>
              </a:rPr>
              <a:t>Сложные веществ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971800" y="1295280"/>
            <a:ext cx="581040" cy="1214640"/>
          </a:xfrm>
          <a:custGeom>
            <a:avLst/>
            <a:gdLst>
              <a:gd name="textAreaLeft" fmla="*/ 77760 w 581040"/>
              <a:gd name="textAreaRight" fmla="*/ 503280 w 58104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69696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7010280" y="1295280"/>
            <a:ext cx="533520" cy="1214640"/>
          </a:xfrm>
          <a:custGeom>
            <a:avLst/>
            <a:gdLst>
              <a:gd name="textAreaLeft" fmla="*/ 71280 w 533520"/>
              <a:gd name="textAreaRight" fmla="*/ 462240 w 5335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69696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357280" y="2590920"/>
            <a:ext cx="32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Comic Sans MS"/>
              </a:rPr>
              <a:t>неорганические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6267600" y="2600280"/>
            <a:ext cx="28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Comic Sans MS"/>
              </a:rPr>
              <a:t>органические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307080" y="351468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ксиды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3438360" y="47340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ислоты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533520" y="43434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основания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5500440" y="464832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оли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" name="AutoShape 12"/>
          <p:cNvSpPr/>
          <p:nvPr/>
        </p:nvSpPr>
        <p:spPr>
          <a:xfrm rot="9897600">
            <a:off x="931320" y="3120840"/>
            <a:ext cx="1447560" cy="269640"/>
          </a:xfrm>
          <a:prstGeom prst="rightArrow">
            <a:avLst>
              <a:gd name="adj1" fmla="val 50000"/>
              <a:gd name="adj2" fmla="val 134212"/>
            </a:avLst>
          </a:prstGeom>
          <a:solidFill>
            <a:srgbClr val="969696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" name="AutoShape 13"/>
          <p:cNvSpPr/>
          <p:nvPr/>
        </p:nvSpPr>
        <p:spPr>
          <a:xfrm rot="7268400">
            <a:off x="1796760" y="3736800"/>
            <a:ext cx="1357560" cy="249120"/>
          </a:xfrm>
          <a:prstGeom prst="rightArrow">
            <a:avLst>
              <a:gd name="adj1" fmla="val 50000"/>
              <a:gd name="adj2" fmla="val 136236"/>
            </a:avLst>
          </a:prstGeom>
          <a:solidFill>
            <a:srgbClr val="969696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" name="AutoShape 14"/>
          <p:cNvSpPr/>
          <p:nvPr/>
        </p:nvSpPr>
        <p:spPr>
          <a:xfrm rot="5400000">
            <a:off x="3382920" y="3932280"/>
            <a:ext cx="1339920" cy="180720"/>
          </a:xfrm>
          <a:prstGeom prst="rightArrow">
            <a:avLst>
              <a:gd name="adj1" fmla="val 50000"/>
              <a:gd name="adj2" fmla="val 185359"/>
            </a:avLst>
          </a:prstGeom>
          <a:solidFill>
            <a:srgbClr val="969696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9" name="AutoShape 15"/>
          <p:cNvSpPr/>
          <p:nvPr/>
        </p:nvSpPr>
        <p:spPr>
          <a:xfrm rot="2944800">
            <a:off x="4615200" y="3666960"/>
            <a:ext cx="1492200" cy="247680"/>
          </a:xfrm>
          <a:prstGeom prst="rightArrow">
            <a:avLst>
              <a:gd name="adj1" fmla="val 50000"/>
              <a:gd name="adj2" fmla="val 150618"/>
            </a:avLst>
          </a:prstGeom>
          <a:solidFill>
            <a:srgbClr val="969696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7920" y="533520"/>
            <a:ext cx="63248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6666"/>
                </a:solidFill>
                <a:latin typeface="Arial"/>
              </a:rPr>
              <a:t>ЦЕЛИ УРОКА: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mic Sans MS"/>
              </a:rPr>
              <a:t>дать определение основани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mic Sans MS"/>
              </a:rPr>
              <a:t>рассмотреть состав основа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mic Sans MS"/>
              </a:rPr>
              <a:t>классифицировать основа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mic Sans MS"/>
              </a:rPr>
              <a:t>ознакомиться с номенклатурой осн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-360"/>
            <a:ext cx="723888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cc"/>
                </a:solidFill>
                <a:latin typeface="Comic Sans MS"/>
              </a:rPr>
              <a:t>Основания</a:t>
            </a:r>
            <a:r>
              <a:rPr b="0" lang="ru-RU" sz="3800" spc="-1" strike="noStrike">
                <a:solidFill>
                  <a:srgbClr val="ff33cc"/>
                </a:solidFill>
                <a:latin typeface="Comic Sans MS"/>
              </a:rPr>
              <a:t>– это сложные вещества, состоящие из ионов металлов и гидроксид - ионов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343040" y="4876920"/>
            <a:ext cx="44197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Arial"/>
              </a:rPr>
              <a:t>общая форму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Arial"/>
              </a:rPr>
              <a:t>основа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22040" y="35053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Н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3640" y="373392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ИДРОКСИД - ИОН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83080" y="34290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59920" y="4724280"/>
            <a:ext cx="22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Ме(     )п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6 -0.15105 L 0.0066 0.18205 E">
                                      <p:cBhvr>
                                        <p:cTn id="100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91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Классификация оснований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3880" y="3886200"/>
            <a:ext cx="701064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66"/>
                </a:solidFill>
                <a:uFillTx/>
                <a:latin typeface="Comic Sans MS"/>
                <a:hlinkClick r:id="rId1" action="ppaction://hlinksldjump"/>
              </a:rPr>
              <a:t>2. По растворимости в вод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1872000" y="1600200"/>
            <a:ext cx="51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Comic Sans MS"/>
              </a:rPr>
              <a:t>1. По числу гидроксид – ионов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1" name="Выноска со стрелками влево/вправо 4"/>
          <p:cNvSpPr/>
          <p:nvPr/>
        </p:nvSpPr>
        <p:spPr>
          <a:xfrm>
            <a:off x="3200400" y="2209680"/>
            <a:ext cx="3200400" cy="576360"/>
          </a:xfrm>
          <a:custGeom>
            <a:avLst/>
            <a:gdLst>
              <a:gd name="textAreaLeft" fmla="*/ 830160 w 3200400"/>
              <a:gd name="textAreaRight" fmla="*/ 2370240 w 32004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5603" y="0"/>
                </a:moveTo>
                <a:lnTo>
                  <a:pt x="15997" y="0"/>
                </a:lnTo>
                <a:lnTo>
                  <a:pt x="15997" y="8100"/>
                </a:lnTo>
                <a:lnTo>
                  <a:pt x="20628" y="8100"/>
                </a:lnTo>
                <a:lnTo>
                  <a:pt x="20628" y="5500"/>
                </a:lnTo>
                <a:lnTo>
                  <a:pt x="21600" y="10800"/>
                </a:lnTo>
                <a:lnTo>
                  <a:pt x="20628" y="16100"/>
                </a:lnTo>
                <a:lnTo>
                  <a:pt x="20628" y="13500"/>
                </a:lnTo>
                <a:lnTo>
                  <a:pt x="15997" y="13500"/>
                </a:lnTo>
                <a:lnTo>
                  <a:pt x="15997" y="21600"/>
                </a:lnTo>
                <a:lnTo>
                  <a:pt x="5603" y="21600"/>
                </a:lnTo>
                <a:lnTo>
                  <a:pt x="5603" y="13500"/>
                </a:lnTo>
                <a:lnTo>
                  <a:pt x="972" y="13500"/>
                </a:lnTo>
                <a:lnTo>
                  <a:pt x="972" y="16100"/>
                </a:lnTo>
                <a:lnTo>
                  <a:pt x="0" y="10800"/>
                </a:lnTo>
                <a:lnTo>
                  <a:pt x="972" y="5500"/>
                </a:lnTo>
                <a:lnTo>
                  <a:pt x="972" y="8100"/>
                </a:lnTo>
                <a:lnTo>
                  <a:pt x="5603" y="8100"/>
                </a:lnTo>
                <a:close/>
              </a:path>
            </a:pathLst>
          </a:cu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688680" y="2286000"/>
            <a:ext cx="218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однокислотные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6788520" y="22860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многокислотные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4" name="Прямоугольник 7"/>
          <p:cNvSpPr/>
          <p:nvPr/>
        </p:nvSpPr>
        <p:spPr>
          <a:xfrm>
            <a:off x="1148400" y="274320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КОН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NaOH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5" name="Прямоугольник 8"/>
          <p:cNvSpPr/>
          <p:nvPr/>
        </p:nvSpPr>
        <p:spPr>
          <a:xfrm>
            <a:off x="7098840" y="2666880"/>
            <a:ext cx="11041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Ca(OH) </a:t>
            </a:r>
            <a:r>
              <a:rPr b="1" lang="en-US" sz="1800" spc="-1" strike="noStrike" baseline="-25000">
                <a:solidFill>
                  <a:srgbClr val="3366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Fe(OH)</a:t>
            </a:r>
            <a:r>
              <a:rPr b="1" lang="en-US" sz="1800" spc="-1" strike="noStrike" baseline="-25000">
                <a:solidFill>
                  <a:srgbClr val="336666"/>
                </a:solidFill>
                <a:latin typeface="Arial"/>
              </a:rPr>
              <a:t> 3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6" name="Выноска со стрелками влево/вправо 11"/>
          <p:cNvSpPr/>
          <p:nvPr/>
        </p:nvSpPr>
        <p:spPr>
          <a:xfrm>
            <a:off x="3124080" y="4495680"/>
            <a:ext cx="3353040" cy="576360"/>
          </a:xfrm>
          <a:custGeom>
            <a:avLst/>
            <a:gdLst>
              <a:gd name="textAreaLeft" fmla="*/ 869760 w 3353040"/>
              <a:gd name="textAreaRight" fmla="*/ 2483280 w 33530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5603" y="0"/>
                </a:moveTo>
                <a:lnTo>
                  <a:pt x="15997" y="0"/>
                </a:lnTo>
                <a:lnTo>
                  <a:pt x="15997" y="8100"/>
                </a:lnTo>
                <a:lnTo>
                  <a:pt x="20672" y="8100"/>
                </a:lnTo>
                <a:lnTo>
                  <a:pt x="20672" y="5500"/>
                </a:lnTo>
                <a:lnTo>
                  <a:pt x="21600" y="10800"/>
                </a:lnTo>
                <a:lnTo>
                  <a:pt x="20672" y="16100"/>
                </a:lnTo>
                <a:lnTo>
                  <a:pt x="20672" y="13500"/>
                </a:lnTo>
                <a:lnTo>
                  <a:pt x="15997" y="13500"/>
                </a:lnTo>
                <a:lnTo>
                  <a:pt x="15997" y="21600"/>
                </a:lnTo>
                <a:lnTo>
                  <a:pt x="5603" y="21600"/>
                </a:lnTo>
                <a:lnTo>
                  <a:pt x="5603" y="13500"/>
                </a:lnTo>
                <a:lnTo>
                  <a:pt x="928" y="13500"/>
                </a:lnTo>
                <a:lnTo>
                  <a:pt x="928" y="16100"/>
                </a:lnTo>
                <a:lnTo>
                  <a:pt x="0" y="10800"/>
                </a:lnTo>
                <a:lnTo>
                  <a:pt x="928" y="5500"/>
                </a:lnTo>
                <a:lnTo>
                  <a:pt x="928" y="8100"/>
                </a:lnTo>
                <a:lnTo>
                  <a:pt x="5603" y="8100"/>
                </a:lnTo>
                <a:close/>
              </a:path>
            </a:pathLst>
          </a:cu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7" name="Прямоугольник 12"/>
          <p:cNvSpPr/>
          <p:nvPr/>
        </p:nvSpPr>
        <p:spPr>
          <a:xfrm>
            <a:off x="918720" y="4724280"/>
            <a:ext cx="1748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Растворимые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cc"/>
                </a:solidFill>
                <a:latin typeface="Arial"/>
              </a:rPr>
              <a:t>ЩЕЛОЧИ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8" name="Прямоугольник 13"/>
          <p:cNvSpPr/>
          <p:nvPr/>
        </p:nvSpPr>
        <p:spPr>
          <a:xfrm>
            <a:off x="6793560" y="4648320"/>
            <a:ext cx="20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нерастворимые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9" name="Прямоугольник 14"/>
          <p:cNvSpPr/>
          <p:nvPr/>
        </p:nvSpPr>
        <p:spPr>
          <a:xfrm>
            <a:off x="152280" y="541008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ОБРАЗУЮТ: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Металлы </a:t>
            </a: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 А группы - щелочные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Металлы </a:t>
            </a: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I I</a:t>
            </a: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 А группы – щелочно-земельные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4760" y="5029200"/>
            <a:ext cx="255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ОБРАЗУЮТ: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Остальные металлы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748720" cy="3938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295280" y="2514600"/>
            <a:ext cx="1905120" cy="152280"/>
          </a:xfrm>
          <a:prstGeom prst="rightArrow">
            <a:avLst>
              <a:gd name="adj1" fmla="val 50000"/>
              <a:gd name="adj2" fmla="val 312766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3258360" y="2303280"/>
            <a:ext cx="322560" cy="135000"/>
          </a:xfrm>
          <a:prstGeom prst="rightArrow">
            <a:avLst>
              <a:gd name="adj1" fmla="val 50000"/>
              <a:gd name="adj2" fmla="val 59733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2362320"/>
            <a:ext cx="1904760" cy="75960"/>
          </a:xfrm>
          <a:prstGeom prst="rightArrow">
            <a:avLst>
              <a:gd name="adj1" fmla="val 50000"/>
              <a:gd name="adj2" fmla="val 626896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2362320"/>
            <a:ext cx="3657600" cy="75960"/>
          </a:xfrm>
          <a:prstGeom prst="rightArrow">
            <a:avLst>
              <a:gd name="adj1" fmla="val 50000"/>
              <a:gd name="adj2" fmla="val 1203791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2514600"/>
            <a:ext cx="5257800" cy="76320"/>
          </a:xfrm>
          <a:prstGeom prst="rightArrow">
            <a:avLst>
              <a:gd name="adj1" fmla="val 50000"/>
              <a:gd name="adj2" fmla="val 172228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6552720" y="220968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95480" y="190080"/>
            <a:ext cx="563904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Номенклатура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350520" y="3429000"/>
            <a:ext cx="4406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ОН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Comic Sans MS"/>
              </a:rPr>
              <a:t>гидроксид</a:t>
            </a: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 магния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871920" y="5181480"/>
            <a:ext cx="477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ОН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Comic Sans MS"/>
              </a:rPr>
              <a:t>гидроксид </a:t>
            </a: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желез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II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68480" y="2819520"/>
            <a:ext cx="5170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ОН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Comic Sans MS"/>
              </a:rPr>
              <a:t>гидроксид </a:t>
            </a:r>
            <a:r>
              <a:rPr b="0" lang="ru-RU" sz="2800" spc="-1" strike="noStrike">
                <a:solidFill>
                  <a:srgbClr val="660066"/>
                </a:solidFill>
                <a:latin typeface="Comic Sans MS"/>
              </a:rPr>
              <a:t>кальция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3618720" y="5943600"/>
            <a:ext cx="48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ОН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Comic Sans MS"/>
              </a:rPr>
              <a:t>гидроксид</a:t>
            </a:r>
            <a:r>
              <a:rPr b="0" lang="ru-RU" sz="2400" spc="-1" strike="noStrike">
                <a:solidFill>
                  <a:srgbClr val="660066"/>
                </a:solidFill>
                <a:latin typeface="Comic Sans MS"/>
              </a:rPr>
              <a:t> желез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III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61680" y="1295280"/>
            <a:ext cx="73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Алгоритм составления названий оснований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102960" y="1911240"/>
            <a:ext cx="93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omic Sans MS"/>
              </a:rPr>
              <a:t>На первое место ставится слово «гидроксид»;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omic Sans MS"/>
              </a:rPr>
              <a:t>Затем – наименование металла в родительном падеже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4038480"/>
            <a:ext cx="8305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66"/>
                </a:solidFill>
                <a:latin typeface="Comic Sans MS"/>
              </a:rPr>
              <a:t>Если элемент проявляет переменную степень окисления, её значение указывают скобках римской после названия элемента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61960" y="190440"/>
            <a:ext cx="61722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cc"/>
                </a:solidFill>
                <a:latin typeface="Comic Sans MS"/>
              </a:rPr>
              <a:t>Применение щелочей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401000">
            <a:off x="837720" y="1371600"/>
            <a:ext cx="895320" cy="2484360"/>
          </a:xfrm>
          <a:custGeom>
            <a:avLst/>
            <a:gdLst>
              <a:gd name="textAreaLeft" fmla="*/ 119880 w 895320"/>
              <a:gd name="textAreaRight" fmla="*/ 775440 w 895320"/>
              <a:gd name="textAreaTop" fmla="*/ 470880 h 2484360"/>
              <a:gd name="textAreaBottom" fmla="*/ 1620360 h 24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90" stAng="-5400000" swAng="-5400000"/>
                <a:lnTo>
                  <a:pt x="0" y="9992"/>
                </a:lnTo>
                <a:arcTo wR="21600" hR="8190" stAng="10800000" swAng="-2820018"/>
                <a:lnTo>
                  <a:pt x="14400" y="21132"/>
                </a:lnTo>
                <a:lnTo>
                  <a:pt x="21600" y="17280"/>
                </a:lnTo>
                <a:lnTo>
                  <a:pt x="14400" y="12492"/>
                </a:lnTo>
                <a:lnTo>
                  <a:pt x="14400" y="15911"/>
                </a:lnTo>
                <a:arcTo wR="21600" hR="8190" stAng="7979982" swAng="2675828"/>
                <a:lnTo>
                  <a:pt x="131" y="9090"/>
                </a:lnTo>
                <a:arcTo wR="21600" hR="8190" stAng="-10655810" swAng="5255810"/>
                <a:close/>
              </a:path>
              <a:path fill="darkenLess" w="21600" h="21600">
                <a:moveTo>
                  <a:pt x="21600" y="0"/>
                </a:moveTo>
                <a:arcTo wR="21600" hR="8190" stAng="-5400000" swAng="-5400000"/>
                <a:lnTo>
                  <a:pt x="0" y="8190"/>
                </a:lnTo>
                <a:arcTo wR="21600" hR="8190" stAng="10800000" swAng="-144190"/>
                <a:lnTo>
                  <a:pt x="131" y="9090"/>
                </a:lnTo>
                <a:arcTo wR="21600" hR="8190" stAng="-10655810" swAng="5255810"/>
                <a:close/>
              </a:path>
            </a:pathLst>
          </a:custGeom>
          <a:solidFill>
            <a:srgbClr val="dcde88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129528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dcde88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20729400">
            <a:off x="6975000" y="1234800"/>
            <a:ext cx="760680" cy="2338200"/>
          </a:xfrm>
          <a:custGeom>
            <a:avLst/>
            <a:gdLst>
              <a:gd name="textAreaLeft" fmla="*/ 101880 w 760680"/>
              <a:gd name="textAreaRight" fmla="*/ 658800 w 760680"/>
              <a:gd name="textAreaTop" fmla="*/ 435600 h 2338200"/>
              <a:gd name="textAreaBottom" fmla="*/ 1562400 h 233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052" stAng="-5400000" swAng="5400000"/>
                <a:lnTo>
                  <a:pt x="21600" y="10406"/>
                </a:lnTo>
                <a:arcTo wR="21600" hR="8052" stAng="0" swAng="2790862"/>
                <a:lnTo>
                  <a:pt x="7200" y="21140"/>
                </a:lnTo>
                <a:lnTo>
                  <a:pt x="0" y="17280"/>
                </a:lnTo>
                <a:lnTo>
                  <a:pt x="7200" y="12500"/>
                </a:lnTo>
                <a:lnTo>
                  <a:pt x="7200" y="15643"/>
                </a:lnTo>
                <a:arcTo wR="21600" hR="8052" stAng="2790862" swAng="-2601693"/>
                <a:lnTo>
                  <a:pt x="21368" y="9229"/>
                </a:lnTo>
                <a:arcTo wR="21600" hR="8052" stAng="-189168" swAng="-5210832"/>
                <a:close/>
              </a:path>
              <a:path fill="darkenLess" w="21600" h="21600">
                <a:moveTo>
                  <a:pt x="0" y="0"/>
                </a:moveTo>
                <a:arcTo wR="21600" hR="8052" stAng="-5400000" swAng="5400000"/>
                <a:lnTo>
                  <a:pt x="21600" y="10406"/>
                </a:lnTo>
                <a:arcTo wR="21600" hR="8052" stAng="0" swAng="-189168"/>
                <a:lnTo>
                  <a:pt x="21368" y="9229"/>
                </a:lnTo>
                <a:arcTo wR="21600" hR="8052" stAng="-189168" swAng="-5210832"/>
                <a:close/>
              </a:path>
            </a:pathLst>
          </a:custGeom>
          <a:solidFill>
            <a:srgbClr val="dcde88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21096600">
            <a:off x="0" y="3580920"/>
            <a:ext cx="4952880" cy="2743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NaOH</a:t>
            </a: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-гидроксид натрия (едкий натр),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один из важнейших продуктов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химической промышленности;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применяется для очистки продуктов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переработки нефти;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в бумажной, текстильной и др. отраслях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2057400"/>
            <a:ext cx="373392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OH</a:t>
            </a: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-гидроксид калия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(едкое кали),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применяется в производстве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жидкого мыла,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тугоплавкого стекла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904800">
            <a:off x="5638320" y="3809880"/>
            <a:ext cx="3124440" cy="22100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OH</a:t>
            </a: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ru-RU" sz="16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-гидроксид кальция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(гашеная известь),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применяется в строительстве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при кладке и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штукатурке стен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52280" y="1733400"/>
            <a:ext cx="662940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00cc"/>
                </a:solidFill>
                <a:latin typeface="Arial"/>
              </a:rPr>
              <a:t>ПРОВЕРЬ СЕБ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64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Comic Sans MS"/>
              </a:rPr>
              <a:t>1.Формула основания эт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Comic Sans MS"/>
              </a:rPr>
              <a:t>     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а)</a:t>
            </a:r>
            <a:r>
              <a:rPr b="1" lang="en-US" sz="2200" spc="-1" strike="noStrike">
                <a:solidFill>
                  <a:srgbClr val="ff33cc"/>
                </a:solidFill>
                <a:latin typeface="Comic Sans MS"/>
              </a:rPr>
              <a:t> NaOH 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     б)</a:t>
            </a:r>
            <a:r>
              <a:rPr b="1" lang="en-US" sz="2200" spc="-1" strike="noStrike">
                <a:solidFill>
                  <a:srgbClr val="ff33cc"/>
                </a:solidFill>
                <a:latin typeface="Comic Sans MS"/>
              </a:rPr>
              <a:t> HCL 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       в)</a:t>
            </a:r>
            <a:r>
              <a:rPr b="1" lang="en-US" sz="2200" spc="-1" strike="noStrike">
                <a:solidFill>
                  <a:srgbClr val="ff33cc"/>
                </a:solidFill>
                <a:latin typeface="Comic Sans MS"/>
              </a:rPr>
              <a:t>  CuCL</a:t>
            </a:r>
            <a:r>
              <a:rPr b="1" lang="en-US" sz="2200" spc="-1" strike="noStrike" baseline="-25000">
                <a:solidFill>
                  <a:srgbClr val="ff33cc"/>
                </a:solidFill>
                <a:latin typeface="Comic Sans MS"/>
              </a:rPr>
              <a:t>2</a:t>
            </a:r>
            <a:r>
              <a:rPr b="1" lang="ru-RU" sz="2200" spc="-1" strike="noStrike" baseline="-25000">
                <a:solidFill>
                  <a:srgbClr val="ff33cc"/>
                </a:solidFill>
                <a:latin typeface="Comic Sans MS"/>
              </a:rPr>
              <a:t>     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г)</a:t>
            </a:r>
            <a:r>
              <a:rPr b="1" lang="en-US" sz="2200" spc="-1" strike="noStrike">
                <a:solidFill>
                  <a:srgbClr val="ff33cc"/>
                </a:solidFill>
                <a:latin typeface="Comic Sans MS"/>
              </a:rPr>
              <a:t>    SO</a:t>
            </a:r>
            <a:r>
              <a:rPr b="1" lang="en-US" sz="2200" spc="-1" strike="noStrike" baseline="-25000">
                <a:solidFill>
                  <a:srgbClr val="ff33cc"/>
                </a:solidFill>
                <a:latin typeface="Comic Sans MS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Comic Sans MS"/>
              </a:rPr>
              <a:t>2. Формула растворимого основани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Comic Sans MS"/>
              </a:rPr>
              <a:t>     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а) К</a:t>
            </a:r>
            <a:r>
              <a:rPr b="1" lang="en-US" sz="2200" spc="-1" strike="noStrike">
                <a:solidFill>
                  <a:srgbClr val="ff33cc"/>
                </a:solidFill>
                <a:latin typeface="Comic Sans MS"/>
              </a:rPr>
              <a:t>O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Н</a:t>
            </a:r>
            <a:r>
              <a:rPr b="1" lang="en-US" sz="2200" spc="-1" strike="noStrike" baseline="-25000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   б) С</a:t>
            </a:r>
            <a:r>
              <a:rPr b="1" lang="en-US" sz="2200" spc="-1" strike="noStrike">
                <a:solidFill>
                  <a:srgbClr val="ff33cc"/>
                </a:solidFill>
                <a:latin typeface="Comic Sans MS"/>
              </a:rPr>
              <a:t>u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(ОН)</a:t>
            </a:r>
            <a:r>
              <a:rPr b="1" lang="en-US" sz="2200" spc="-1" strike="noStrike" baseline="-25000">
                <a:solidFill>
                  <a:srgbClr val="ff33cc"/>
                </a:solidFill>
                <a:latin typeface="Comic Sans MS"/>
              </a:rPr>
              <a:t>2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2200" spc="-1" strike="noStrike">
                <a:solidFill>
                  <a:srgbClr val="ff33cc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в) А</a:t>
            </a:r>
            <a:r>
              <a:rPr b="1" lang="en-US" sz="2200" spc="-1" strike="noStrike">
                <a:solidFill>
                  <a:srgbClr val="ff33cc"/>
                </a:solidFill>
                <a:latin typeface="Comic Sans MS"/>
              </a:rPr>
              <a:t>l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(ОН)</a:t>
            </a:r>
            <a:r>
              <a:rPr b="1" lang="ru-RU" sz="2200" spc="-1" strike="noStrike" baseline="-25000">
                <a:solidFill>
                  <a:srgbClr val="ff33cc"/>
                </a:solidFill>
                <a:latin typeface="Comic Sans MS"/>
              </a:rPr>
              <a:t>3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Comic Sans MS"/>
              </a:rPr>
              <a:t>3. Степень окисления железа в </a:t>
            </a:r>
            <a:r>
              <a:rPr b="1" lang="en-US" sz="2200" spc="-1" strike="noStrike">
                <a:solidFill>
                  <a:srgbClr val="003399"/>
                </a:solidFill>
                <a:latin typeface="Comic Sans MS"/>
              </a:rPr>
              <a:t>Fe(OH)</a:t>
            </a:r>
            <a:r>
              <a:rPr b="1" lang="en-US" sz="2200" spc="-1" strike="noStrike" baseline="-25000">
                <a:solidFill>
                  <a:srgbClr val="003399"/>
                </a:solidFill>
                <a:latin typeface="Comic Sans MS"/>
              </a:rPr>
              <a:t>3</a:t>
            </a:r>
            <a:r>
              <a:rPr b="1" lang="en-US" sz="2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Comic Sans MS"/>
              </a:rPr>
              <a:t>: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Comic Sans MS"/>
              </a:rPr>
              <a:t>     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а) -2     </a:t>
            </a:r>
            <a:r>
              <a:rPr b="1" lang="ru-RU" sz="2200" spc="-1" strike="noStrike">
                <a:solidFill>
                  <a:srgbClr val="ff33cc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б) -1   </a:t>
            </a:r>
            <a:r>
              <a:rPr b="1" lang="ru-RU" sz="2200" spc="-1" strike="noStrike">
                <a:solidFill>
                  <a:srgbClr val="ff33cc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в) +3</a:t>
            </a:r>
            <a:r>
              <a:rPr b="1" lang="en-US" sz="2200" spc="-1" strike="noStrike">
                <a:solidFill>
                  <a:srgbClr val="ff33cc"/>
                </a:solidFill>
                <a:latin typeface="Comic Sans MS"/>
              </a:rPr>
              <a:t>     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 г) 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Comic Sans MS"/>
              </a:rPr>
              <a:t>4. Формула гидроксида бари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Comic Sans MS"/>
              </a:rPr>
              <a:t>     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а) Ва(ОН)</a:t>
            </a:r>
            <a:r>
              <a:rPr b="1" lang="en-US" sz="2200" spc="-1" strike="noStrike" baseline="-25000">
                <a:solidFill>
                  <a:srgbClr val="ff33cc"/>
                </a:solidFill>
                <a:latin typeface="Comic Sans MS"/>
              </a:rPr>
              <a:t>2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      б) ВаОН       в) Ва(ОН)</a:t>
            </a:r>
            <a:r>
              <a:rPr b="1" lang="en-US" sz="2200" spc="-1" strike="noStrike" baseline="-25000">
                <a:solidFill>
                  <a:srgbClr val="ff33cc"/>
                </a:solidFill>
                <a:latin typeface="Comic Sans MS"/>
              </a:rPr>
              <a:t>3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Comic Sans MS"/>
              </a:rPr>
              <a:t>5. Многокислотное основа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Comic Sans MS"/>
              </a:rPr>
              <a:t>    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а) К</a:t>
            </a:r>
            <a:r>
              <a:rPr b="1" lang="en-US" sz="2200" spc="-1" strike="noStrike">
                <a:solidFill>
                  <a:srgbClr val="ff33cc"/>
                </a:solidFill>
                <a:latin typeface="Comic Sans MS"/>
              </a:rPr>
              <a:t>O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Н</a:t>
            </a:r>
            <a:r>
              <a:rPr b="1" lang="en-US" sz="2200" spc="-1" strike="noStrike" baseline="-25000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en-US" sz="2200" spc="-1" strike="noStrike" baseline="-25000">
                <a:solidFill>
                  <a:srgbClr val="ff33cc"/>
                </a:solidFill>
                <a:latin typeface="Comic Sans MS"/>
              </a:rPr>
              <a:t>            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б)</a:t>
            </a:r>
            <a:r>
              <a:rPr b="1" lang="en-US" sz="2200" spc="-1" strike="noStrike">
                <a:solidFill>
                  <a:srgbClr val="ff33cc"/>
                </a:solidFill>
                <a:latin typeface="Comic Sans MS"/>
              </a:rPr>
              <a:t> N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а</a:t>
            </a:r>
            <a:r>
              <a:rPr b="1" lang="en-US" sz="2200" spc="-1" strike="noStrike">
                <a:solidFill>
                  <a:srgbClr val="ff33cc"/>
                </a:solidFill>
                <a:latin typeface="Comic Sans MS"/>
              </a:rPr>
              <a:t>O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Н</a:t>
            </a:r>
            <a:r>
              <a:rPr b="1" lang="en-US" sz="2200" spc="-1" strike="noStrike" baseline="-25000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en-US" sz="2200" spc="-1" strike="noStrike" baseline="-25000">
                <a:solidFill>
                  <a:srgbClr val="ff33cc"/>
                </a:solidFill>
                <a:latin typeface="Comic Sans MS"/>
              </a:rPr>
              <a:t>      </a:t>
            </a:r>
            <a:r>
              <a:rPr b="1" lang="en-US" sz="2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  в) </a:t>
            </a:r>
            <a:r>
              <a:rPr b="1" lang="en-US" sz="2200" spc="-1" strike="noStrike">
                <a:solidFill>
                  <a:srgbClr val="ff33cc"/>
                </a:solidFill>
                <a:latin typeface="Comic Sans MS"/>
              </a:rPr>
              <a:t>Li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О</a:t>
            </a:r>
            <a:r>
              <a:rPr b="1" lang="en-US" sz="2200" spc="-1" strike="noStrike">
                <a:solidFill>
                  <a:srgbClr val="ff33cc"/>
                </a:solidFill>
                <a:latin typeface="Comic Sans MS"/>
              </a:rPr>
              <a:t>H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г)</a:t>
            </a:r>
            <a:r>
              <a:rPr b="1" lang="en-US" sz="2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А</a:t>
            </a:r>
            <a:r>
              <a:rPr b="1" lang="en-US" sz="2200" spc="-1" strike="noStrike">
                <a:solidFill>
                  <a:srgbClr val="ff33cc"/>
                </a:solidFill>
                <a:latin typeface="Comic Sans MS"/>
              </a:rPr>
              <a:t>l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(ОН)</a:t>
            </a:r>
            <a:r>
              <a:rPr b="1" lang="ru-RU" sz="2200" spc="-1" strike="noStrike" baseline="-25000">
                <a:solidFill>
                  <a:srgbClr val="ff33cc"/>
                </a:solidFill>
                <a:latin typeface="Comic Sans MS"/>
              </a:rPr>
              <a:t>3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c8a8a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4c8a8a"/>
                </a:solidFill>
                <a:latin typeface="Comic Sans MS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08-19T16:23:4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