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0E6-D21A-4F80-85E2-20257298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88E-8465-4114-B964-732BC5AF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118-5C19-4EC6-AE80-7BD01C52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BC2-A604-43D8-BD3D-CB7A33D7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373-80A7-4591-9B11-E8D1DBA0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11D-1E70-4DAB-B0A2-60D23C4A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AE8-EE74-4957-93BB-B65CE6F1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DFC-F0F3-4CC1-809D-53BD91D1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95B-CC80-429A-99FB-DBC8CE4F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57D-26F4-49BB-901A-53D7E843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9BB-55AE-49EC-AD98-1E20E05C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EDD-076A-4037-AEC5-EE4391D6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ED15-9278-4089-A493-AACDC5F1E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Анализ художественного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Тема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Средства выразительности в языке. Стилистические фигуры и тро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40360" y="5416560"/>
            <a:ext cx="1441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елимир Хлебни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«…слова особенно сильны, когда они имеют два смысла, когда они живые глаза для тайны и через слюду обыденного смыла просвечивает второй смысл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Стилистические троп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620640"/>
            <a:ext cx="8532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Сравнение - «Лес точно терем расписно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Метафора (скрытое сравнение) – «Ель рукавом мне тропинку завесила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лицетворение – «золотые лица купальниц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Эпитет – «дорога дальняя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« желтеющая нива», «мирный кра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Ирония (насмешк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Метонимия (переименов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Перифраза (пересказ, замена слова описательным оборотом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Синекдоха (соотнесение целого через часть его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Стилистические фигу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620280"/>
            <a:ext cx="820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Паралле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Антитеза (резкое противопостав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Контраст ( скрытое противопостав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Оксюморон ( сжатая парадоксальная антитеза) – «грешная моли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Инверсия (перестанов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Бессою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Многосою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Пов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Ана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Эпи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Реф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Обращения, восклицания, риторически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Эллипсис (пропуск сл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Гипербола (преувели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Гротеск (причудлив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Литота (преуменьшение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8459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Определите виды тропов и стилистических фигур в отрыв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.  Все спит - и человек, и зверь, и птица. (Н. Гоголь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. Автор «Евгения Онегин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. Путь шел по целине; люди падали с обрывов. (И. Эренбург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4. «Не станет нас!» А миру хоть бы что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«Исчезнет след!» А миру хоть бы что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Нас не было, а он сиял и будет.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Исчезнем мы, - а миру хоть бы что! (Омар Хайя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5. С ужасом думала я, к чему все это приведет. (А. Пушкин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.  Мелькают мимо будки, бабы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Мальчишки, лавки, фонари,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Дворцы, сады, монастыри... (А. Пушки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7.  Утешится безмолвная печаль... (А. Пушкин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8.  Головушка моя дорогая (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вместо: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дорогой мой челове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9 Мужики - за топоры. (А. Толстой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0. В саду горит костер рябины красной. (С.Есенин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34560" y="259920"/>
            <a:ext cx="8209080" cy="61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1. Капельки хрустальной влаги; седой росный луг. (В.Солоухин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2. Нет, я хотел... быть может, вы... я думал, что уж барону время умереть. (А.Пушк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3. Капли росы - белые, как молоко... (В.Солоухин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4. Тонкий дождь сеялся и на леса, и на поля, и на широкий Днепр. (Н. Гоголь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5. Я был невнимателен и груб. Подавлял её индивидуальность. Не замечал её проблем. Оскорблял её чув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6. Знаете ли вы украинскую ночь? (Н. Гоголь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7. Пришел, увидел, побед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8. В сто сорок солнц закат пылал. (В. Маяковский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9. Ваш шпиц, прелестный шпиц, не более наперстка (А.Грибоедо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0. Белеет парус одинок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1. Молодая стар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2. «Преступление и наказание». (Ф. Достоевский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3. Клянусь я первым днем творенья, Клянусь его последним днем,  Клянусь позором преступленья… (М. Лермонто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765000"/>
            <a:ext cx="7848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.синекдо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2. перифра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3. синтаксический параллел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4. эпифор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5. инвер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6. бессоюз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7.олицетворен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8. метоним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9. эллипсис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0. метафор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1. эпитет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2. умолчан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3. сравн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4. многосоюз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5. парцелляция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6. риторический вопрос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7. градац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8. гипербол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9. литот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20. инверс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21. оксюморон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22. антитез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23. ана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Подберите свои примеры на каждое средство вырази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7T10:18:45Z</dcterms:created>
  <dc:creator>Катрин</dc:creator>
  <dc:description/>
  <dc:language>en-US</dc:language>
  <cp:lastModifiedBy>Катрин</cp:lastModifiedBy>
  <dcterms:modified xsi:type="dcterms:W3CDTF">2010-06-27T10:53:40Z</dcterms:modified>
  <cp:revision>2</cp:revision>
  <dc:subject/>
  <dc:title>Анализ художественного текста</dc:title>
</cp:coreProperties>
</file>