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1343-FE93-47C3-AB58-C395DFFD2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5928-B6F8-49D3-ABF0-B915C9E5F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071C-F904-45BE-8C20-73B659ACB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4F37-F416-44CF-BFB7-2AF39327A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3E76-FD89-466A-8B3A-EDCEBCEE7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DF72-1EBD-49FD-B771-F6A77A18A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CDE9-C738-4465-87FB-03998CE6A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0A04-E687-449E-9282-E4BA44523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3539-53EF-477E-836B-D9663787A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0FEA-8EB0-45EF-9E65-F85B156D0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9191-96E9-4AF0-BE3E-72578926A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4539-D9CE-4F84-8D98-486946DD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64FFA-8786-4356-AC3A-E83CC0B3B8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2484360" y="189000"/>
            <a:ext cx="4354560" cy="65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7" descr=""/>
          <p:cNvPicPr/>
          <p:nvPr/>
        </p:nvPicPr>
        <p:blipFill>
          <a:blip r:embed="rId1"/>
          <a:stretch/>
        </p:blipFill>
        <p:spPr>
          <a:xfrm>
            <a:off x="250920" y="541440"/>
            <a:ext cx="8642160" cy="57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1000080" y="480960"/>
            <a:ext cx="7143840" cy="58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6" descr=""/>
          <p:cNvPicPr/>
          <p:nvPr/>
        </p:nvPicPr>
        <p:blipFill>
          <a:blip r:embed="rId1"/>
          <a:stretch/>
        </p:blipFill>
        <p:spPr>
          <a:xfrm>
            <a:off x="1116000" y="233280"/>
            <a:ext cx="6800760" cy="636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2124000" y="404640"/>
            <a:ext cx="470376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609480" y="415800"/>
            <a:ext cx="7923240" cy="59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312040" cy="62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285840" y="404640"/>
            <a:ext cx="864216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50920" y="482760"/>
            <a:ext cx="8588160" cy="58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424720" cy="63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18:08:22Z</dcterms:created>
  <dc:creator>Admin</dc:creator>
  <dc:description/>
  <dc:language>en-US</dc:language>
  <cp:lastModifiedBy>Admin</cp:lastModifiedBy>
  <dcterms:modified xsi:type="dcterms:W3CDTF">2010-10-25T18:30:33Z</dcterms:modified>
  <cp:revision>44</cp:revision>
  <dc:subject/>
  <dc:title>Слайд 1</dc:title>
</cp:coreProperties>
</file>