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4C1-B7B4-4C95-8A80-64E12433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388-A79F-4D38-B358-57AFB32F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4CE-A7CB-479D-9382-FB2ABA4C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41F-F805-43FA-925F-4A4DCF53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AB9-67B1-4C3D-9DC0-7B18D187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227-2826-4428-B356-BB3C242D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951-6F52-48E2-892F-F129B9A5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A1E-1A70-41D3-9D70-670D7FAC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3DB-7159-4AA1-B652-CAEFB5CE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6A1-C1F6-4ABD-B24E-7393375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9B6-0539-407E-9C6D-956FBA9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DD7-4179-4DF2-AC1C-FDD7711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B32C-DA52-4303-A921-70B143D20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35456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50920" y="541440"/>
            <a:ext cx="864216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00080" y="480960"/>
            <a:ext cx="71438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116000" y="233280"/>
            <a:ext cx="680076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703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09480" y="415800"/>
            <a:ext cx="79232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20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85840" y="404640"/>
            <a:ext cx="86421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482760"/>
            <a:ext cx="858816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08:22Z</dcterms:created>
  <dc:creator>Admin</dc:creator>
  <dc:description/>
  <dc:language>en-US</dc:language>
  <cp:lastModifiedBy>Admin</cp:lastModifiedBy>
  <dcterms:modified xsi:type="dcterms:W3CDTF">2010-10-25T18:30:33Z</dcterms:modified>
  <cp:revision>44</cp:revision>
  <dc:subject/>
  <dc:title>Слайд 1</dc:title>
</cp:coreProperties>
</file>