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1" initials="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0-11-13T14:09:20.171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943-8E33-4C34-A689-8C49EB3AE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2D67-BBE5-4CBA-8ADF-7A3C8A9982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EB3-A581-4B0C-BAFC-DB7B0583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269-E857-477C-A125-80165D47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F87-90C0-4B4B-BC61-35936294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D6B-73C9-41ED-A365-5AA7B2A5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E10-0D34-434E-AF2E-CD65F6E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E60-1A3B-4CD6-B8FA-C91EC91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3FD-82A6-4BA3-90EC-03475AB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F31-9B07-49FD-B19B-A3408F9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29B-5E06-45B8-94ED-6FBD06C0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821-A88A-4E1D-AB38-83DA105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275-7BD4-4188-99B7-F7EBAFFC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D14-8A29-45D1-8E9A-E9043CF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ac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117-2EDB-49C9-B1B3-30610BF224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FAC-77AD-4B57-9CC5-1FE197AC1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10.png"/><Relationship Id="rId7" Type="http://schemas.openxmlformats.org/officeDocument/2006/relationships/slide" Target="slide11.xml"/><Relationship Id="rId8" Type="http://schemas.openxmlformats.org/officeDocument/2006/relationships/image" Target="../media/image11.png"/><Relationship Id="rId9" Type="http://schemas.openxmlformats.org/officeDocument/2006/relationships/slide" Target="slide12.xml"/><Relationship Id="rId10" Type="http://schemas.openxmlformats.org/officeDocument/2006/relationships/image" Target="../media/image12.png"/><Relationship Id="rId11" Type="http://schemas.openxmlformats.org/officeDocument/2006/relationships/slide" Target="slide13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334800"/>
            <a:ext cx="6956640" cy="1384560"/>
          </a:xfrm>
          <a:prstGeom prst="rect">
            <a:avLst/>
          </a:prstGeom>
          <a:ln w="0">
            <a:noFill/>
          </a:ln>
        </p:spPr>
      </p:pic>
      <p:cxnSp>
        <p:nvCxnSpPr>
          <p:cNvPr id="51" name="Прямая со стрелкой 18"/>
          <p:cNvCxnSpPr>
            <a:stCxn id="50" idx="2"/>
          </p:cNvCxnSpPr>
          <p:nvPr/>
        </p:nvCxnSpPr>
        <p:spPr>
          <a:xfrm flipH="1">
            <a:off x="1571400" y="1719360"/>
            <a:ext cx="3454920" cy="1138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2" name="Прямая со стрелкой 20"/>
          <p:cNvCxnSpPr>
            <a:stCxn id="50" idx="2"/>
          </p:cNvCxnSpPr>
          <p:nvPr/>
        </p:nvCxnSpPr>
        <p:spPr>
          <a:xfrm flipH="1">
            <a:off x="2356920" y="1719360"/>
            <a:ext cx="2669400" cy="278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3" name="Прямая со стрелкой 23"/>
          <p:cNvCxnSpPr>
            <a:stCxn id="50" idx="2"/>
          </p:cNvCxnSpPr>
          <p:nvPr/>
        </p:nvCxnSpPr>
        <p:spPr>
          <a:xfrm>
            <a:off x="5025960" y="1719360"/>
            <a:ext cx="1402560" cy="2781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4" name="Прямая со стрелкой 25"/>
          <p:cNvCxnSpPr>
            <a:stCxn id="50" idx="2"/>
          </p:cNvCxnSpPr>
          <p:nvPr/>
        </p:nvCxnSpPr>
        <p:spPr>
          <a:xfrm>
            <a:off x="5025960" y="1719360"/>
            <a:ext cx="2475720" cy="1067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55" name="Трапеция 26"/>
          <p:cNvSpPr/>
          <p:nvPr/>
        </p:nvSpPr>
        <p:spPr>
          <a:xfrm>
            <a:off x="785880" y="2928960"/>
            <a:ext cx="914400" cy="121608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928880" y="4643280"/>
            <a:ext cx="91440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Равнобедренный треугольник 28"/>
          <p:cNvSpPr/>
          <p:nvPr/>
        </p:nvSpPr>
        <p:spPr>
          <a:xfrm>
            <a:off x="6143760" y="4572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араллелограмм 29"/>
          <p:cNvSpPr/>
          <p:nvPr/>
        </p:nvSpPr>
        <p:spPr>
          <a:xfrm>
            <a:off x="7358040" y="278604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804384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та правильного треугольника равна 4см. Найдите площадь этого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67600" y="2777400"/>
            <a:ext cx="1307520" cy="660960"/>
          </a:xfrm>
          <a:prstGeom prst="rect">
            <a:avLst/>
          </a:prstGeom>
          <a:solidFill>
            <a:srgbClr val="80008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15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3DD1-94C9-40A9-B611-8CBC96FD2F09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C3A6-3040-4EC6-9DB9-B1F6F4D0F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3740760" y="2571840"/>
            <a:ext cx="5153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:</a:t>
            </a:r>
            <a:r>
              <a:rPr b="0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=             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ореме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²=h²+       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²-    =h²,    = h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9"/>
          <p:cNvSpPr/>
          <p:nvPr/>
        </p:nvSpPr>
        <p:spPr>
          <a:xfrm>
            <a:off x="1521000" y="1785960"/>
            <a:ext cx="1440" cy="198288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1500120" y="3571920"/>
            <a:ext cx="200160" cy="2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359800" y="2643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1573920" y="292896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1076400" cy="1228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0" y="16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4"/>
          <a:stretch/>
        </p:blipFill>
        <p:spPr>
          <a:xfrm>
            <a:off x="4929120" y="4000680"/>
            <a:ext cx="390600" cy="9237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2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5"/>
          <a:stretch/>
        </p:blipFill>
        <p:spPr>
          <a:xfrm>
            <a:off x="6286680" y="4071960"/>
            <a:ext cx="390240" cy="923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6"/>
          <a:stretch/>
        </p:blipFill>
        <p:spPr>
          <a:xfrm>
            <a:off x="7429680" y="4000680"/>
            <a:ext cx="390240" cy="923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7"/>
          <p:cNvSpPr/>
          <p:nvPr/>
        </p:nvSpPr>
        <p:spPr>
          <a:xfrm>
            <a:off x="600840" y="5000760"/>
            <a:ext cx="59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²=2h², a²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²,a=4√2,   S=8√3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0"/>
          <p:cNvSpPr/>
          <p:nvPr/>
        </p:nvSpPr>
        <p:spPr>
          <a:xfrm>
            <a:off x="6585480" y="557208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вет :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8√3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м²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2"/>
          <p:cNvSpPr/>
          <p:nvPr/>
        </p:nvSpPr>
        <p:spPr>
          <a:xfrm>
            <a:off x="785880" y="2643120"/>
            <a:ext cx="2142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36"/>
          <p:cNvSpPr/>
          <p:nvPr/>
        </p:nvSpPr>
        <p:spPr>
          <a:xfrm flipH="1">
            <a:off x="2000160" y="2642400"/>
            <a:ext cx="214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38"/>
          <p:cNvSpPr/>
          <p:nvPr/>
        </p:nvSpPr>
        <p:spPr>
          <a:xfrm flipV="1">
            <a:off x="1283400" y="3644640"/>
            <a:ext cx="180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щадь прямоугольного равнобедренного треугольника равна 16см². Найдите гипотенузу этого треуголь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8000" y="3289680"/>
            <a:ext cx="1250280" cy="67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40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89E6-655E-48E3-B3F4-B984317DA51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382-7CFF-4D5A-98C0-7F1A443D3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0"/>
          <p:cNvSpPr/>
          <p:nvPr/>
        </p:nvSpPr>
        <p:spPr>
          <a:xfrm>
            <a:off x="285840" y="3357720"/>
            <a:ext cx="285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4"/>
          <p:cNvSpPr/>
          <p:nvPr/>
        </p:nvSpPr>
        <p:spPr>
          <a:xfrm flipV="1">
            <a:off x="1355760" y="4002120"/>
            <a:ext cx="14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5"/>
          <p:cNvSpPr/>
          <p:nvPr/>
        </p:nvSpPr>
        <p:spPr>
          <a:xfrm>
            <a:off x="428760" y="3929040"/>
            <a:ext cx="199800" cy="2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1289160" y="242892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2520" y="27147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8"/>
          <p:cNvSpPr/>
          <p:nvPr/>
        </p:nvSpPr>
        <p:spPr>
          <a:xfrm>
            <a:off x="1574280" y="40006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3266640" y="2071800"/>
            <a:ext cx="5528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=1/2a∙a=1/2a²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²=16∙2=3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=√32=4√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ореме Пифагор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²=a²+a²=2a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²=2∙32=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=√64=8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вет: 8 см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роны треугольника равны 8см, 6см,4см. Найдите меньшую высоту тре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57150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251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4D16-8DD7-4C23-B005-D250DC57908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CEFD-0E05-4674-A3BC-59039F864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714760" y="1857240"/>
            <a:ext cx="6072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ьшая высота проводится к большей сторо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спользуя формулу Герона найдём площадь треуголь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=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=3√15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формулу площади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=1/2AD∙CB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дём высот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/2AD∙CB=3√15; AD=(2∙3√15):8=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твет:          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"/>
          <p:cNvSpPr/>
          <p:nvPr/>
        </p:nvSpPr>
        <p:spPr>
          <a:xfrm flipV="1">
            <a:off x="785880" y="2500200"/>
            <a:ext cx="1357200" cy="6429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"/>
          <p:cNvSpPr/>
          <p:nvPr/>
        </p:nvSpPr>
        <p:spPr>
          <a:xfrm>
            <a:off x="2142360" y="2500200"/>
            <a:ext cx="142920" cy="64296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785880" y="3143160"/>
            <a:ext cx="150012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2145240" y="2214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2288520" y="3000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432000" y="30718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 flipV="1">
            <a:off x="2141640" y="2500200"/>
            <a:ext cx="144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859760" y="3214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144800" y="2428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2287800" y="25718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359000" y="30718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3"/>
          <a:stretch/>
        </p:blipFill>
        <p:spPr>
          <a:xfrm>
            <a:off x="3143160" y="3714840"/>
            <a:ext cx="2800440" cy="4093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000920" y="3571920"/>
            <a:ext cx="115236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5"/>
          <a:stretch/>
        </p:blipFill>
        <p:spPr>
          <a:xfrm>
            <a:off x="6929280" y="5000760"/>
            <a:ext cx="561960" cy="6188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9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6"/>
          <a:stretch/>
        </p:blipFill>
        <p:spPr>
          <a:xfrm>
            <a:off x="5715000" y="5857920"/>
            <a:ext cx="561960" cy="6192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600" spc="-1" strike="noStrike">
                <a:solidFill>
                  <a:srgbClr val="cc0000"/>
                </a:solidFill>
                <a:latin typeface="Calibri"/>
              </a:rPr>
              <a:t>Задач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сота трапеции равна меньшему основанию и в два раза меньше большего основания. Найдите высоту трапеции, если её площадь равна 54 см²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Трапеция 3"/>
          <p:cNvSpPr/>
          <p:nvPr/>
        </p:nvSpPr>
        <p:spPr>
          <a:xfrm>
            <a:off x="928800" y="2071800"/>
            <a:ext cx="2214360" cy="178596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5"/>
          <p:cNvSpPr/>
          <p:nvPr/>
        </p:nvSpPr>
        <p:spPr>
          <a:xfrm flipH="1">
            <a:off x="1356840" y="2071800"/>
            <a:ext cx="1800" cy="178596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1357200" y="3571920"/>
            <a:ext cx="200160" cy="27144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1859760" y="385776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787400" y="15001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3361320" y="1857240"/>
            <a:ext cx="6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4071960" y="1785960"/>
            <a:ext cx="9810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Дата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2B6-7845-4A11-8E80-F3A5F3402B1B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4F4-D6FE-4CCB-81DB-12DF65F46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01760" y="128520"/>
            <a:ext cx="8340480" cy="1365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=h, b=2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м формулу площ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пеции и подставим в неё дан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нов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(h+2h)h/2=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=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²=36,h=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твет: 6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Трапеция 3"/>
          <p:cNvSpPr/>
          <p:nvPr/>
        </p:nvSpPr>
        <p:spPr>
          <a:xfrm>
            <a:off x="571680" y="2000160"/>
            <a:ext cx="1842840" cy="17161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7"/>
          <p:cNvSpPr/>
          <p:nvPr/>
        </p:nvSpPr>
        <p:spPr>
          <a:xfrm flipH="1">
            <a:off x="998640" y="2000160"/>
            <a:ext cx="1440" cy="171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9"/>
          <p:cNvSpPr/>
          <p:nvPr/>
        </p:nvSpPr>
        <p:spPr>
          <a:xfrm>
            <a:off x="1000080" y="3429000"/>
            <a:ext cx="271440" cy="2714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715320" y="30002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4D1B-446C-4709-A0DC-D8E70139CB9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001-B423-4D4A-A9F7-C8216F869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1288440" y="36432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17160" y="1500120"/>
            <a:ext cx="3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ица 227, №26, №3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учить форму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BC05-8CA9-480D-8336-74ADB921680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339-155B-4827-908B-7A6641BF5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cc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5" descr="8.jpg"/>
          <p:cNvPicPr/>
          <p:nvPr/>
        </p:nvPicPr>
        <p:blipFill>
          <a:blip r:embed="rId1"/>
          <a:stretch/>
        </p:blipFill>
        <p:spPr>
          <a:xfrm>
            <a:off x="5286240" y="3500280"/>
            <a:ext cx="3175200" cy="2387880"/>
          </a:xfrm>
          <a:prstGeom prst="rect">
            <a:avLst/>
          </a:prstGeom>
          <a:ln w="0">
            <a:noFill/>
          </a:ln>
        </p:spPr>
      </p:pic>
      <p:sp>
        <p:nvSpPr>
          <p:cNvPr id="305" name="TextBox 6"/>
          <p:cNvSpPr/>
          <p:nvPr/>
        </p:nvSpPr>
        <p:spPr>
          <a:xfrm>
            <a:off x="1729080" y="29289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аю успехов в дальнейшей учёб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Дата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ACF-8958-4FF0-A5D7-66273018FF78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E19C-D287-4994-8378-9E2EFAC34A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3600" spc="-1" strike="noStrike">
                <a:solidFill>
                  <a:srgbClr val="632523"/>
                </a:solidFill>
                <a:latin typeface="Comic Sans MS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площад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ямоугольника, если диагональ равна 10 см, а одна из сторон 6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5000760" y="1500120"/>
            <a:ext cx="3143160" cy="1928880"/>
          </a:xfrm>
          <a:prstGeom prst="rect">
            <a:avLst/>
          </a:prstGeom>
          <a:solidFill>
            <a:srgbClr val="92d050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9288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072120" y="3357720"/>
            <a:ext cx="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Дата 6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CD5-92B0-4E80-B7B8-497175C3AEA7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8EB2-2CAF-4958-AEF1-9EB1B7CB21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324000" y="237960"/>
            <a:ext cx="8418240" cy="1256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По теореме Пифаг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²=a²+b²</a:t>
            </a:r>
            <a:r>
              <a:rPr b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 =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²=d²-a², b²=10²-6²=100-36=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=√64=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=6·8=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твет : 48 см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339-96A9-4AD4-ABB2-1D48501216E5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71E-89E5-4442-B006-11FA13CCF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429160" y="1714680"/>
            <a:ext cx="2357640" cy="14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7"/>
          <p:cNvSpPr/>
          <p:nvPr/>
        </p:nvSpPr>
        <p:spPr>
          <a:xfrm>
            <a:off x="5429160" y="1714680"/>
            <a:ext cx="2357640" cy="150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87400" y="300024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5003280" y="221472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6960" y="268200"/>
            <a:ext cx="828360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=a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b</a:t>
            </a:r>
            <a:r>
              <a:rPr b="1" lang="en-US" sz="4000" spc="-1" strike="noStrike">
                <a:solidFill>
                  <a:srgbClr val="632523"/>
                </a:solidFill>
                <a:latin typeface="Comic Sans MS"/>
              </a:rPr>
              <a:t>·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sin</a:t>
            </a:r>
            <a:r>
              <a:rPr b="1" lang="el-GR" sz="4000" spc="-1" strike="noStrike">
                <a:solidFill>
                  <a:srgbClr val="632523"/>
                </a:solidFill>
                <a:latin typeface="Cambria Math"/>
                <a:ea typeface="Cambria Math"/>
              </a:rPr>
              <a:t>α</a:t>
            </a:r>
            <a:r>
              <a:rPr b="1" lang="ru-RU" sz="4000" spc="-1" strike="noStrike">
                <a:solidFill>
                  <a:srgbClr val="632523"/>
                </a:solidFill>
                <a:latin typeface="Cambria Math"/>
                <a:ea typeface="Cambria Math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араллелограмм 3"/>
          <p:cNvSpPr/>
          <p:nvPr/>
        </p:nvSpPr>
        <p:spPr>
          <a:xfrm>
            <a:off x="1143000" y="1785960"/>
            <a:ext cx="2359080" cy="127152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араллелограмм 4"/>
          <p:cNvSpPr/>
          <p:nvPr/>
        </p:nvSpPr>
        <p:spPr>
          <a:xfrm>
            <a:off x="714240" y="4286160"/>
            <a:ext cx="2359080" cy="1271520"/>
          </a:xfrm>
          <a:prstGeom prst="parallelogram">
            <a:avLst>
              <a:gd name="adj" fmla="val 25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"/>
          <p:cNvSpPr/>
          <p:nvPr/>
        </p:nvSpPr>
        <p:spPr>
          <a:xfrm>
            <a:off x="1500120" y="1785960"/>
            <a:ext cx="0" cy="1284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1500120" y="2786040"/>
            <a:ext cx="200160" cy="27144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434880" y="4500720"/>
            <a:ext cx="4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1146600" y="55008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Дуга 17"/>
          <p:cNvSpPr/>
          <p:nvPr/>
        </p:nvSpPr>
        <p:spPr>
          <a:xfrm>
            <a:off x="214200" y="5143680"/>
            <a:ext cx="914400" cy="914400"/>
          </a:xfrm>
          <a:prstGeom prst="pie">
            <a:avLst/>
          </a:pr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Дата 10"/>
          <p:cNvSpPr/>
          <p:nvPr/>
        </p:nvSpPr>
        <p:spPr>
          <a:xfrm>
            <a:off x="4287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F37-145E-469D-9E55-3E2E8BED0FE1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08B8-D15C-4EEF-B85E-801547917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ороны параллелограмма равны 4,2см и 5,6см. Высота, проведенная к большей стороне, равна 3,3см. Вычислите вторую высоту этого параллелограм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3,3∙5,6=4,2∙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=4,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вет: 4,4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525-96F3-4945-A073-DB1444E8AB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F25-8BAD-4C60-904D-EEB3977E6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араллелограмм 6"/>
          <p:cNvSpPr/>
          <p:nvPr/>
        </p:nvSpPr>
        <p:spPr>
          <a:xfrm>
            <a:off x="1143000" y="2071800"/>
            <a:ext cx="2000160" cy="11286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,3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 flipH="1">
            <a:off x="1426680" y="2071800"/>
            <a:ext cx="1800" cy="11430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9"/>
          <p:cNvSpPr/>
          <p:nvPr/>
        </p:nvSpPr>
        <p:spPr>
          <a:xfrm>
            <a:off x="1428840" y="2071800"/>
            <a:ext cx="1643040" cy="3571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193464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,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648720" y="23572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,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2645280" y="20001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104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929120" y="3286080"/>
            <a:ext cx="1181160" cy="790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124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в параллелограмме внутренние односторонние углы при диагонали равны 3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и 4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, а одна из сторон равна 4см.Найдите площадь параллелограмма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800080"/>
                </a:solidFill>
                <a:uFillTx/>
                <a:latin typeface="Calibri"/>
              </a:rPr>
              <a:t>Решение</a:t>
            </a:r>
            <a:r>
              <a:rPr b="0" i="1" lang="ru-RU" sz="2800" spc="-1" strike="noStrike" u="sng">
                <a:solidFill>
                  <a:srgbClr val="80008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еореме сину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=4•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sin 75°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797B-B0C4-45DA-87E9-60E0D6A436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1948-03F2-40B9-93C1-6675CCAFA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араллелограмм 5"/>
          <p:cNvSpPr/>
          <p:nvPr/>
        </p:nvSpPr>
        <p:spPr>
          <a:xfrm>
            <a:off x="1143000" y="2214720"/>
            <a:ext cx="1857240" cy="914400"/>
          </a:xfrm>
          <a:prstGeom prst="parallelogram">
            <a:avLst>
              <a:gd name="adj" fmla="val 24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7"/>
          <p:cNvSpPr/>
          <p:nvPr/>
        </p:nvSpPr>
        <p:spPr>
          <a:xfrm flipV="1">
            <a:off x="1143000" y="2214360"/>
            <a:ext cx="1857240" cy="9284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581480" y="27860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509920" y="2357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2861640" y="25718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857240" y="3071880"/>
            <a:ext cx="2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4857840" y="2643120"/>
            <a:ext cx="1342800" cy="800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7072200" y="2143080"/>
            <a:ext cx="1905120" cy="657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sp>
        <p:nvSpPr>
          <p:cNvPr id="122" name="Равнобедренный треугольник 4">
            <a:hlinkClick r:id="rId3" action="ppaction://hlinksldjump"/>
          </p:cNvPr>
          <p:cNvSpPr/>
          <p:nvPr/>
        </p:nvSpPr>
        <p:spPr>
          <a:xfrm>
            <a:off x="571680" y="2857680"/>
            <a:ext cx="1357200" cy="628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02560" y="307188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859320" y="342900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7"/>
          <p:cNvSpPr/>
          <p:nvPr/>
        </p:nvSpPr>
        <p:spPr>
          <a:xfrm>
            <a:off x="714240" y="3214800"/>
            <a:ext cx="285840" cy="485640"/>
          </a:xfrm>
          <a:prstGeom prst="pie">
            <a:avLst/>
          </a:pr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85000" y="2286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  a·b·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Cambria Math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9">
            <a:hlinkClick r:id="rId4" action="ppaction://hlinksldjump"/>
          </p:cNvPr>
          <p:cNvSpPr/>
          <p:nvPr/>
        </p:nvSpPr>
        <p:spPr>
          <a:xfrm>
            <a:off x="3357720" y="2214720"/>
            <a:ext cx="988920" cy="1128600"/>
          </a:xfrm>
          <a:prstGeom prst="triangle">
            <a:avLst>
              <a:gd name="adj" fmla="val 48278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>
            <a:off x="3832920" y="2214720"/>
            <a:ext cx="1800" cy="112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3857760" y="3143160"/>
            <a:ext cx="128520" cy="200160"/>
          </a:xfrm>
          <a:prstGeom prst="rect">
            <a:avLst/>
          </a:prstGeom>
          <a:solidFill>
            <a:srgbClr val="95373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503160" y="328608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366080" y="29289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  a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14">
            <a:hlinkClick r:id="rId5" action="ppaction://hlinksldjump"/>
          </p:cNvPr>
          <p:cNvSpPr/>
          <p:nvPr/>
        </p:nvSpPr>
        <p:spPr>
          <a:xfrm>
            <a:off x="6143760" y="27147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 flipH="1">
            <a:off x="6643800" y="3502080"/>
            <a:ext cx="1440" cy="214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 flipV="1">
            <a:off x="6858000" y="3142800"/>
            <a:ext cx="214200" cy="14292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7"/>
          <p:cNvSpPr/>
          <p:nvPr/>
        </p:nvSpPr>
        <p:spPr>
          <a:xfrm>
            <a:off x="6286680" y="3143160"/>
            <a:ext cx="214200" cy="14292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6074640" y="278604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7290720" y="278604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6"/>
          <a:stretch/>
        </p:blipFill>
        <p:spPr>
          <a:xfrm>
            <a:off x="7786800" y="2571840"/>
            <a:ext cx="714240" cy="819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ый треугольник 36">
            <a:hlinkClick r:id="rId7" action="ppaction://hlinksldjump"/>
          </p:cNvPr>
          <p:cNvSpPr/>
          <p:nvPr/>
        </p:nvSpPr>
        <p:spPr>
          <a:xfrm>
            <a:off x="2071800" y="4429080"/>
            <a:ext cx="914400" cy="91440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1788480" y="4714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8"/>
          <p:cNvSpPr/>
          <p:nvPr/>
        </p:nvSpPr>
        <p:spPr>
          <a:xfrm>
            <a:off x="2217240" y="5286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0"/>
          <p:cNvSpPr/>
          <p:nvPr/>
        </p:nvSpPr>
        <p:spPr>
          <a:xfrm>
            <a:off x="2932920" y="45007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8"/>
          <a:stretch/>
        </p:blipFill>
        <p:spPr>
          <a:xfrm>
            <a:off x="3429000" y="435780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9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Равнобедренный треугольник 44">
            <a:hlinkClick r:id="rId9" action="ppaction://hlinksldjump"/>
          </p:cNvPr>
          <p:cNvSpPr/>
          <p:nvPr/>
        </p:nvSpPr>
        <p:spPr>
          <a:xfrm>
            <a:off x="4786200" y="4786200"/>
            <a:ext cx="774720" cy="70020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5"/>
          <p:cNvSpPr/>
          <p:nvPr/>
        </p:nvSpPr>
        <p:spPr>
          <a:xfrm>
            <a:off x="5431320" y="4929120"/>
            <a:ext cx="3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6"/>
          <p:cNvSpPr/>
          <p:nvPr/>
        </p:nvSpPr>
        <p:spPr>
          <a:xfrm>
            <a:off x="4717440" y="4786200"/>
            <a:ext cx="3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7"/>
          <p:cNvSpPr/>
          <p:nvPr/>
        </p:nvSpPr>
        <p:spPr>
          <a:xfrm>
            <a:off x="5002920" y="53578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8"/>
          <p:cNvSpPr/>
          <p:nvPr/>
        </p:nvSpPr>
        <p:spPr>
          <a:xfrm>
            <a:off x="4717800" y="450072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0"/>
          <a:stretch/>
        </p:blipFill>
        <p:spPr>
          <a:xfrm>
            <a:off x="5072040" y="4500720"/>
            <a:ext cx="2238480" cy="333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2"/>
          <p:cNvSpPr/>
          <p:nvPr/>
        </p:nvSpPr>
        <p:spPr>
          <a:xfrm>
            <a:off x="0" y="790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2"/>
          <p:cNvSpPr/>
          <p:nvPr/>
        </p:nvSpPr>
        <p:spPr>
          <a:xfrm>
            <a:off x="5642280" y="500076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р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53" descr="button106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2960" y="571500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60" name="Дата 4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B87-638C-4E20-A71F-19D16F456477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4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165-C3D9-4BF0-8853-7F26A4BAC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13"/>
          <a:stretch/>
        </p:blipFill>
        <p:spPr>
          <a:xfrm>
            <a:off x="6357960" y="4929120"/>
            <a:ext cx="942840" cy="561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5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4"/>
          <a:stretch/>
        </p:blipFill>
        <p:spPr>
          <a:xfrm>
            <a:off x="1214280" y="2286000"/>
            <a:ext cx="133560" cy="552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15"/>
          <a:stretch/>
        </p:blipFill>
        <p:spPr>
          <a:xfrm>
            <a:off x="5000760" y="292896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ол при основании равнобедренного треугольника равен 30°, а площадь треугольника равна 9√3см². Найдите боковую сторону треуголь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38880" y="2705760"/>
            <a:ext cx="1450440" cy="47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960" y="55720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82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BFAA-8BC9-4127-8ACE-E620444AACE8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F6C-C127-493D-A024-20A6E13D02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571920" y="1571760"/>
            <a:ext cx="5572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1/2AC∙BD=9√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преде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30°=AD/AB =&gt; AD=AB∙cos30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=2AD=2AB·cos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=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AB√3·AB=9√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²=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=3√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твет : 3√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5"/>
          <p:cNvSpPr/>
          <p:nvPr/>
        </p:nvSpPr>
        <p:spPr>
          <a:xfrm flipH="1">
            <a:off x="2285640" y="2642400"/>
            <a:ext cx="21420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>
            <a:off x="857160" y="2643120"/>
            <a:ext cx="214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уга 20"/>
          <p:cNvSpPr/>
          <p:nvPr/>
        </p:nvSpPr>
        <p:spPr>
          <a:xfrm>
            <a:off x="285840" y="3214800"/>
            <a:ext cx="357120" cy="3571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574920" y="300024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6"/>
          <p:cNvSpPr/>
          <p:nvPr/>
        </p:nvSpPr>
        <p:spPr>
          <a:xfrm>
            <a:off x="1662840" y="2000160"/>
            <a:ext cx="1800" cy="14112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7"/>
          <p:cNvSpPr/>
          <p:nvPr/>
        </p:nvSpPr>
        <p:spPr>
          <a:xfrm>
            <a:off x="1643040" y="3214800"/>
            <a:ext cx="200160" cy="199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2520" y="3429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9"/>
          <p:cNvSpPr/>
          <p:nvPr/>
        </p:nvSpPr>
        <p:spPr>
          <a:xfrm>
            <a:off x="1645200" y="1714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0"/>
          <p:cNvSpPr/>
          <p:nvPr/>
        </p:nvSpPr>
        <p:spPr>
          <a:xfrm>
            <a:off x="3074760" y="335772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1"/>
          <p:cNvSpPr/>
          <p:nvPr/>
        </p:nvSpPr>
        <p:spPr>
          <a:xfrm>
            <a:off x="1502640" y="342900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 равнобедренном треугольник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C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гол при основании равен 30°, а основание 6см. Найдите площадь треугольн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31920" y="2455560"/>
            <a:ext cx="1664640" cy="63720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4" descr="button103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40" y="564372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198" name="Дата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E97-A10C-4360-B9BE-0C26112BD755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38A-65F3-4341-9214-CCD946AB2E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3373560" y="1714680"/>
            <a:ext cx="54748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0a0"/>
                </a:solidFill>
                <a:uFillTx/>
                <a:latin typeface="Calibri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устим высоту на основание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прямоугольного треугольни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D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ю танге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g30°=BD/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=AD•tg30°, BD=3•1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√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я формулу площад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·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=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·√3=3√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м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Ответ:3√3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145080" y="3214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3789720" y="32148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931400" y="114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8"/>
          <p:cNvSpPr/>
          <p:nvPr/>
        </p:nvSpPr>
        <p:spPr>
          <a:xfrm flipH="1" flipV="1">
            <a:off x="2034720" y="1499760"/>
            <a:ext cx="1800" cy="191124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1931040" y="3500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1"/>
          <p:cNvSpPr/>
          <p:nvPr/>
        </p:nvSpPr>
        <p:spPr>
          <a:xfrm>
            <a:off x="646200" y="300024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2"/>
          <p:cNvSpPr/>
          <p:nvPr/>
        </p:nvSpPr>
        <p:spPr>
          <a:xfrm>
            <a:off x="1857240" y="3214800"/>
            <a:ext cx="200160" cy="199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7786800" y="342900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4"/>
          <a:stretch/>
        </p:blipFill>
        <p:spPr>
          <a:xfrm>
            <a:off x="3929040" y="3714840"/>
            <a:ext cx="152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09:42Z</dcterms:created>
  <dc:creator>Кузнецовская школа</dc:creator>
  <dc:description/>
  <dc:language>en-US</dc:language>
  <cp:lastModifiedBy>1</cp:lastModifiedBy>
  <dcterms:modified xsi:type="dcterms:W3CDTF">2010-11-13T11:14:19Z</dcterms:modified>
  <cp:revision>85</cp:revision>
  <dc:subject/>
  <dc:title>Слайд 1</dc:title>
</cp:coreProperties>
</file>