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gif" ContentType="image/gif"/>
  <Override PartName="/ppt/media/image12.gif" ContentType="image/gif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F08F-B834-40C2-B7B3-0F8454B7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70C7-E6AA-43AC-ABE7-378AEE63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9E3-CE90-4C8E-9898-C9952D7D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81A-93B5-4761-962B-8882D08D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2266-7881-4CC7-B891-402E9EED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360E-5448-4A81-974C-4675109D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A718-B379-435C-B4BC-5DA601AE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6CFC-A9DB-4C0F-B166-E98EFD93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75CA-8E78-4411-9DDD-A36A06E9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818A-DB19-448E-9787-97D6A68E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1D44-02AD-4F90-B5F4-6949E79F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163-6609-4DC1-A5E7-BD1B3DD8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8521-F294-4A55-BB7B-6ABA63CB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F4A7-6436-4381-85D4-3CACD29D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E88A-A5C4-4519-85C5-0670ADB8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964E-9C76-42A7-8723-1CEB3C0D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D5ED-8042-4D8E-942B-607F3DE9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6AADE-0EFE-4F37-AB0D-9401181E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8389A-7153-4748-BCD8-FAB9199C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B51F5-E352-4F68-9FB5-9CB8920C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FCAF2-6B46-4442-95C5-DA3E450C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5DEE2-3521-4179-94BB-BA2D1AE7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529B-CC62-4557-B292-D9CFCA4E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97660-115F-49AB-B548-7D34A107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39E83-A549-4016-A2F5-FC502292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6376D-57C1-46BB-8CE2-CE70A88F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708C7-B9CC-417F-AC00-B7ABF761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26574-AB02-47B5-AE16-19DCA44D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74718-65A6-47C1-A191-52494848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4AF09-0B54-45C7-A161-9C03D611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DADAB-9652-4C55-8FBD-56FC95D7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8A8B5-1041-4123-BB30-86218347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AFD2F-83E8-467A-A004-00E75E30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68F6-3710-4C13-9598-C891E3ED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D16B7-D030-49D6-BDCF-9127E71F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196E6-AC87-4319-AF45-94FBC296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F7A55-9F27-4362-B3C6-2BB34E47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04757-E431-4765-B6C6-1672BEAC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9C71E-E81E-49F4-84A7-7267130E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3B0D5-E234-408D-8978-5CA66E26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850AB-33BB-41FA-AC35-746705EA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F713C-0E81-49AF-B141-EEDBF276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86737-ED8D-4C1A-9D2D-DD03D39D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7E1-889D-469E-B959-DC375C3C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D39F-7DA6-4C7B-B08E-42417635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B37-B27B-48C1-82A5-DEC5A8DD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85DA-90FF-457B-8562-DFA9ED63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5EE-A5ED-409B-828C-2D394C4D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8494-CF0C-4DF2-AA6D-72065261344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78F7-642B-4950-91D9-B8DEF769487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1B32-2E09-4CF8-AACA-E548D25FD0E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7020-DD1C-4572-8B3B-34BCFBF7C49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лиц - турни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а№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2" descr="C:\Documents and Settings\я\Рабочий стол\картинки\Animated\транспорт\J0076162.GIF"/>
          <p:cNvPicPr/>
          <p:nvPr/>
        </p:nvPicPr>
        <p:blipFill>
          <a:blip r:embed="rId1"/>
          <a:stretch/>
        </p:blipFill>
        <p:spPr>
          <a:xfrm>
            <a:off x="500040" y="2357280"/>
            <a:ext cx="3571920" cy="2786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вый русский мотоцикл развивал скорость70км/ч, что на 58км/ч больше, чем первый в мире мотоцикл . Чему равна скорость первого в мире мотоцикл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а №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2" descr="C:\Documents and Settings\я\Рабочий стол\картинки\Животные\0003bs.jpg"/>
          <p:cNvPicPr/>
          <p:nvPr/>
        </p:nvPicPr>
        <p:blipFill>
          <a:blip r:embed="rId1"/>
          <a:stretch/>
        </p:blipFill>
        <p:spPr>
          <a:xfrm>
            <a:off x="457200" y="2071800"/>
            <a:ext cx="4038480" cy="3286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 зоопарка убежал гепард. Его поймали через 3 часа за 180 км от зоопарка. С какой средней скоростью бежал гепард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а №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999800"/>
            <a:ext cx="35434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аус может развивать скорость до 120 км/ч, а автомобиль «Жигули» может проехать 360 км за 3часа. Сравните скорость страуса и автомобил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C:\Documents and Settings\я\Мои документы\46ZOO.jpg"/>
          <p:cNvPicPr/>
          <p:nvPr/>
        </p:nvPicPr>
        <p:blipFill>
          <a:blip r:embed="rId1"/>
          <a:stretch/>
        </p:blipFill>
        <p:spPr>
          <a:xfrm>
            <a:off x="357120" y="1785960"/>
            <a:ext cx="3714840" cy="435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а№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2" descr="C:\Documents and Settings\я\Рабочий стол\картинки\космос\j0178715.jpg"/>
          <p:cNvPicPr/>
          <p:nvPr/>
        </p:nvPicPr>
        <p:blipFill>
          <a:blip r:embed="rId1"/>
          <a:stretch/>
        </p:blipFill>
        <p:spPr>
          <a:xfrm>
            <a:off x="285840" y="1928880"/>
            <a:ext cx="4357440" cy="4357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смический корабль летит со скоростью 7км/с. Какое расстояние он пролетит за 1 минуту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а №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C:\Documents and Settings\я\Рабочий стол\картинки\космос\ag_00004.jpg"/>
          <p:cNvPicPr/>
          <p:nvPr/>
        </p:nvPicPr>
        <p:blipFill>
          <a:blip r:embed="rId1"/>
          <a:stretch/>
        </p:blipFill>
        <p:spPr>
          <a:xfrm>
            <a:off x="457200" y="2724120"/>
            <a:ext cx="4038480" cy="2827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ета «Биэлы» пролетела 510км со скоростью 17 км/ч. Сколько часов она была в пут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1) 12+58= 70 (км/ч)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) 180: 3 = 60 (км/ч)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3) скорость одинаковая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4) 420 ( км)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5) 30 (ч )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формационный источни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.А. Лавриненк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Задания по математике развивающего характер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ратов ОАО Издательство Лиц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002го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C:\Documents and Settings\я\Рабочий стол\картинки\Animated\руки и канцелярия\08.gif"/>
          <p:cNvPicPr/>
          <p:nvPr/>
        </p:nvPicPr>
        <p:blipFill>
          <a:blip r:embed="rId1"/>
          <a:stretch/>
        </p:blipFill>
        <p:spPr>
          <a:xfrm>
            <a:off x="5929200" y="2786040"/>
            <a:ext cx="1952640" cy="2067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3:47:16Z</dcterms:created>
  <dc:creator>User</dc:creator>
  <dc:description/>
  <dc:language>en-US</dc:language>
  <cp:lastModifiedBy>User</cp:lastModifiedBy>
  <dcterms:modified xsi:type="dcterms:W3CDTF">2010-11-16T16:34:28Z</dcterms:modified>
  <cp:revision>14</cp:revision>
  <dc:subject/>
  <dc:title>Математика</dc:title>
</cp:coreProperties>
</file>