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gif" ContentType="image/gif"/>
  <Override PartName="/ppt/media/image12.gif" ContentType="image/gif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D05-8DDD-458E-B6CD-48AA2866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F32-868C-439E-8B29-36CCAD0F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E46-354C-4DF3-BF4C-BDF1D593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49D-025A-4F06-8B22-DCCF7493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31B6-DBDF-44A0-BA5F-22A5861D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E7EE-1799-46B5-98C3-CD933E37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9D3F-10ED-443C-A6CA-253C4910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22AF-A433-4AA0-A91F-758A4126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F695-7DBC-4F19-A213-6E02068B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98C4-6DF1-4852-97BC-CAFF921A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B71D-4931-492B-A91C-6394FBC3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9C98-4A53-4A6C-9DEA-00C0E6CC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E66D-CFA5-4DAD-9FAA-5242FF6C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2746-FB69-44B7-98B7-CDCCAD08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93A7-B329-49C7-A1F9-5CE7BE24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3715-5646-4EE6-B9B9-62E68BCA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6803-299A-49EE-8AC8-5DE765CC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026E0-3C1A-46EA-AE7A-590ACE5D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115F-F786-484B-BBA5-FBE40C5A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CD62F-CD07-4FFE-B705-7B8CD26E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A94D1-D6CB-499D-8210-450F9FE1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78A34-725D-42C5-BB51-801478EE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C036-7DA3-4464-9E18-813FE437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A3C7E-51F4-4B33-9FFC-8DA881D6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A017A-7F75-43EB-A4A3-B656FB79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EAFDD-E96A-4364-94FC-CB3CDD31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FD83-3EA8-461C-BE6A-48A6236B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C4042-243A-431A-9D89-BFAE04B6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699FC-EE1A-4012-B539-D6A96CAE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FBC3B-4E20-486E-A4B1-090EBFDE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91057-A5D9-464A-8A69-E2D9518C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D46BD-7D7F-4539-9BD5-B37DCB46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5B715-CE5F-4E41-A5C9-69D79100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10C-F338-40D9-9722-4E5C90A6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DD112-53F5-4511-9EC4-773D5440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63740-C8F2-4148-BD5C-78F05C39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68A9-901A-4B72-B489-C7CFE985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6D405-7EF3-4DBC-91AB-CAECA285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55030-A25E-406D-B7F9-3C32F4D2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7A25B-EBDE-4CA2-ABE8-0596D5C2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65CF3-9EBD-4205-BFE6-DBEF5731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B9978-991B-4CE4-9D7D-014472E2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E6013-DB14-44F2-AC1E-535C8541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143-14F0-4AA0-BD10-E8799401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2F9-E3B2-4548-8116-B388FFC1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357-F421-42EE-9667-5DAD7C97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B85-A3FD-43BB-8A98-58B04975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E1A-50A9-4383-A82C-265E01BB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9E03-8F74-4F8F-9F01-A5B00859F8C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C5C7-51DC-4E01-B711-3C9B613A0DD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E34B-9809-4BFD-ABD4-A7F63377DE6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790C-E424-4AF8-A4FD-7FB6355E77E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лиц - турни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№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C:\Documents and Settings\я\Рабочий стол\картинки\Animated\транспорт\J0076162.GIF"/>
          <p:cNvPicPr/>
          <p:nvPr/>
        </p:nvPicPr>
        <p:blipFill>
          <a:blip r:embed="rId1"/>
          <a:stretch/>
        </p:blipFill>
        <p:spPr>
          <a:xfrm>
            <a:off x="500040" y="2357280"/>
            <a:ext cx="3571920" cy="2786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вый русский мотоцикл развивал скорость70км/ч, что на 58км/ч больше, чем первый в мире мотоцикл . Чему равна скорость первого в мире мотоцикл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 №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2" descr="C:\Documents and Settings\я\Рабочий стол\картинки\Животные\0003bs.jpg"/>
          <p:cNvPicPr/>
          <p:nvPr/>
        </p:nvPicPr>
        <p:blipFill>
          <a:blip r:embed="rId1"/>
          <a:stretch/>
        </p:blipFill>
        <p:spPr>
          <a:xfrm>
            <a:off x="457200" y="2071800"/>
            <a:ext cx="4038480" cy="3286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 зоопарка убежал гепард. Его поймали через 3 часа за 180 км от зоопарка. С какой средней скоростью бежал гепард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 №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999800"/>
            <a:ext cx="35434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аус может развивать скорость до 120 км/ч, а автомобиль «Жигули» может проехать 360 км за 3часа. Сравните скорость страуса и автомобил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C:\Documents and Settings\я\Мои документы\46ZOO.jpg"/>
          <p:cNvPicPr/>
          <p:nvPr/>
        </p:nvPicPr>
        <p:blipFill>
          <a:blip r:embed="rId1"/>
          <a:stretch/>
        </p:blipFill>
        <p:spPr>
          <a:xfrm>
            <a:off x="357120" y="1785960"/>
            <a:ext cx="3714840" cy="43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№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C:\Documents and Settings\я\Рабочий стол\картинки\космос\j0178715.jpg"/>
          <p:cNvPicPr/>
          <p:nvPr/>
        </p:nvPicPr>
        <p:blipFill>
          <a:blip r:embed="rId1"/>
          <a:stretch/>
        </p:blipFill>
        <p:spPr>
          <a:xfrm>
            <a:off x="285840" y="1928880"/>
            <a:ext cx="4357440" cy="4357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смический корабль летит со скоростью 7км/с. Какое расстояние он пролетит за 1 минут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 №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C:\Documents and Settings\я\Рабочий стол\картинки\космос\ag_00004.jpg"/>
          <p:cNvPicPr/>
          <p:nvPr/>
        </p:nvPicPr>
        <p:blipFill>
          <a:blip r:embed="rId1"/>
          <a:stretch/>
        </p:blipFill>
        <p:spPr>
          <a:xfrm>
            <a:off x="457200" y="2724120"/>
            <a:ext cx="4038480" cy="2827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ета «Биэлы» пролетела 510км со скоростью 17 км/ч. Сколько часов она была в пут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1) 12+58= 70 (км/ч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) 180: 3 = 60 (км/ч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3) скорость одинаковая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4) 420 ( км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5) 30 (ч 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формационный источни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.А. Лавриненк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Задания по математике развивающего характер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ратов ОАО Издательство Лиц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002го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Documents and Settings\я\Рабочий стол\картинки\Animated\руки и канцелярия\08.gif"/>
          <p:cNvPicPr/>
          <p:nvPr/>
        </p:nvPicPr>
        <p:blipFill>
          <a:blip r:embed="rId1"/>
          <a:stretch/>
        </p:blipFill>
        <p:spPr>
          <a:xfrm>
            <a:off x="5929200" y="2786040"/>
            <a:ext cx="1952640" cy="2067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3:47:16Z</dcterms:created>
  <dc:creator>User</dc:creator>
  <dc:description/>
  <dc:language>en-US</dc:language>
  <cp:lastModifiedBy>User</cp:lastModifiedBy>
  <dcterms:modified xsi:type="dcterms:W3CDTF">2010-11-16T16:34:28Z</dcterms:modified>
  <cp:revision>14</cp:revision>
  <dc:subject/>
  <dc:title>Математика</dc:title>
</cp:coreProperties>
</file>