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D02-3399-48A5-986E-82610416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F3F-CFF0-4B06-8C9C-205DE41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884-316E-4AF8-BD5C-1C1E26BD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3E3-1029-4BD1-8313-D828AF5F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0C1-44CC-40F4-AC6F-F91602C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C27-4682-4775-9E86-B34D0B11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7A4-B842-4EC2-974B-7BC505D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A81-006E-4AA9-BC6B-2DBC9132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A2A-68A0-400A-8BB2-544061C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CD0-AF8E-4219-9149-123F15E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19F-BCE5-4FC4-8FE0-5F4C2518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0FD-AA45-4CA5-A048-C2D711E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9CCE-E826-4D98-91A8-4A329C805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4200" y="214200"/>
            <a:ext cx="8929800" cy="10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углублённым изучением отдельных предметов №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. Нефтеюганска Тюме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шуева Татьяна Геннадь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К – система  Л.В.За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0" y="4000680"/>
            <a:ext cx="9144000" cy="36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1071720"/>
          <a:ext cx="8572680" cy="5319720"/>
        </p:xfrm>
        <a:graphic>
          <a:graphicData uri="http://schemas.openxmlformats.org/drawingml/2006/table">
            <a:tbl>
              <a:tblPr/>
              <a:tblGrid>
                <a:gridCol w="4286520"/>
                <a:gridCol w="428616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нее изучен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информ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ит из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ает законченную мыс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слово пишется с большой бук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цели высказывания- повествовательное, вопросительное,  побуд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1. Прочита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йте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2. Составьте схему этого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3. Повторите предложение по сх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4. Запишите предложение по памяти, диктуя его по слогам и выделяя голосом слоги с орфограм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5. Прочитайте предложение, выделяя каждый слог и проверяя, не пропустили ли вы в нём какие-нибудь буквы или сл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6. Подчеркните в своей записи орфограммы и сравните их с орфограммами в образ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6 предло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лег составил из пазлов интересную карти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3)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Лариса кормит кук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лава с маш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У Павлика большая маш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Красивый кораб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28800" y="1397160"/>
          <a:ext cx="7643880" cy="2531880"/>
        </p:xfrm>
        <a:graphic>
          <a:graphicData uri="http://schemas.openxmlformats.org/drawingml/2006/table">
            <a:tbl>
              <a:tblPr/>
              <a:tblGrid>
                <a:gridCol w="2547720"/>
                <a:gridCol w="2548080"/>
                <a:gridCol w="254808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амостоят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 подсказ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По этал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Диаграмма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амооценка перво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Диаграмма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амооценка второго 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Диаграмма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амооценка треть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4000680"/>
            <a:ext cx="9144000" cy="36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14200" y="714240"/>
          <a:ext cx="8572680" cy="6150240"/>
        </p:xfrm>
        <a:graphic>
          <a:graphicData uri="http://schemas.openxmlformats.org/drawingml/2006/table">
            <a:tbl>
              <a:tblPr/>
              <a:tblGrid>
                <a:gridCol w="4286520"/>
                <a:gridCol w="428616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нее изучен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информ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ит из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ит из одного слова или нескольких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ает законченную мыс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слово пишется с большой бук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цели высказывания- повествовательное, вопросительное,  побуд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2:56:49Z</dcterms:created>
  <dc:creator>Пользователь</dc:creator>
  <dc:description/>
  <dc:language>en-US</dc:language>
  <cp:lastModifiedBy>Пользователь</cp:lastModifiedBy>
  <dcterms:modified xsi:type="dcterms:W3CDTF">2002-04-03T20:22:59Z</dcterms:modified>
  <cp:revision>16</cp:revision>
  <dc:subject/>
  <dc:title>Слайд 1</dc:title>
</cp:coreProperties>
</file>