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8947-AB03-4B4B-B6B2-277B8777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C0B6-2EA7-47F1-97EB-0260B142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F791-89D4-438D-99B4-27F2EF35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34B8-F7C7-47A9-AADC-AF143DF1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96B81-DD06-4919-B638-E051DB96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FAE89-D091-4182-B4EF-02768425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2C4C9-1CB3-4781-901F-670CFD5D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38247-4532-46BD-96B3-27C16B20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46171-42E1-4B61-9C54-332D2D29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01A70-C743-4A37-B7C5-18378B7F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EA4C4-1F1A-40A2-8C84-9E6BE425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343D-1A58-458C-ABD7-76012CED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F66AE-F83A-4848-9402-49801900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DBD64-2348-4B10-A35A-3DC0D0B7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280E7-2118-4F20-9FCF-0C943488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01073-8821-499C-8CDB-389845BD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D7F75-BAD7-4246-9A13-CD714354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5FBD-72DA-4F61-8E42-A38202C2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70D-E833-4163-B91E-20AB8E3C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8BC9-7CE1-4A99-AAFB-E002E414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6C64-9BA0-4D9E-B59B-F7939DE2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479D-A140-4563-BBD5-453C789B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0EFD-6D66-4AA3-B3D1-871E7B14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C3AB-1DB5-40FF-9EE1-E0C59355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DF72-328F-4771-A511-8687BB2A11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2726-4838-4226-993F-7332F2FE35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916360" y="907920"/>
            <a:ext cx="32194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ект по биологи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332000" y="1773360"/>
            <a:ext cx="61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разновидности кроли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26920" y="3284640"/>
            <a:ext cx="3600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Выполнила:ученица 7 клас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Братышева Диа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435640" y="3141720"/>
            <a:ext cx="298764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cc"/>
                </a:solidFill>
                <a:latin typeface="Arial"/>
              </a:rPr>
              <a:t>учитель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cc"/>
                </a:solidFill>
                <a:latin typeface="Arial"/>
              </a:rPr>
              <a:t>Братыше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cc"/>
                </a:solidFill>
                <a:latin typeface="Arial"/>
              </a:rPr>
              <a:t>Наталь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cc"/>
                </a:solidFill>
                <a:latin typeface="Arial"/>
              </a:rPr>
              <a:t>Серге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cc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79640" y="260280"/>
            <a:ext cx="466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БОУ "Верх-ЧикскаяСОШ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Мясные 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Arial"/>
              </a:rPr>
              <a:t>Новозеландская белая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Arial"/>
              </a:rPr>
              <a:t>Калифорнийская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124000" y="2997360"/>
            <a:ext cx="482436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к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050920" y="1557360"/>
            <a:ext cx="5133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ороткошерстая пор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Порода выведена в период с 1919 по</a:t>
            </a:r>
            <a:br>
              <a:rPr sz="1800"/>
            </a:b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1924 гг. во Фран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В нашу страну была завезена уже из Герман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Живая масса полновозрастных кроликов со-</a:t>
            </a:r>
            <a:br>
              <a:rPr sz="1800"/>
            </a:b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ставляет 3—4,5 к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Конституция у них нежная, костяк тон-</a:t>
            </a:r>
            <a:br>
              <a:rPr sz="1800"/>
            </a:b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кий и легк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Голова небольшая, несколько вытянутая, с</a:t>
            </a:r>
            <a:br>
              <a:rPr sz="1800"/>
            </a:b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ушами средней величины; туловище удлиненное — 40-</a:t>
            </a:r>
            <a:br>
              <a:rPr sz="1800"/>
            </a:b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54 см, передняя его часть суженн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Arial"/>
              </a:rPr>
              <a:t>Грудь глубокая, но</a:t>
            </a:r>
            <a:br>
              <a:rPr sz="1600"/>
            </a:br>
            <a:r>
              <a:rPr b="0" lang="ru-RU" sz="1600" spc="-1" strike="noStrike">
                <a:solidFill>
                  <a:srgbClr val="ccff33"/>
                </a:solidFill>
                <a:latin typeface="Arial"/>
              </a:rPr>
              <a:t>узкая, нередко с перехватом за лопатками и небольшим</a:t>
            </a:r>
            <a:br>
              <a:rPr sz="1600"/>
            </a:br>
            <a:r>
              <a:rPr b="0" lang="ru-RU" sz="1600" spc="-1" strike="noStrike">
                <a:solidFill>
                  <a:srgbClr val="ccff33"/>
                </a:solidFill>
                <a:latin typeface="Arial"/>
              </a:rPr>
              <a:t>подгрудко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Arial"/>
              </a:rPr>
              <a:t>Спина длинная, иногда горбатая; круп тоже</a:t>
            </a:r>
            <a:br>
              <a:rPr sz="1600"/>
            </a:br>
            <a:r>
              <a:rPr b="0" lang="ru-RU" sz="1600" spc="-1" strike="noStrike">
                <a:solidFill>
                  <a:srgbClr val="ccff33"/>
                </a:solidFill>
                <a:latin typeface="Arial"/>
              </a:rPr>
              <a:t>узкий; конечности тонки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Arial"/>
              </a:rPr>
              <a:t>Крольчата породы Рекс обладают средними темпами рос-</a:t>
            </a:r>
            <a:br>
              <a:rPr sz="1600"/>
            </a:br>
            <a:r>
              <a:rPr b="0" lang="ru-RU" sz="1600" spc="-1" strike="noStrike">
                <a:solidFill>
                  <a:srgbClr val="ccff33"/>
                </a:solidFill>
                <a:latin typeface="Arial"/>
              </a:rPr>
              <a:t>т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Arial"/>
              </a:rPr>
              <a:t>. Их масса в возрасте одного месяца составляет 0,68 кг,</a:t>
            </a:r>
            <a:br>
              <a:rPr sz="1600"/>
            </a:br>
            <a:r>
              <a:rPr b="0" lang="ru-RU" sz="1600" spc="-1" strike="noStrike">
                <a:solidFill>
                  <a:srgbClr val="ccff33"/>
                </a:solidFill>
                <a:latin typeface="Arial"/>
              </a:rPr>
              <a:t>двух месяцев — 1,68 кг, трех — 2,19 кг, в возрасте четырех</a:t>
            </a:r>
            <a:br>
              <a:rPr sz="1600"/>
            </a:br>
            <a:r>
              <a:rPr b="0" lang="ru-RU" sz="1600" spc="-1" strike="noStrike">
                <a:solidFill>
                  <a:srgbClr val="ccff33"/>
                </a:solidFill>
                <a:latin typeface="Arial"/>
              </a:rPr>
              <a:t>месяцев — 2,32 кг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33"/>
                </a:solidFill>
                <a:latin typeface="Arial"/>
              </a:rPr>
              <a:t>У полновозрастных кроликов мясо не-</a:t>
            </a:r>
            <a:br>
              <a:rPr sz="1800"/>
            </a:br>
            <a:r>
              <a:rPr b="0" lang="ru-RU" sz="1800" spc="-1" strike="noStrike">
                <a:solidFill>
                  <a:srgbClr val="ccff33"/>
                </a:solidFill>
                <a:latin typeface="Arial"/>
              </a:rPr>
              <a:t>жное, причем убойный выход его сравнительно высо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33"/>
                </a:solidFill>
                <a:latin typeface="Arial"/>
              </a:rPr>
              <a:t>Плодовитость крольчих невысокая: в среднем 5-6 кроль-</a:t>
            </a:r>
            <a:br>
              <a:rPr sz="1800"/>
            </a:br>
            <a:r>
              <a:rPr b="0" lang="ru-RU" sz="1800" spc="-1" strike="noStrike">
                <a:solidFill>
                  <a:srgbClr val="ccff33"/>
                </a:solidFill>
                <a:latin typeface="Arial"/>
              </a:rPr>
              <a:t>чат за окро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От кроликов получают мелкие и крупные шкурки раз-</a:t>
            </a:r>
            <a:br>
              <a:rPr sz="1800"/>
            </a:b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личного окраса, наиболее часто встречаются черные, корич-</a:t>
            </a:r>
            <a:br>
              <a:rPr sz="1800"/>
            </a:b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невые, белые и голуб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Волосяной покров укороченный. Остевые и направляю-</a:t>
            </a:r>
            <a:br>
              <a:rPr sz="1800"/>
            </a:b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щие волосы достигают 1,8-2 см, причем они тоньше, чем у</a:t>
            </a:r>
            <a:br>
              <a:rPr sz="1800"/>
            </a:b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нормальношерстных кроликов, а пуховые волосы также ко-</a:t>
            </a:r>
            <a:br>
              <a:rPr sz="1800"/>
            </a:b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роткие (1,7—1,8 см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Мех очень мягкий, шелковистый, густой, с ярким блес-</a:t>
            </a:r>
            <a:br>
              <a:rPr sz="1800"/>
            </a:b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к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Он лишен обычной ярусности и выглядит как бы под-</a:t>
            </a:r>
            <a:br>
              <a:rPr sz="1800"/>
            </a:b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стриженны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48320" y="26028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Arial"/>
              </a:rPr>
              <a:t>Шкурки преимущественно используют в нату-</a:t>
            </a:r>
            <a:br>
              <a:rPr sz="1600"/>
            </a:br>
            <a:r>
              <a:rPr b="0" lang="ru-RU" sz="1600" spc="-1" strike="noStrike">
                <a:solidFill>
                  <a:srgbClr val="ccff33"/>
                </a:solidFill>
                <a:latin typeface="Arial"/>
              </a:rPr>
              <a:t>ральном виде, без окраски, порой — для имитации меха ценных пушных звер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Arial"/>
              </a:rPr>
              <a:t>Короткошерстных кроликов разводят в любительских</a:t>
            </a:r>
            <a:br>
              <a:rPr sz="1600"/>
            </a:br>
            <a:r>
              <a:rPr b="0" lang="ru-RU" sz="1600" spc="-1" strike="noStrike">
                <a:solidFill>
                  <a:srgbClr val="ccff33"/>
                </a:solidFill>
                <a:latin typeface="Arial"/>
              </a:rPr>
              <a:t>хозяйствах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859280" y="2637000"/>
            <a:ext cx="3816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5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Мои кролики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4968720" cy="2793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500720" y="3860640"/>
            <a:ext cx="42796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900000" y="1413000"/>
            <a:ext cx="73440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Impact"/>
              </a:rPr>
              <a:t>фотоколлекц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679640" cy="3517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643280" y="3352680"/>
            <a:ext cx="410544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4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475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8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3600360" cy="2713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857760" y="2890800"/>
            <a:ext cx="46018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2" dur="2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4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105080" cy="3092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211640" y="3213000"/>
            <a:ext cx="468144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8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0" dur="2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4103640" cy="3090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348080" y="3262320"/>
            <a:ext cx="45450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4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6" dur="2000" fill="hold"/>
                                        <p:tgtEl>
                                          <p:spTgt spid="1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99ff"/>
                </a:solidFill>
                <a:latin typeface="Arial"/>
              </a:rPr>
              <a:t>Цель: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08000"/>
                </a:solidFill>
                <a:latin typeface="Arial"/>
              </a:rPr>
              <a:t>Изучить породы кроликов, научиться различать их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2566800" cy="3384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995640" y="2781360"/>
            <a:ext cx="367200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0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2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744720" cy="2801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203640" y="26370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6" dur="2000" fill="hold"/>
                                        <p:tgtEl>
                                          <p:spTgt spid="1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8" dur="2000" fill="hold"/>
                                        <p:tgtEl>
                                          <p:spTgt spid="1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Проанализировать информацию о породах кролик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Описать кроликов разных пор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Создать презентацию по изученному материал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5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5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6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2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Порода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—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это достаточно многочисленная однородная</a:t>
            </a:r>
            <a:br>
              <a:rPr sz="4000"/>
            </a:b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группа кроликов общего происхождения, имеющих сходные</a:t>
            </a:r>
            <a:br>
              <a:rPr sz="4000"/>
            </a:b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хозяйственно полезные и морфофизиологические признаки,</a:t>
            </a:r>
            <a:br>
              <a:rPr sz="4000"/>
            </a:b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стойко передающиеся по наследству.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24000" y="476280"/>
            <a:ext cx="8568360" cy="5256000"/>
            <a:chOff x="324000" y="476280"/>
            <a:chExt cx="8568360" cy="5256000"/>
          </a:xfrm>
        </p:grpSpPr>
        <p:cxnSp>
          <p:nvCxnSpPr>
            <p:cNvPr id="133" name="_s8213"/>
            <p:cNvCxnSpPr>
              <a:stCxn id="134" idx="0"/>
              <a:endCxn id="135" idx="2"/>
            </p:cNvCxnSpPr>
            <p:nvPr/>
          </p:nvCxnSpPr>
          <p:spPr>
            <a:xfrm flipV="1" rot="16200000">
              <a:off x="5845680" y="1339200"/>
              <a:ext cx="1051920" cy="3529800"/>
            </a:xfrm>
            <a:prstGeom prst="bentConnector3">
              <a:avLst>
                <a:gd name="adj1" fmla="val 20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6" name="_s8211"/>
            <p:cNvCxnSpPr>
              <a:stCxn id="137" idx="0"/>
              <a:endCxn id="135" idx="2"/>
            </p:cNvCxnSpPr>
            <p:nvPr/>
          </p:nvCxnSpPr>
          <p:spPr>
            <a:xfrm flipV="1" rot="16200000">
              <a:off x="4964400" y="2220480"/>
              <a:ext cx="1051920" cy="1767240"/>
            </a:xfrm>
            <a:prstGeom prst="bentConnector3">
              <a:avLst>
                <a:gd name="adj1" fmla="val 20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8" name="_s8205"/>
            <p:cNvCxnSpPr>
              <a:stCxn id="139" idx="0"/>
              <a:endCxn id="135" idx="2"/>
            </p:cNvCxnSpPr>
            <p:nvPr/>
          </p:nvCxnSpPr>
          <p:spPr>
            <a:xfrm flipV="1" rot="16200000">
              <a:off x="4082040" y="3102840"/>
              <a:ext cx="1051920" cy="2520"/>
            </a:xfrm>
            <a:prstGeom prst="bentConnector3">
              <a:avLst>
                <a:gd name="adj1" fmla="val 20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0" name="_s8204"/>
            <p:cNvCxnSpPr>
              <a:stCxn id="141" idx="0"/>
              <a:endCxn id="135" idx="2"/>
            </p:cNvCxnSpPr>
            <p:nvPr/>
          </p:nvCxnSpPr>
          <p:spPr>
            <a:xfrm flipH="1" flipV="1" rot="5400000">
              <a:off x="3200040" y="2222640"/>
              <a:ext cx="1051920" cy="1763280"/>
            </a:xfrm>
            <a:prstGeom prst="bentConnector3">
              <a:avLst>
                <a:gd name="adj1" fmla="val 20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2" name="_s8203"/>
            <p:cNvCxnSpPr>
              <a:stCxn id="143" idx="0"/>
              <a:endCxn id="135" idx="2"/>
            </p:cNvCxnSpPr>
            <p:nvPr/>
          </p:nvCxnSpPr>
          <p:spPr>
            <a:xfrm flipH="1" flipV="1" rot="5400000">
              <a:off x="2317320" y="1340280"/>
              <a:ext cx="1051920" cy="3527640"/>
            </a:xfrm>
            <a:prstGeom prst="bentConnector3">
              <a:avLst>
                <a:gd name="adj1" fmla="val 20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5" name="_s8199"/>
            <p:cNvSpPr/>
            <p:nvPr/>
          </p:nvSpPr>
          <p:spPr>
            <a:xfrm>
              <a:off x="3850920" y="476280"/>
              <a:ext cx="1512360" cy="2102400"/>
            </a:xfrm>
            <a:custGeom>
              <a:avLst/>
              <a:gdLst>
                <a:gd name="textAreaLeft" fmla="*/ 73800 w 1512360"/>
                <a:gd name="textAreaRight" fmla="*/ 1438560 w 1512360"/>
                <a:gd name="textAreaTop" fmla="*/ 73800 h 2102400"/>
                <a:gd name="textAreaBottom" fmla="*/ 2028600 h 2102400"/>
              </a:gdLst>
              <a:ahLst/>
              <a:rect l="textAreaLeft" t="textAreaTop" r="textAreaRight" b="textAreaBottom"/>
              <a:pathLst>
                <a:path w="21600" h="30025">
                  <a:moveTo>
                    <a:pt x="3600" y="0"/>
                  </a:moveTo>
                  <a:arcTo wR="3600" hR="3600" stAng="16200000" swAng="-5400000"/>
                  <a:lnTo>
                    <a:pt x="0" y="26425"/>
                  </a:lnTo>
                  <a:arcTo wR="3600" hR="3600" stAng="10800000" swAng="-5400000"/>
                  <a:lnTo>
                    <a:pt x="18000" y="300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Класс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фикац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 </a:t>
              </a:r>
              <a:r>
                <a:rPr b="1" i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поро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8200"/>
            <p:cNvSpPr/>
            <p:nvPr/>
          </p:nvSpPr>
          <p:spPr>
            <a:xfrm>
              <a:off x="324000" y="3629880"/>
              <a:ext cx="1512360" cy="2102400"/>
            </a:xfrm>
            <a:custGeom>
              <a:avLst/>
              <a:gdLst>
                <a:gd name="textAreaLeft" fmla="*/ 73800 w 1512360"/>
                <a:gd name="textAreaRight" fmla="*/ 1438560 w 1512360"/>
                <a:gd name="textAreaTop" fmla="*/ 73800 h 2102400"/>
                <a:gd name="textAreaBottom" fmla="*/ 2028600 h 2102400"/>
              </a:gdLst>
              <a:ahLst/>
              <a:rect l="textAreaLeft" t="textAreaTop" r="textAreaRight" b="textAreaBottom"/>
              <a:pathLst>
                <a:path w="21600" h="30025">
                  <a:moveTo>
                    <a:pt x="3600" y="0"/>
                  </a:moveTo>
                  <a:arcTo wR="3600" hR="3600" stAng="16200000" swAng="-5400000"/>
                  <a:lnTo>
                    <a:pt x="0" y="26425"/>
                  </a:lnTo>
                  <a:arcTo wR="3600" hR="3600" stAng="10800000" swAng="-5400000"/>
                  <a:lnTo>
                    <a:pt x="18000" y="300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Мясо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Шкур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ков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8201"/>
            <p:cNvSpPr/>
            <p:nvPr/>
          </p:nvSpPr>
          <p:spPr>
            <a:xfrm>
              <a:off x="2088360" y="3629880"/>
              <a:ext cx="1512360" cy="2102400"/>
            </a:xfrm>
            <a:custGeom>
              <a:avLst/>
              <a:gdLst>
                <a:gd name="textAreaLeft" fmla="*/ 73800 w 1512360"/>
                <a:gd name="textAreaRight" fmla="*/ 1438560 w 1512360"/>
                <a:gd name="textAreaTop" fmla="*/ 73800 h 2102400"/>
                <a:gd name="textAreaBottom" fmla="*/ 2028600 h 2102400"/>
              </a:gdLst>
              <a:ahLst/>
              <a:rect l="textAreaLeft" t="textAreaTop" r="textAreaRight" b="textAreaBottom"/>
              <a:pathLst>
                <a:path w="21600" h="30025">
                  <a:moveTo>
                    <a:pt x="3600" y="0"/>
                  </a:moveTo>
                  <a:arcTo wR="3600" hR="3600" stAng="16200000" swAng="-5400000"/>
                  <a:lnTo>
                    <a:pt x="0" y="26425"/>
                  </a:lnTo>
                  <a:arcTo wR="3600" hR="3600" stAng="10800000" swAng="-5400000"/>
                  <a:lnTo>
                    <a:pt x="18000" y="300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Редки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пород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8202"/>
            <p:cNvSpPr/>
            <p:nvPr/>
          </p:nvSpPr>
          <p:spPr>
            <a:xfrm>
              <a:off x="3853080" y="3629880"/>
              <a:ext cx="1512360" cy="2102400"/>
            </a:xfrm>
            <a:custGeom>
              <a:avLst/>
              <a:gdLst>
                <a:gd name="textAreaLeft" fmla="*/ 73800 w 1512360"/>
                <a:gd name="textAreaRight" fmla="*/ 1438560 w 1512360"/>
                <a:gd name="textAreaTop" fmla="*/ 73800 h 2102400"/>
                <a:gd name="textAreaBottom" fmla="*/ 2028600 h 2102400"/>
              </a:gdLst>
              <a:ahLst/>
              <a:rect l="textAreaLeft" t="textAreaTop" r="textAreaRight" b="textAreaBottom"/>
              <a:pathLst>
                <a:path w="21600" h="30025">
                  <a:moveTo>
                    <a:pt x="3600" y="0"/>
                  </a:moveTo>
                  <a:arcTo wR="3600" hR="3600" stAng="16200000" swAng="-5400000"/>
                  <a:lnTo>
                    <a:pt x="0" y="26425"/>
                  </a:lnTo>
                  <a:arcTo wR="3600" hR="3600" stAng="10800000" swAng="-5400000"/>
                  <a:lnTo>
                    <a:pt x="18000" y="300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Коротк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шер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ст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8210"/>
            <p:cNvSpPr/>
            <p:nvPr/>
          </p:nvSpPr>
          <p:spPr>
            <a:xfrm>
              <a:off x="5617800" y="3629880"/>
              <a:ext cx="1512360" cy="2102400"/>
            </a:xfrm>
            <a:custGeom>
              <a:avLst/>
              <a:gdLst>
                <a:gd name="textAreaLeft" fmla="*/ 73800 w 1512360"/>
                <a:gd name="textAreaRight" fmla="*/ 1438560 w 1512360"/>
                <a:gd name="textAreaTop" fmla="*/ 73800 h 2102400"/>
                <a:gd name="textAreaBottom" fmla="*/ 2028600 h 2102400"/>
              </a:gdLst>
              <a:ahLst/>
              <a:rect l="textAreaLeft" t="textAreaTop" r="textAreaRight" b="textAreaBottom"/>
              <a:pathLst>
                <a:path w="21600" h="30025">
                  <a:moveTo>
                    <a:pt x="3600" y="0"/>
                  </a:moveTo>
                  <a:arcTo wR="3600" hR="3600" stAng="16200000" swAng="-5400000"/>
                  <a:lnTo>
                    <a:pt x="0" y="26425"/>
                  </a:lnTo>
                  <a:arcTo wR="3600" hR="3600" stAng="10800000" swAng="-5400000"/>
                  <a:lnTo>
                    <a:pt x="18000" y="300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пухов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8212"/>
            <p:cNvSpPr/>
            <p:nvPr/>
          </p:nvSpPr>
          <p:spPr>
            <a:xfrm>
              <a:off x="7382160" y="3629880"/>
              <a:ext cx="1510200" cy="2102400"/>
            </a:xfrm>
            <a:custGeom>
              <a:avLst/>
              <a:gdLst>
                <a:gd name="textAreaLeft" fmla="*/ 73440 w 1510200"/>
                <a:gd name="textAreaRight" fmla="*/ 1436760 w 1510200"/>
                <a:gd name="textAreaTop" fmla="*/ 73440 h 2102400"/>
                <a:gd name="textAreaBottom" fmla="*/ 2028960 h 2102400"/>
              </a:gdLst>
              <a:ahLst/>
              <a:rect l="textAreaLeft" t="textAreaTop" r="textAreaRight" b="textAreaBottom"/>
              <a:pathLst>
                <a:path w="21600" h="30068">
                  <a:moveTo>
                    <a:pt x="3600" y="0"/>
                  </a:moveTo>
                  <a:arcTo wR="3600" hR="3600" stAng="16200000" swAng="-5400000"/>
                  <a:lnTo>
                    <a:pt x="0" y="26468"/>
                  </a:lnTo>
                  <a:arcTo wR="3600" hR="3600" stAng="10800000" swAng="-5400000"/>
                  <a:lnTo>
                    <a:pt x="18000" y="300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мяс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Мясо-шкурковы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Советская шиншилл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Белый велика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Серый велика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Серебрист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Венский голуб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Черно-бур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Советский марде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Бабоч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Бел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0" y="2492280"/>
            <a:ext cx="42544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Редкие пород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Новозеландский красны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Большой баран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Тюрингенский кролик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Аляск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Черно-огненный кролик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Голландский кролик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Пуховые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Ангорская пухов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Белая пухова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708360" y="3213000"/>
            <a:ext cx="496908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Короткошерстые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cc"/>
                </a:solidFill>
                <a:latin typeface="Arial"/>
              </a:rPr>
              <a:t>Рекс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979640" y="2637000"/>
            <a:ext cx="519732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032 0.03607 C 0.1283 0.02543 0.13993 0.02058 0.15035 0.01503 C 0.16059 0.00971 0.17014 0.00277 0.18056 -0.00185 C 0.18681 -0.0074 0.19184 -0.01596 0.19809 -0.02104 C 0.20469 -0.02636 0.21302 -0.02844 0.22032 -0.03145 C 0.22379 -0.02821 0.22882 -0.02775 0.23143 -0.02312 C 0.23455 -0.01757 0.23473 -0.00994 0.23768 -0.00416 C 0.23855 0.00092 0.24011 0.00555 0.24098 0.01063 C 0.24271 0.02081 0.24219 0.02959 0.24723 0.03815 C 0.25018 0.043 0.2599 0.0467 0.2599 0.0467 C 0.26146 0.04878 0.26493 0.05433 0.26789 0.05295 C 0.27153 0.05133 0.27431 0.0474 0.27743 0.04462 C 0.30591 0.01988 0.27778 0.04717 0.29809 0.03191 C 0.30035 0.03029 0.30209 0.02728 0.30434 0.02543 C 0.31302 0.01873 0.32327 0.01364 0.32986 0.00231 C 0.33212 -0.00162 0.33907 -0.01757 0.3441 -0.02104 C 0.35348 -0.02728 0.35174 -0.02335 0.3599 -0.02728 C 0.36372 -0.02913 0.36719 -0.03191 0.37101 -0.03376 C 0.38316 -0.03977 0.39792 -0.03885 0.41077 -0.04208 C 0.41719 -0.02474 0.41268 -0.00463 0.41875 0.01295 C 0.42587 0.03376 0.44063 0.03838 0.45209 0.05295 C 0.46632 0.05225 0.48056 0.05272 0.4948 0.05087 C 0.49809 0.0504 0.49879 0.04277 0.49966 0.04023 C 0.50209 0.03376 0.50469 0.02728 0.50747 0.02127 C 0.51111 0.0074 0.52396 -0.00694 0.53455 -0.01041 C 0.59584 -0.00902 0.65921 -0.00416 0.72032 -0.00416 E">
                                      <p:cBhvr>
                                        <p:cTn id="252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0:06:50Z</dcterms:created>
  <dc:creator>Братышев Иван Витальевич</dc:creator>
  <dc:description/>
  <dc:language>en-US</dc:language>
  <cp:lastModifiedBy>Братышев Иван Витальевич</cp:lastModifiedBy>
  <dcterms:modified xsi:type="dcterms:W3CDTF">2010-09-07T13:40:05Z</dcterms:modified>
  <cp:revision>7</cp:revision>
  <dc:subject/>
  <dc:title>Слайд 1</dc:title>
</cp:coreProperties>
</file>