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3AF-F89D-49E1-895F-739D8E64EBC0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F77-4334-4F26-909F-34C3CACB414E}" type="slidenum">
              <a:rPr b="0" lang="ru-RU" sz="1200" spc="-1" strike="noStrike">
                <a:solidFill>
                  <a:srgbClr val="0066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5F2-4331-4D2B-971C-AE3B8016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2DC-84F8-4240-A94F-52800602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DDE-8C1E-445E-99CB-192F3F0C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0B4-B2AF-46B3-B15B-4D9B1047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FDED-52B6-422A-8B70-B650E09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FA62-ACC6-42A3-BC79-F86AF73C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DEA-8C59-4041-AE2A-0E7333A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094-0406-45E4-BB26-6999103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AF54-DDE9-4F48-A70D-A73BDC9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36CC-43E0-4D84-B2AB-CE826FB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2E11-8DF5-4C48-8D6D-8B8B9FC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A86-9D9E-492A-BDC3-460D273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929-3913-47D7-BB5A-21D13F2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E18-795D-4134-AD12-46F41A4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68BC-5EAA-4AA7-A9FA-60FDF7D6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B36-16B1-4551-BDEA-967DA919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1234-F515-4150-AD6B-61DE7283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CEE-6579-483C-9D85-A609B91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BA3-29D8-441C-BDF5-23DDF9A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ED9-90CA-426E-BF39-449D37AC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D15-F680-4F22-88A4-01AE9B5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62D-3EEA-4EC0-B308-7CA4FB3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18E-88EB-41D8-8A00-17CFFB3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B32-1934-4D5F-AF27-D830F6E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A93-05C8-4845-B015-657FCC874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9D8D-97C6-4AE9-A302-16A42E78648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357120" y="1643040"/>
            <a:ext cx="8572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Урок русского языка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«Способы проверки безударных гласных в корне слова»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ип урока - обобщени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 класс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ограмма «Гармония»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5" name="Нижний колонтитул 3"/>
          <p:cNvSpPr/>
          <p:nvPr/>
        </p:nvSpPr>
        <p:spPr>
          <a:xfrm>
            <a:off x="4429080" y="557208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Нижний Новгород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124720" y="833400"/>
            <a:ext cx="235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435640" y="62064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травк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травушк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95640" y="2997360"/>
            <a:ext cx="4537080" cy="1225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995640" y="5013360"/>
            <a:ext cx="4465800" cy="1440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 с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ласкательным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значением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6156360" y="436572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5003280" y="1125360"/>
            <a:ext cx="360360" cy="2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 flipV="1">
            <a:off x="5003280" y="1628280"/>
            <a:ext cx="289080" cy="2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3132000" y="1197000"/>
            <a:ext cx="432000" cy="504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95" name="Picture 13" descr="Трава"/>
          <p:cNvPicPr/>
          <p:nvPr/>
        </p:nvPicPr>
        <p:blipFill>
          <a:blip r:embed="rId1"/>
          <a:stretch/>
        </p:blipFill>
        <p:spPr>
          <a:xfrm>
            <a:off x="539640" y="2492280"/>
            <a:ext cx="2889360" cy="396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96" name="Picture 14" descr="AG00098_"/>
          <p:cNvPicPr/>
          <p:nvPr/>
        </p:nvPicPr>
        <p:blipFill>
          <a:blip r:embed="rId2"/>
          <a:stretch/>
        </p:blipFill>
        <p:spPr>
          <a:xfrm>
            <a:off x="3995640" y="2997360"/>
            <a:ext cx="4537080" cy="80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AG00098_"/>
          <p:cNvPicPr/>
          <p:nvPr/>
        </p:nvPicPr>
        <p:blipFill>
          <a:blip r:embed="rId3"/>
          <a:stretch/>
        </p:blipFill>
        <p:spPr>
          <a:xfrm>
            <a:off x="3995640" y="414972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5"/>
          <p:cNvSpPr/>
          <p:nvPr/>
        </p:nvSpPr>
        <p:spPr>
          <a:xfrm>
            <a:off x="2050920" y="54936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сл  ва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732720" y="40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слов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580000" y="1197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6699"/>
                </a:solidFill>
                <a:latin typeface="Times New Roman"/>
              </a:rPr>
              <a:t>много чего?</a:t>
            </a: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 слов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8" name="Line 8"/>
          <p:cNvSpPr/>
          <p:nvPr/>
        </p:nvSpPr>
        <p:spPr>
          <a:xfrm flipH="1" flipV="1">
            <a:off x="5292720" y="1196640"/>
            <a:ext cx="144000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Line 9"/>
          <p:cNvSpPr/>
          <p:nvPr/>
        </p:nvSpPr>
        <p:spPr>
          <a:xfrm flipH="1">
            <a:off x="5292720" y="836640"/>
            <a:ext cx="129528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627280" y="2781360"/>
            <a:ext cx="3960720" cy="1079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1403280" y="458136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5292720" y="4581360"/>
            <a:ext cx="2879640" cy="1152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3203280" y="4076640"/>
            <a:ext cx="36036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5508720" y="4076640"/>
            <a:ext cx="43164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987640" y="836640"/>
            <a:ext cx="432000" cy="576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16" name="Picture 17" descr="AG00098_"/>
          <p:cNvPicPr/>
          <p:nvPr/>
        </p:nvPicPr>
        <p:blipFill>
          <a:blip r:embed="rId1"/>
          <a:stretch/>
        </p:blipFill>
        <p:spPr>
          <a:xfrm>
            <a:off x="2627280" y="2709720"/>
            <a:ext cx="3960720" cy="69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AG00098_"/>
          <p:cNvPicPr/>
          <p:nvPr/>
        </p:nvPicPr>
        <p:blipFill>
          <a:blip r:embed="rId2"/>
          <a:stretch/>
        </p:blipFill>
        <p:spPr>
          <a:xfrm>
            <a:off x="2627280" y="3860640"/>
            <a:ext cx="396072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268360" y="260280"/>
            <a:ext cx="4032360" cy="1727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Проверить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6" name="Arc 6"/>
          <p:cNvSpPr/>
          <p:nvPr/>
        </p:nvSpPr>
        <p:spPr>
          <a:xfrm rot="19185600">
            <a:off x="3708000" y="18864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324000" y="2492280"/>
            <a:ext cx="3673440" cy="792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4427640" y="2492280"/>
            <a:ext cx="4537080" cy="792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4211640" y="549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324000" y="3716280"/>
            <a:ext cx="28796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1" name="AutoShape 15"/>
          <p:cNvSpPr/>
          <p:nvPr/>
        </p:nvSpPr>
        <p:spPr>
          <a:xfrm>
            <a:off x="324000" y="5229360"/>
            <a:ext cx="287964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4716360" y="5084640"/>
            <a:ext cx="3961080" cy="64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4716360" y="429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изнак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4427640" y="6021360"/>
            <a:ext cx="446544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 с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ласкательным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значением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716360" y="357336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едмет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2411280" y="1916280"/>
            <a:ext cx="43200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5580000" y="1916280"/>
            <a:ext cx="36036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15"/>
          <p:cNvSpPr/>
          <p:nvPr/>
        </p:nvSpPr>
        <p:spPr>
          <a:xfrm>
            <a:off x="2411280" y="260280"/>
            <a:ext cx="4176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9" name="AutoShape 1016"/>
          <p:cNvSpPr/>
          <p:nvPr/>
        </p:nvSpPr>
        <p:spPr>
          <a:xfrm>
            <a:off x="755640" y="1557360"/>
            <a:ext cx="345744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0" name="AutoShape 1017"/>
          <p:cNvSpPr/>
          <p:nvPr/>
        </p:nvSpPr>
        <p:spPr>
          <a:xfrm>
            <a:off x="4932360" y="1557360"/>
            <a:ext cx="403236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1" name="Rectangle 1018"/>
          <p:cNvSpPr/>
          <p:nvPr/>
        </p:nvSpPr>
        <p:spPr>
          <a:xfrm>
            <a:off x="826920" y="836640"/>
            <a:ext cx="8066160" cy="504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Чтобы проверить безударные гласные в корне</a:t>
            </a: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2" name="AutoShape 1020"/>
          <p:cNvSpPr/>
          <p:nvPr/>
        </p:nvSpPr>
        <p:spPr>
          <a:xfrm>
            <a:off x="755640" y="256536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 числа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3" name="Rectangle 1021"/>
          <p:cNvSpPr/>
          <p:nvPr/>
        </p:nvSpPr>
        <p:spPr>
          <a:xfrm>
            <a:off x="755640" y="3284640"/>
            <a:ext cx="3313080" cy="215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4" name="AutoShape 1022"/>
          <p:cNvSpPr/>
          <p:nvPr/>
        </p:nvSpPr>
        <p:spPr>
          <a:xfrm>
            <a:off x="755640" y="386064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5" name="Rectangle 1023"/>
          <p:cNvSpPr/>
          <p:nvPr/>
        </p:nvSpPr>
        <p:spPr>
          <a:xfrm>
            <a:off x="755640" y="4581360"/>
            <a:ext cx="331164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6" name="AutoShape 1024"/>
          <p:cNvSpPr/>
          <p:nvPr/>
        </p:nvSpPr>
        <p:spPr>
          <a:xfrm>
            <a:off x="4932360" y="256536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предмет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7" name="Rectangle 1025"/>
          <p:cNvSpPr/>
          <p:nvPr/>
        </p:nvSpPr>
        <p:spPr>
          <a:xfrm>
            <a:off x="4932360" y="3068640"/>
            <a:ext cx="403236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8" name="AutoShape 1026"/>
          <p:cNvSpPr/>
          <p:nvPr/>
        </p:nvSpPr>
        <p:spPr>
          <a:xfrm>
            <a:off x="4932360" y="364500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признак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9" name="Rectangle 1027"/>
          <p:cNvSpPr/>
          <p:nvPr/>
        </p:nvSpPr>
        <p:spPr>
          <a:xfrm>
            <a:off x="4932360" y="4149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0" name="AutoShape 1028"/>
          <p:cNvSpPr/>
          <p:nvPr/>
        </p:nvSpPr>
        <p:spPr>
          <a:xfrm>
            <a:off x="4932360" y="472428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1" name="Rectangle 1029"/>
          <p:cNvSpPr/>
          <p:nvPr/>
        </p:nvSpPr>
        <p:spPr>
          <a:xfrm>
            <a:off x="4932360" y="5157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2" name="AutoShape 1030"/>
          <p:cNvSpPr/>
          <p:nvPr/>
        </p:nvSpPr>
        <p:spPr>
          <a:xfrm>
            <a:off x="4932360" y="5734080"/>
            <a:ext cx="3960720" cy="574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с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-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ласкательным значение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3" name="Rectangle 1031"/>
          <p:cNvSpPr/>
          <p:nvPr/>
        </p:nvSpPr>
        <p:spPr>
          <a:xfrm>
            <a:off x="4932360" y="6381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6588000" y="2060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516720" y="335772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724360" y="5373720"/>
            <a:ext cx="30974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8" name="Arc 6"/>
          <p:cNvSpPr/>
          <p:nvPr/>
        </p:nvSpPr>
        <p:spPr>
          <a:xfrm rot="19127400">
            <a:off x="7092720" y="3573000"/>
            <a:ext cx="1074600" cy="9194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9" name="Arc 7"/>
          <p:cNvSpPr/>
          <p:nvPr/>
        </p:nvSpPr>
        <p:spPr>
          <a:xfrm rot="19185600">
            <a:off x="7092720" y="2205000"/>
            <a:ext cx="107604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0" name="Arc 8"/>
          <p:cNvSpPr/>
          <p:nvPr/>
        </p:nvSpPr>
        <p:spPr>
          <a:xfrm>
            <a:off x="7812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1" name="Arc 9"/>
          <p:cNvSpPr/>
          <p:nvPr/>
        </p:nvSpPr>
        <p:spPr>
          <a:xfrm>
            <a:off x="6804000" y="5661000"/>
            <a:ext cx="90792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2" name="Arc 10"/>
          <p:cNvSpPr/>
          <p:nvPr/>
        </p:nvSpPr>
        <p:spPr>
          <a:xfrm>
            <a:off x="5796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4" name="Oval 12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 flipV="1">
            <a:off x="586728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 flipH="1" flipV="1">
            <a:off x="205056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 flipH="1">
            <a:off x="2050560" y="3716280"/>
            <a:ext cx="505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9" name="Line 17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 flipH="1" flipV="1">
            <a:off x="2410920" y="764640"/>
            <a:ext cx="1008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1" name="Line 19"/>
          <p:cNvSpPr/>
          <p:nvPr/>
        </p:nvSpPr>
        <p:spPr>
          <a:xfrm flipH="1">
            <a:off x="2340000" y="4365720"/>
            <a:ext cx="1008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2" name="Line 2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6659640" y="620640"/>
            <a:ext cx="576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8" name="Line 26"/>
          <p:cNvSpPr/>
          <p:nvPr/>
        </p:nvSpPr>
        <p:spPr>
          <a:xfrm flipH="1">
            <a:off x="7596360" y="3357720"/>
            <a:ext cx="71280" cy="21564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9" name="Line 27"/>
          <p:cNvSpPr/>
          <p:nvPr/>
        </p:nvSpPr>
        <p:spPr>
          <a:xfrm flipH="1">
            <a:off x="7380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0" name="Line 28"/>
          <p:cNvSpPr/>
          <p:nvPr/>
        </p:nvSpPr>
        <p:spPr>
          <a:xfrm flipH="1">
            <a:off x="6300360" y="5373720"/>
            <a:ext cx="7164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Line 29"/>
          <p:cNvSpPr/>
          <p:nvPr/>
        </p:nvSpPr>
        <p:spPr>
          <a:xfrm flipH="1">
            <a:off x="8388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2" name="AutoShape 30"/>
          <p:cNvSpPr/>
          <p:nvPr/>
        </p:nvSpPr>
        <p:spPr>
          <a:xfrm>
            <a:off x="611280" y="537372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3" name="AutoShape 31"/>
          <p:cNvSpPr/>
          <p:nvPr/>
        </p:nvSpPr>
        <p:spPr>
          <a:xfrm>
            <a:off x="539640" y="189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4" name="AutoShape 32"/>
          <p:cNvSpPr/>
          <p:nvPr/>
        </p:nvSpPr>
        <p:spPr>
          <a:xfrm>
            <a:off x="179280" y="17733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5" name="AutoShape 33"/>
          <p:cNvSpPr/>
          <p:nvPr/>
        </p:nvSpPr>
        <p:spPr>
          <a:xfrm>
            <a:off x="179280" y="3645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7" name="Oval 35"/>
          <p:cNvSpPr/>
          <p:nvPr/>
        </p:nvSpPr>
        <p:spPr>
          <a:xfrm>
            <a:off x="7596360" y="2637000"/>
            <a:ext cx="71280" cy="7128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6084720" y="18900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0" name="Oval 38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5"/>
          <p:cNvSpPr/>
          <p:nvPr/>
        </p:nvSpPr>
        <p:spPr>
          <a:xfrm>
            <a:off x="1476360" y="333360"/>
            <a:ext cx="712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олой все неприятности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а свете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усть будут умными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се дети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93" name="Picture 8" descr="11m1"/>
          <p:cNvPicPr/>
          <p:nvPr/>
        </p:nvPicPr>
        <p:blipFill>
          <a:blip r:embed="rId1"/>
          <a:stretch/>
        </p:blipFill>
        <p:spPr>
          <a:xfrm>
            <a:off x="5867280" y="4724280"/>
            <a:ext cx="1871640" cy="1586160"/>
          </a:xfrm>
          <a:prstGeom prst="rect">
            <a:avLst/>
          </a:prstGeom>
          <a:ln w="0">
            <a:noFill/>
          </a:ln>
        </p:spPr>
      </p:pic>
      <p:sp>
        <p:nvSpPr>
          <p:cNvPr id="394" name="Нижний колонтитул 4"/>
          <p:cNvSpPr/>
          <p:nvPr/>
        </p:nvSpPr>
        <p:spPr>
          <a:xfrm>
            <a:off x="300024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Нижний Новгород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"/>
          <p:cNvSpPr/>
          <p:nvPr/>
        </p:nvSpPr>
        <p:spPr>
          <a:xfrm>
            <a:off x="2083680" y="5357880"/>
            <a:ext cx="67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Источники заимствования изображений неизвестны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При составлении презентации к уроку использовались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Методические рекомендации к учебнику «К тайнам нашего языка»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1330920" y="1341360"/>
            <a:ext cx="727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олой все гласные на свете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усть будут неучами дети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77" name="Picture 10" descr="2g4"/>
          <p:cNvPicPr/>
          <p:nvPr/>
        </p:nvPicPr>
        <p:blipFill>
          <a:blip r:embed="rId1"/>
          <a:stretch/>
        </p:blipFill>
        <p:spPr>
          <a:xfrm>
            <a:off x="6588000" y="3716280"/>
            <a:ext cx="1700280" cy="26272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3071880" y="585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Нижний Новгород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21"/>
          <p:cNvSpPr/>
          <p:nvPr/>
        </p:nvSpPr>
        <p:spPr>
          <a:xfrm>
            <a:off x="6588000" y="2060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0" name="AutoShape 120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1" name="AutoShape 122"/>
          <p:cNvSpPr/>
          <p:nvPr/>
        </p:nvSpPr>
        <p:spPr>
          <a:xfrm>
            <a:off x="6516720" y="335772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2" name="AutoShape 123"/>
          <p:cNvSpPr/>
          <p:nvPr/>
        </p:nvSpPr>
        <p:spPr>
          <a:xfrm>
            <a:off x="5724360" y="5373720"/>
            <a:ext cx="30974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3" name="Arc 63"/>
          <p:cNvSpPr/>
          <p:nvPr/>
        </p:nvSpPr>
        <p:spPr>
          <a:xfrm rot="19127400">
            <a:off x="7092720" y="3573000"/>
            <a:ext cx="1074600" cy="9194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4" name="Arc 64"/>
          <p:cNvSpPr/>
          <p:nvPr/>
        </p:nvSpPr>
        <p:spPr>
          <a:xfrm rot="19185600">
            <a:off x="7092720" y="2205000"/>
            <a:ext cx="107604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5" name="Arc 67"/>
          <p:cNvSpPr/>
          <p:nvPr/>
        </p:nvSpPr>
        <p:spPr>
          <a:xfrm>
            <a:off x="7812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Arc 68"/>
          <p:cNvSpPr/>
          <p:nvPr/>
        </p:nvSpPr>
        <p:spPr>
          <a:xfrm>
            <a:off x="6804000" y="5661000"/>
            <a:ext cx="90792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Arc 69"/>
          <p:cNvSpPr/>
          <p:nvPr/>
        </p:nvSpPr>
        <p:spPr>
          <a:xfrm>
            <a:off x="5796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8" name="Line 86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9" name="Oval 87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0" name="Line 89"/>
          <p:cNvSpPr/>
          <p:nvPr/>
        </p:nvSpPr>
        <p:spPr>
          <a:xfrm flipV="1">
            <a:off x="586728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1" name="Line 90"/>
          <p:cNvSpPr/>
          <p:nvPr/>
        </p:nvSpPr>
        <p:spPr>
          <a:xfrm flipH="1" flipV="1">
            <a:off x="205056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H="1">
            <a:off x="2050560" y="3716280"/>
            <a:ext cx="505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4" name="Line 94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Line 95"/>
          <p:cNvSpPr/>
          <p:nvPr/>
        </p:nvSpPr>
        <p:spPr>
          <a:xfrm flipH="1" flipV="1">
            <a:off x="2410920" y="764640"/>
            <a:ext cx="1008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6" name="Line 96"/>
          <p:cNvSpPr/>
          <p:nvPr/>
        </p:nvSpPr>
        <p:spPr>
          <a:xfrm flipH="1">
            <a:off x="2340000" y="4365720"/>
            <a:ext cx="1008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9" name="Line 10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0" name="Line 10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1" name="Line 106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2" name="Line 107"/>
          <p:cNvSpPr/>
          <p:nvPr/>
        </p:nvSpPr>
        <p:spPr>
          <a:xfrm flipH="1">
            <a:off x="7596360" y="3357720"/>
            <a:ext cx="71280" cy="21564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3" name="Line 108"/>
          <p:cNvSpPr/>
          <p:nvPr/>
        </p:nvSpPr>
        <p:spPr>
          <a:xfrm flipH="1">
            <a:off x="7380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4" name="Line 109"/>
          <p:cNvSpPr/>
          <p:nvPr/>
        </p:nvSpPr>
        <p:spPr>
          <a:xfrm flipH="1">
            <a:off x="6300360" y="5373720"/>
            <a:ext cx="7164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5" name="Line 110"/>
          <p:cNvSpPr/>
          <p:nvPr/>
        </p:nvSpPr>
        <p:spPr>
          <a:xfrm flipH="1">
            <a:off x="8388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6" name="AutoShape 115"/>
          <p:cNvSpPr/>
          <p:nvPr/>
        </p:nvSpPr>
        <p:spPr>
          <a:xfrm>
            <a:off x="611280" y="537372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7" name="AutoShape 117"/>
          <p:cNvSpPr/>
          <p:nvPr/>
        </p:nvSpPr>
        <p:spPr>
          <a:xfrm>
            <a:off x="539640" y="189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8" name="AutoShape 118"/>
          <p:cNvSpPr/>
          <p:nvPr/>
        </p:nvSpPr>
        <p:spPr>
          <a:xfrm>
            <a:off x="179280" y="17733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9" name="AutoShape 119"/>
          <p:cNvSpPr/>
          <p:nvPr/>
        </p:nvSpPr>
        <p:spPr>
          <a:xfrm>
            <a:off x="179280" y="3645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0" name="Line 126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1" name="Oval 127"/>
          <p:cNvSpPr/>
          <p:nvPr/>
        </p:nvSpPr>
        <p:spPr>
          <a:xfrm>
            <a:off x="7596360" y="2637000"/>
            <a:ext cx="71280" cy="7128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2" name="Text Box 128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3" name="Text Box 129"/>
          <p:cNvSpPr/>
          <p:nvPr/>
        </p:nvSpPr>
        <p:spPr>
          <a:xfrm>
            <a:off x="6072120" y="28584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4" name="Oval 130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5" name="Oval 131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6" name="Нижний колонтитул 40"/>
          <p:cNvSpPr/>
          <p:nvPr/>
        </p:nvSpPr>
        <p:spPr>
          <a:xfrm>
            <a:off x="307188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103480" y="8841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92360" y="546120"/>
            <a:ext cx="323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 ток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427640" y="2133720"/>
            <a:ext cx="4537080" cy="1150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16360" y="4076640"/>
            <a:ext cx="3961080" cy="1224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редмет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6659640" y="335772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6086520" y="64296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Times New Roman"/>
              </a:rPr>
              <a:t>цвет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435640" y="119700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059280" y="907920"/>
            <a:ext cx="431640" cy="503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5435640" y="5950080"/>
            <a:ext cx="2449440" cy="718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Кто? Что?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6659640" y="5373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35" name="Picture 23" descr="586055"/>
          <p:cNvPicPr/>
          <p:nvPr/>
        </p:nvPicPr>
        <p:blipFill>
          <a:blip r:embed="rId1"/>
          <a:stretch/>
        </p:blipFill>
        <p:spPr>
          <a:xfrm>
            <a:off x="468360" y="2133720"/>
            <a:ext cx="3205080" cy="424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36" name="Picture 24" descr="AG00098_"/>
          <p:cNvPicPr/>
          <p:nvPr/>
        </p:nvPicPr>
        <p:blipFill>
          <a:blip r:embed="rId2"/>
          <a:stretch/>
        </p:blipFill>
        <p:spPr>
          <a:xfrm>
            <a:off x="4427640" y="21337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AG00098_"/>
          <p:cNvPicPr/>
          <p:nvPr/>
        </p:nvPicPr>
        <p:blipFill>
          <a:blip r:embed="rId3"/>
          <a:stretch/>
        </p:blipFill>
        <p:spPr>
          <a:xfrm>
            <a:off x="4427640" y="3213000"/>
            <a:ext cx="4537080" cy="8100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15"/>
          <p:cNvSpPr/>
          <p:nvPr/>
        </p:nvSpPr>
        <p:spPr>
          <a:xfrm>
            <a:off x="292896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03640" y="486900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2536200" y="17460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</a:rPr>
              <a:t>в  да</a:t>
            </a:r>
            <a:endParaRPr b="0" lang="en-US" sz="7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132000" y="549360"/>
            <a:ext cx="430200" cy="57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067280" y="1916280"/>
            <a:ext cx="4537080" cy="1223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4284720" y="3716280"/>
            <a:ext cx="3960720" cy="1368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ризнак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6156360" y="3141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724360" y="4762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Times New Roman"/>
              </a:rPr>
              <a:t>водный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H="1">
            <a:off x="5076720" y="907920"/>
            <a:ext cx="5032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6372000" y="549360"/>
            <a:ext cx="144360" cy="1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56360" y="50846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4356000" y="5661000"/>
            <a:ext cx="37450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акой? Какая?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акое? Какие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56" name="Picture 16" descr="157235"/>
          <p:cNvPicPr/>
          <p:nvPr/>
        </p:nvPicPr>
        <p:blipFill>
          <a:blip r:embed="rId1"/>
          <a:stretch/>
        </p:blipFill>
        <p:spPr>
          <a:xfrm>
            <a:off x="539640" y="1844640"/>
            <a:ext cx="3005280" cy="4773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57" name="Picture 19" descr="AG00098_"/>
          <p:cNvPicPr/>
          <p:nvPr/>
        </p:nvPicPr>
        <p:blipFill>
          <a:blip r:embed="rId2"/>
          <a:stretch/>
        </p:blipFill>
        <p:spPr>
          <a:xfrm>
            <a:off x="4067280" y="31399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0" descr="AG00098_"/>
          <p:cNvPicPr/>
          <p:nvPr/>
        </p:nvPicPr>
        <p:blipFill>
          <a:blip r:embed="rId3"/>
          <a:stretch/>
        </p:blipFill>
        <p:spPr>
          <a:xfrm>
            <a:off x="4067280" y="31417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AG00098_"/>
          <p:cNvPicPr/>
          <p:nvPr/>
        </p:nvPicPr>
        <p:blipFill>
          <a:blip r:embed="rId4"/>
          <a:stretch/>
        </p:blipFill>
        <p:spPr>
          <a:xfrm>
            <a:off x="4067280" y="1916280"/>
            <a:ext cx="4537080" cy="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20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</a:rPr>
              <a:t>д  ла</a:t>
            </a:r>
            <a:endParaRPr b="0" lang="en-US" sz="7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627280" y="765000"/>
            <a:ext cx="432000" cy="503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076720" y="620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делать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>
            <a:off x="4355640" y="1052640"/>
            <a:ext cx="64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5796000" y="620640"/>
            <a:ext cx="7128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067280" y="1773360"/>
            <a:ext cx="4537080" cy="1224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4356000" y="3716280"/>
            <a:ext cx="3961080" cy="100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>
            <a:off x="6372360" y="30686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6372360" y="472428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4859280" y="5373720"/>
            <a:ext cx="3025800" cy="1081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делать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сделает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делает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77" name="Picture 16" descr="DSC00105"/>
          <p:cNvPicPr/>
          <p:nvPr/>
        </p:nvPicPr>
        <p:blipFill>
          <a:blip r:embed="rId1"/>
          <a:stretch/>
        </p:blipFill>
        <p:spPr>
          <a:xfrm>
            <a:off x="324000" y="1844640"/>
            <a:ext cx="3384360" cy="4610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78" name="Picture 18" descr="AG00098_"/>
          <p:cNvPicPr/>
          <p:nvPr/>
        </p:nvPicPr>
        <p:blipFill>
          <a:blip r:embed="rId2"/>
          <a:stretch/>
        </p:blipFill>
        <p:spPr>
          <a:xfrm>
            <a:off x="4067280" y="292428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AG00098_"/>
          <p:cNvPicPr/>
          <p:nvPr/>
        </p:nvPicPr>
        <p:blipFill>
          <a:blip r:embed="rId3"/>
          <a:stretch/>
        </p:blipFill>
        <p:spPr>
          <a:xfrm>
            <a:off x="4067280" y="170028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5:15Z</dcterms:created>
  <dc:creator>Таня</dc:creator>
  <dc:description/>
  <dc:language>en-US</dc:language>
  <cp:lastModifiedBy>SE7EN USER</cp:lastModifiedBy>
  <dcterms:modified xsi:type="dcterms:W3CDTF">2010-11-13T15:50:25Z</dcterms:modified>
  <cp:revision>51</cp:revision>
  <dc:subject/>
  <dc:title>Слайд 1</dc:title>
</cp:coreProperties>
</file>