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FA4-26E6-42D2-B736-DFD43A96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4F7-A768-4D23-A1BD-99E6400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370-40FE-453B-B6AB-7EA616F8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B40-6E77-4C24-A308-19E43CFD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AC18-77DD-4C07-9C90-54E08565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1C05-0124-4DC2-A08B-DF9238BB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FDFC-1C1E-4E4F-9116-25396587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6097-5084-456C-8005-FE38068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EA5F-A383-4C4B-A6CB-20DDB6B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C94-2178-4E43-990C-6776108D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681-01D6-4C32-AEB2-47960C3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222-CB90-492D-85B2-DBA54DE1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234-A368-416B-ACF6-F926423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12D-E16D-4E57-A865-F87233B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C74-AC0B-4D49-863A-CDD81190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5A8-6F1C-4131-A2D7-83282909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F5F-545E-476A-B7C5-A90C92B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744B-84E6-4726-9BB5-BDD702D4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FF48-FABC-48AC-88C5-F376106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42BD-A69B-4D5E-8C7A-7C61F483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1FFD-7297-48B4-A111-15B5D961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B132-A788-4646-BF8B-F9DA1A9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B6E-35C9-4270-957C-27A16B33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8C55-DC7F-49B1-95B0-5171BF9A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01BA-529D-49C8-AFAF-79E138E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321E-CAA5-46C6-BB0E-55F6DED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54EC-36E2-40CB-9BC0-C9D05C8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68D4-5AA3-4E92-95EF-782BCAF8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CE41-23FC-4741-9BCF-FC62BA97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71DE-580B-490A-9F91-250911A2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7B0A-A59D-4EE5-9BF1-B9CBF518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9668-6E50-4F57-897F-95724629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137A-4F73-4641-AA37-02950BAE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DF5-3633-46EC-84BD-D559E62B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B72E-DA8F-41CB-88BA-58E05A24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E06C-52B4-480F-BE03-BC7B7F5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A17D-E85E-4A65-A801-3D376B7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8B01-678A-46E3-BBB7-9D974F0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7CED-8F4F-4FAC-A793-1DC056F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AB3B-7419-4E54-8A69-59DD5FE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71F3-54BB-4564-BB78-0CCAC6F8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BC00-C9C2-47DF-B4C1-77C1099C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B75B-5F13-4AB8-9A0D-D4FB877A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62F-4085-4786-892C-FFC4318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A42-3339-47A0-B49D-98121CB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200-F9DE-418A-BA0D-D31C45E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592-092D-4962-9C3D-C43221A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C4B-134B-4C35-AE26-B24D369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BAB-4334-4791-9A1B-9E802E7E02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0000"/>
              <a:ext cx="6866640" cy="865080"/>
              <a:chOff x="-14400" y="270000"/>
              <a:chExt cx="6866640" cy="86508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3568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5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3800"/>
              <a:ext cx="6885000" cy="721800"/>
              <a:chOff x="-14400" y="343800"/>
              <a:chExt cx="6885000" cy="7218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3800"/>
                <a:ext cx="686160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9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0000"/>
              <a:ext cx="6866640" cy="865080"/>
              <a:chOff x="-14400" y="270000"/>
              <a:chExt cx="6866640" cy="86508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3568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5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3800"/>
              <a:ext cx="6885000" cy="721800"/>
              <a:chOff x="-14400" y="343800"/>
              <a:chExt cx="6885000" cy="7218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3800"/>
                <a:ext cx="686160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9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388-7741-47FF-81E6-2348402EAF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0000"/>
              <a:ext cx="6866640" cy="865080"/>
              <a:chOff x="-14400" y="270000"/>
              <a:chExt cx="6866640" cy="86508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3568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5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3800"/>
              <a:ext cx="6885000" cy="721800"/>
              <a:chOff x="-14400" y="343800"/>
              <a:chExt cx="6885000" cy="7218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3800"/>
                <a:ext cx="686160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9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1F1-6FCB-4DC3-85FD-BDFDC12F4A7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custGeom>
            <a:avLst/>
            <a:gdLst>
              <a:gd name="textAreaLeft" fmla="*/ 0 w 3943440"/>
              <a:gd name="textAreaRight" fmla="*/ 3871800 w 3943440"/>
              <a:gd name="textAreaTop" fmla="*/ 360 h 5486400"/>
              <a:gd name="textAreaBottom" fmla="*/ 5487120 h 5486400"/>
            </a:gdLst>
            <a:ahLst/>
            <a:rect l="textAreaLeft" t="textAreaTop" r="textAreaRight" b="textAreaBottom"/>
            <a:pathLst>
              <a:path w="3943350" h="5486400">
                <a:moveTo>
                  <a:pt x="0" y="0"/>
                </a:moveTo>
                <a:lnTo>
                  <a:pt x="3799575" y="0"/>
                </a:lnTo>
                <a:lnTo>
                  <a:pt x="3943350" y="143775"/>
                </a:lnTo>
                <a:lnTo>
                  <a:pt x="3943350" y="5486400"/>
                </a:lnTo>
                <a:lnTo>
                  <a:pt x="0" y="54864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1920" y="7146000"/>
            <a:ext cx="117360" cy="2062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3286080" y="82929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360 h 851040"/>
              <a:gd name="textAreaBottom" fmla="*/ 85176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8582-1C9D-4D4D-BBED-7026A13786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44.radikal.ru/i103/0903/9c/830341f7c255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dnl.7ya.ru/7ya-photo/703/1047021206703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08080" y="1206360"/>
            <a:ext cx="590076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2785680"/>
            <a:ext cx="62866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«Вышиваю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рестиком»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Кабирова Алия 8 клас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                 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МОУ «Матюшинская СОШ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                 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Верхнеуслонский райо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                 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Республика Татарста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nstantia"/>
              </a:rPr>
              <a:t>24 ноября 2009 г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28520" y="987480"/>
            <a:ext cx="6454800" cy="245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99600" y="2928600"/>
            <a:ext cx="58914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9600" y="1428840"/>
            <a:ext cx="5891400" cy="6929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Constantia"/>
              </a:rPr>
              <a:t>Анализ иде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2" descr="C:\Users\USER\Desktop\2009-11 (ноя)\сканирование0001.jpg"/>
          <p:cNvPicPr/>
          <p:nvPr/>
        </p:nvPicPr>
        <p:blipFill>
          <a:blip r:embed="rId1"/>
          <a:stretch/>
        </p:blipFill>
        <p:spPr>
          <a:xfrm>
            <a:off x="785880" y="2171880"/>
            <a:ext cx="2124000" cy="2543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USER\Documents\Мои сканированные изображения\2009-11 (ноя)\сканирование0001.jpg"/>
          <p:cNvPicPr/>
          <p:nvPr/>
        </p:nvPicPr>
        <p:blipFill>
          <a:blip r:embed="rId2"/>
          <a:srcRect l="0" t="0" r="0" b="28003"/>
          <a:stretch/>
        </p:blipFill>
        <p:spPr>
          <a:xfrm>
            <a:off x="3286080" y="5286240"/>
            <a:ext cx="2714760" cy="2724120"/>
          </a:xfrm>
          <a:prstGeom prst="rect">
            <a:avLst/>
          </a:prstGeom>
          <a:ln w="0">
            <a:noFill/>
          </a:ln>
        </p:spPr>
      </p:pic>
      <p:pic>
        <p:nvPicPr>
          <p:cNvPr id="200" name="i-main-pic" descr="Картинка 1 из 31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2214720"/>
            <a:ext cx="2500200" cy="2199960"/>
          </a:xfrm>
          <a:prstGeom prst="rect">
            <a:avLst/>
          </a:prstGeom>
          <a:ln w="0">
            <a:noFill/>
          </a:ln>
        </p:spPr>
      </p:pic>
      <p:pic>
        <p:nvPicPr>
          <p:cNvPr id="201" name="i-main-pic" descr="Картинка 1 из 311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28800" y="5286240"/>
            <a:ext cx="2000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99600" y="1285920"/>
            <a:ext cx="5891400" cy="5356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Constantia"/>
              </a:rPr>
              <a:t>Технология выполнения шва крести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Рисунок 2" descr="http://www.rukami.org/img/str36img26.jpg"/>
          <p:cNvPicPr/>
          <p:nvPr/>
        </p:nvPicPr>
        <p:blipFill>
          <a:blip r:embed="rId1"/>
          <a:stretch/>
        </p:blipFill>
        <p:spPr>
          <a:xfrm>
            <a:off x="857160" y="3000240"/>
            <a:ext cx="514368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96720" y="957240"/>
            <a:ext cx="5900760" cy="1309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99600" y="2643120"/>
            <a:ext cx="58914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C:\Users\USER\Desktop\instr.jpg"/>
          <p:cNvPicPr/>
          <p:nvPr/>
        </p:nvPicPr>
        <p:blipFill>
          <a:blip r:embed="rId2"/>
          <a:stretch/>
        </p:blipFill>
        <p:spPr>
          <a:xfrm>
            <a:off x="785880" y="3000240"/>
            <a:ext cx="5143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165240" y="1504800"/>
            <a:ext cx="633240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99600" y="2642760"/>
            <a:ext cx="58914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785880" y="2928960"/>
            <a:ext cx="2212920" cy="19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785880" y="557856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3571920" y="5643720"/>
            <a:ext cx="2432160" cy="1944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5"/>
          <a:stretch/>
        </p:blipFill>
        <p:spPr>
          <a:xfrm>
            <a:off x="3929040" y="2857680"/>
            <a:ext cx="19288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9960" y="1828440"/>
            <a:ext cx="58881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99600" y="4304880"/>
            <a:ext cx="58914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Picture 2" descr="C:\Users\USER\Desktop\фото олимпиада по технологии\Изображение 001.jpg"/>
          <p:cNvPicPr/>
          <p:nvPr/>
        </p:nvPicPr>
        <p:blipFill>
          <a:blip r:embed="rId1"/>
          <a:stretch/>
        </p:blipFill>
        <p:spPr>
          <a:xfrm>
            <a:off x="1285920" y="952560"/>
            <a:ext cx="4786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9960" y="1828440"/>
            <a:ext cx="58881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99600" y="4304880"/>
            <a:ext cx="58914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2" descr="C:\Users\USER\Desktop\фото олимпиада по технологии\Изображение 002.jpg"/>
          <p:cNvPicPr/>
          <p:nvPr/>
        </p:nvPicPr>
        <p:blipFill>
          <a:blip r:embed="rId1"/>
          <a:stretch/>
        </p:blipFill>
        <p:spPr>
          <a:xfrm>
            <a:off x="500040" y="1214280"/>
            <a:ext cx="58579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9960" y="1828440"/>
            <a:ext cx="58881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99600" y="4304880"/>
            <a:ext cx="58914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Users\USER\Desktop\фото олимпиада по технологии\Изображение 003.jpg"/>
          <p:cNvPicPr/>
          <p:nvPr/>
        </p:nvPicPr>
        <p:blipFill>
          <a:blip r:embed="rId1"/>
          <a:stretch/>
        </p:blipFill>
        <p:spPr>
          <a:xfrm>
            <a:off x="285840" y="1285920"/>
            <a:ext cx="624204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96720" y="1822320"/>
            <a:ext cx="5900760" cy="2511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99600" y="4304880"/>
            <a:ext cx="58914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22:01Z</dcterms:created>
  <dc:creator>USER</dc:creator>
  <dc:description/>
  <dc:language>en-US</dc:language>
  <cp:lastModifiedBy>USER</cp:lastModifiedBy>
  <dcterms:modified xsi:type="dcterms:W3CDTF">2009-12-22T16:50:03Z</dcterms:modified>
  <cp:revision>15</cp:revision>
  <dc:subject/>
  <dc:title>Слайд 1</dc:title>
</cp:coreProperties>
</file>