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7.png" ContentType="image/png"/>
  <Override PartName="/ppt/media/image12.wmf" ContentType="image/x-wmf"/>
  <Override PartName="/ppt/media/image11.jpeg" ContentType="image/jpeg"/>
  <Override PartName="/ppt/media/image6.jpeg" ContentType="image/jpeg"/>
  <Override PartName="/ppt/media/image10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19.wmf" ContentType="image/x-wmf"/>
  <Override PartName="/ppt/media/image2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13.jpeg" ContentType="image/jpeg"/>
  <Override PartName="/ppt/media/image5.png" ContentType="image/png"/>
  <Override PartName="/ppt/media/image8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722-C180-486F-A4C0-3C4435E9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B39-A81C-497C-80DD-B32E0214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BAE-CF3A-41D3-9F6E-13337B6A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F99-476E-421B-B3A9-637D9A64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3B3-5530-4074-8B1B-23BB0F3C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A4F-ADE1-46EE-8EF6-21EADFF3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D46-84A6-4001-AA19-ED9C3787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A5F-0169-46B8-A478-832EC2CD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14E-1226-429A-AD96-CE39CBB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E23-1BCF-49D1-B6B3-5AB7F1F0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C79-49A2-45C1-A278-272FFDA9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B5E-ED0B-4C20-972D-5F5C3F9B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D9A0-B043-40A7-B98E-0B81AA0E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6640" y="7545240"/>
            <a:ext cx="54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баевой Ольги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иколаевны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2640" y="7761240"/>
            <a:ext cx="54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баевой Ольги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иколаевны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68280" y="7977240"/>
            <a:ext cx="54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баевой Ольги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иколаевны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26920" y="476280"/>
            <a:ext cx="781236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ТЕР-КЛАСС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баевой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льги Николаевны,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530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учителя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«Средней общеобразовательной школы № 2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26920" y="0"/>
            <a:ext cx="749016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агностическая карта учащегося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-111240" y="98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.И.: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Махмутовой А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: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5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6680" y="105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блица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71640" y="1773360"/>
          <a:ext cx="7272000" cy="5084280"/>
        </p:xfrm>
        <a:graphic>
          <a:graphicData uri="http://schemas.openxmlformats.org/drawingml/2006/table">
            <a:tbl>
              <a:tblPr/>
              <a:tblGrid>
                <a:gridCol w="2424240"/>
                <a:gridCol w="2424240"/>
                <a:gridCol w="242352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Типичные оши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Случайные оши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Н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оши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1484280"/>
            <a:ext cx="73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троль в диагностических картах – это такая рефлексия учащихся, при которой они сами составляют план повторения орфограм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08360" y="4581360"/>
            <a:ext cx="1874880" cy="187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0"/>
            <a:ext cx="749016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агностическая карта учителя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-134280" y="907560"/>
            <a:ext cx="39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а: 05.09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 работы: Стартовый дикта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1643040"/>
            <a:ext cx="6707160" cy="5175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48360" y="2297520"/>
            <a:ext cx="1984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2 балла за 1 вид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яем %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яем % успев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440" y="1628640"/>
            <a:ext cx="20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ШАГИ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36640" y="7545240"/>
            <a:ext cx="54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баевой Ольги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иколаевны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52640" y="7761240"/>
            <a:ext cx="54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баевой Ольги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иколаевны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68280" y="7977240"/>
            <a:ext cx="54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баевой Ольги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иколаевны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6000" y="1197000"/>
            <a:ext cx="7812000" cy="374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ЕЛИ ОБУЧЕНИЯ В СИСТЕМ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Б. ЭЛЬКОНИНА-В.В. ДАВЫДОВА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ОТДЕЛЬНЫМ ТЕМАМ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620640"/>
            <a:ext cx="80640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00360" y="907920"/>
            <a:ext cx="6227640" cy="4969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Данные модели констру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учащимися в 5 классе  при изуч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названных тем, а затем использ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и итоговом обобщении всего раз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«Лексика русского язы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08720" y="4724280"/>
            <a:ext cx="1306440" cy="1373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627280" y="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КСИК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628560"/>
            <a:ext cx="2533680" cy="622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692360" y="0"/>
            <a:ext cx="597528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ООБРАЗОВАНИ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3635280" cy="555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35280" y="836640"/>
            <a:ext cx="5364360" cy="4968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анные модели были сконструиров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чениками 6 класса  при изучен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дной из ключевых т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Изучая разные способы словообразовани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анные модели преобразуются дл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ешения конкретных учебных зада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на уроках русского язы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156360" y="4653000"/>
            <a:ext cx="941400" cy="1012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ЯГКИЙ ЗНАК ПОСЛЕ ШИПЯЩИХ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781200"/>
            <a:ext cx="2952720" cy="607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32000" y="981000"/>
            <a:ext cx="6012000" cy="540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нные модели были состав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чениками 7 класса  в ходе из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«Морфологии», затем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спользовались при подгот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 контрольным рабо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 русскому я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651640" y="5084640"/>
            <a:ext cx="1285560" cy="137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627280" y="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ТАКСИС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1076400"/>
            <a:ext cx="3851280" cy="5781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80000" y="333360"/>
            <a:ext cx="5364000" cy="568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Данные модели сконструировали учащие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-9 классов  при изучении т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«Словосочетание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«Простое предложение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«Сложное предложени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образуя данные модели, реб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используют их при решении част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а уроках рус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72360" y="4869000"/>
            <a:ext cx="880920" cy="1085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19280" y="765000"/>
            <a:ext cx="590544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АГНОСТИЧЕСКАЯ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БОТА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916360" y="3214800"/>
            <a:ext cx="3311280" cy="2739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484280"/>
            <a:ext cx="73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развивающем обучении система контроля индивидуализирова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читель постоянно проводит  мониторинг знаний учащихся по темам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205000" cy="2076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26920" y="0"/>
            <a:ext cx="749016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агностическая карта учащегося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844640"/>
          <a:ext cx="9143640" cy="5013000"/>
        </p:xfrm>
        <a:graphic>
          <a:graphicData uri="http://schemas.openxmlformats.org/drawingml/2006/table">
            <a:tbl>
              <a:tblPr/>
              <a:tblGrid>
                <a:gridCol w="623520"/>
                <a:gridCol w="1670040"/>
                <a:gridCol w="1111680"/>
                <a:gridCol w="1074240"/>
                <a:gridCol w="978480"/>
                <a:gridCol w="1288800"/>
                <a:gridCol w="1446840"/>
                <a:gridCol w="95004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Названи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Кол-во оши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Словар-ные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Ошибки в кор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Ошибки в суффикс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Ошибки в оконча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Пунк-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товый дик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т Васил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-описание «Цветной хоров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диктант «Галчо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ffff"/>
                      </a:solidFill>
                    </a:lnL>
                    <a:lnR w="12240">
                      <a:solidFill>
                        <a:srgbClr val="00ffff"/>
                      </a:solidFill>
                    </a:lnR>
                    <a:lnT w="12240">
                      <a:solidFill>
                        <a:srgbClr val="00ffff"/>
                      </a:solidFill>
                    </a:lnT>
                    <a:lnB w="1224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111240" y="98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.И.: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Махмутовой А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: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5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10400" y="105192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блиц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7:32:13Z</dcterms:created>
  <dc:creator>User</dc:creator>
  <dc:description/>
  <dc:language>en-US</dc:language>
  <cp:lastModifiedBy>User</cp:lastModifiedBy>
  <dcterms:modified xsi:type="dcterms:W3CDTF">2009-11-29T19:05:23Z</dcterms:modified>
  <cp:revision>6</cp:revision>
  <dc:subject/>
  <dc:title>Слайд 1</dc:title>
</cp:coreProperties>
</file>