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30.jpeg" ContentType="image/jpeg"/>
  <Override PartName="/ppt/media/image12.gif" ContentType="image/gif"/>
  <Override PartName="/ppt/media/image32.gif" ContentType="image/gif"/>
  <Override PartName="/ppt/media/image33.gif" ContentType="image/gif"/>
  <Override PartName="/ppt/media/image5.png" ContentType="image/png"/>
  <Override PartName="/ppt/media/image35.jpeg" ContentType="image/jpeg"/>
  <Override PartName="/ppt/media/image8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38.jpeg" ContentType="image/jpeg"/>
  <Override PartName="/ppt/media/image39.png" ContentType="image/png"/>
  <Override PartName="/ppt/media/image41.gif" ContentType="image/gif"/>
  <Override PartName="/ppt/media/image34.jpeg" ContentType="image/jpeg"/>
  <Override PartName="/ppt/media/image7.png" ContentType="image/png"/>
  <Override PartName="/ppt/media/image27.gif" ContentType="image/gif"/>
  <Override PartName="/ppt/media/image25.gif" ContentType="image/gif"/>
  <Override PartName="/ppt/media/image6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40.gif" ContentType="image/gif"/>
  <Override PartName="/ppt/media/image3.png" ContentType="image/png"/>
  <Override PartName="/ppt/media/image23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F302-2D82-44AC-BBC7-A90F40DA1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5B22-A7BA-46A8-81DE-09A06B288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300C-6E3C-485A-8F8B-5323E0C5A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какие виды спорта используют инер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F90-610C-4956-AFE8-A84346DC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035-586B-4580-884A-32837C2D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077-01AD-4C64-88E0-F64EE250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2C1-819B-4A83-BB7B-AE2C166A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04D77-0235-4B07-92E6-1B12D4D2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98F5A-ED30-4F3E-8811-CD2FC9FF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201AB-2E90-4430-9AFB-B3C5794E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A6D25-939D-488A-B8C3-1835DAE7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F8E60-727B-4D89-A773-5F874D2A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80C34-D146-45AB-BB64-8FA99F61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BAB6D-2BCD-4BEF-9A8D-4015391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CCF-3E95-4503-81C1-23320A57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DC6F3-F1F2-4D32-9907-73DFB3B1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78BF4-BF17-4F00-9DAA-6C8338D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7578-B733-4B69-88C8-4EA71614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86913-606F-4BD5-A87E-F938CFA9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5336D-F1C4-427C-BCC5-D16D4E60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2EC-B52E-4ED8-B17E-C3D53F58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640-4A84-43F8-87D6-8D420C76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9F7-CC85-4B71-A736-33787397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795-B7D9-4831-9FDE-99F4F880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528-B0AF-4A0D-8DEC-74657B8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892-CE19-416C-B2EA-F3F09915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14F-EC64-450A-97D0-66A83192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C4BE-BF48-42AB-A58E-F5004EBFA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BD87-C2EB-4E66-892D-E8D7DBC5A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Calibri"/>
              </a:rPr>
              <a:t>Инерция</a:t>
            </a:r>
            <a:br>
              <a:rPr sz="3600"/>
            </a:b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Урок физики в 7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Calibri"/>
              </a:rPr>
              <a:t>Цель:</a:t>
            </a: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 Изучить явление - инер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Calibri"/>
              </a:rPr>
              <a:t>Задачи: </a:t>
            </a: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Научить находить в окружающем мире примеры проявления инерции и объяснять их.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Развивать логическое мышление, культуру речи.                                                   Формировать осознание детьми культурных ценностей науки и умение цени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497844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менно инерция помогает устанавливать мировые рекорды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/>
          <a:stretch/>
        </p:blipFill>
        <p:spPr>
          <a:xfrm>
            <a:off x="684360" y="5013360"/>
            <a:ext cx="126036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2"/>
          <a:stretch/>
        </p:blipFill>
        <p:spPr>
          <a:xfrm>
            <a:off x="4092480" y="3433680"/>
            <a:ext cx="1268640" cy="1866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3"/>
          <a:stretch/>
        </p:blipFill>
        <p:spPr>
          <a:xfrm>
            <a:off x="7059600" y="2205000"/>
            <a:ext cx="1274760" cy="151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4"/>
          <a:stretch/>
        </p:blipFill>
        <p:spPr>
          <a:xfrm>
            <a:off x="5076720" y="765000"/>
            <a:ext cx="1538280" cy="136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"/>
          <p:cNvPicPr/>
          <p:nvPr/>
        </p:nvPicPr>
        <p:blipFill>
          <a:blip r:embed="rId5"/>
          <a:stretch/>
        </p:blipFill>
        <p:spPr>
          <a:xfrm>
            <a:off x="6588000" y="5145120"/>
            <a:ext cx="2089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ADBF-9600-4836-99C3-FF2CF7053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Водитель микроавтобуса, увидев стоящий на дороге автомобиль, нажал на тормоза, но не избежал столкновения. Объясните,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index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-285840" y="69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1000080" y="128592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Arial"/>
                <a:ea typeface="Times New Roman"/>
              </a:rPr>
              <a:t>2. Почему при  торможении автомобиля обязательно включается задний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красный св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1"/>
          <p:cNvSpPr/>
          <p:nvPr/>
        </p:nvSpPr>
        <p:spPr>
          <a:xfrm>
            <a:off x="6948360" y="692280"/>
            <a:ext cx="1873440" cy="1655640"/>
          </a:xfrm>
          <a:prstGeom prst="cloudCallout">
            <a:avLst>
              <a:gd name="adj1" fmla="val -39407"/>
              <a:gd name="adj2" fmla="val 80490"/>
            </a:avLst>
          </a:prstGeom>
          <a:solidFill>
            <a:srgbClr val="4f81b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419640" y="4476600"/>
            <a:ext cx="2376360" cy="2043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1079640" cy="10317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7"/>
          <p:cNvSpPr txBox="1"/>
          <p:nvPr/>
        </p:nvSpPr>
        <p:spPr>
          <a:xfrm>
            <a:off x="7667640" y="907920"/>
            <a:ext cx="57780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24000" y="3500280"/>
            <a:ext cx="252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чему необходимо закреплять грузы в кузове грузов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 rot="18789000">
            <a:off x="2946960" y="302040"/>
            <a:ext cx="2016360" cy="2941560"/>
          </a:xfrm>
          <a:prstGeom prst="wedgeEllipseCallout">
            <a:avLst>
              <a:gd name="adj1" fmla="val 13476"/>
              <a:gd name="adj2" fmla="val 91236"/>
            </a:avLst>
          </a:prstGeom>
          <a:solidFill>
            <a:srgbClr val="4f81bd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ЦЫ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B62-F12D-47C2-8822-8B010F845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Объясните назначение ремней безопасности в автомобил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49"/>
          <p:cNvPicPr/>
          <p:nvPr/>
        </p:nvPicPr>
        <p:blipFill>
          <a:blip r:embed="rId1"/>
          <a:stretch/>
        </p:blipFill>
        <p:spPr>
          <a:xfrm>
            <a:off x="1219320" y="1600200"/>
            <a:ext cx="655308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EC12-4AE7-420E-937C-3F404D12F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Что произойдёт с наездником, если лошадь, прыгая через препятствие, споткнё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30057"/>
          <p:cNvPicPr/>
          <p:nvPr/>
        </p:nvPicPr>
        <p:blipFill>
          <a:blip r:embed="rId1"/>
          <a:srcRect l="1005" t="1413" r="1005" b="3532"/>
          <a:stretch/>
        </p:blipFill>
        <p:spPr>
          <a:xfrm>
            <a:off x="857160" y="1285920"/>
            <a:ext cx="6019920" cy="4419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de494a02bd1e"/>
          <p:cNvPicPr/>
          <p:nvPr/>
        </p:nvPicPr>
        <p:blipFill>
          <a:blip r:embed="rId2"/>
          <a:srcRect l="0" t="0" r="0" b="3546"/>
          <a:stretch/>
        </p:blipFill>
        <p:spPr>
          <a:xfrm>
            <a:off x="1071720" y="1285920"/>
            <a:ext cx="731520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90B0-ABBC-4575-AFFC-96216366F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Что произойдёт, если человек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скользнётс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2321"/>
          <p:cNvPicPr/>
          <p:nvPr/>
        </p:nvPicPr>
        <p:blipFill>
          <a:blip r:embed="rId1"/>
          <a:srcRect l="6031" t="2520" r="6031" b="0"/>
          <a:stretch/>
        </p:blipFill>
        <p:spPr>
          <a:xfrm>
            <a:off x="2895480" y="2286000"/>
            <a:ext cx="3276720" cy="2897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b_936"/>
          <p:cNvPicPr/>
          <p:nvPr/>
        </p:nvPicPr>
        <p:blipFill>
          <a:blip r:embed="rId2"/>
          <a:stretch/>
        </p:blipFill>
        <p:spPr>
          <a:xfrm>
            <a:off x="2286000" y="1643040"/>
            <a:ext cx="4303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F207-6425-455A-84E9-100932320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11в"/>
          <p:cNvPicPr/>
          <p:nvPr/>
        </p:nvPicPr>
        <p:blipFill>
          <a:blip r:embed="rId1"/>
          <a:stretch/>
        </p:blipFill>
        <p:spPr>
          <a:xfrm>
            <a:off x="304920" y="228600"/>
            <a:ext cx="852480" cy="10224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6"/>
          <p:cNvSpPr txBox="1"/>
          <p:nvPr/>
        </p:nvSpPr>
        <p:spPr>
          <a:xfrm>
            <a:off x="1066680" y="1143000"/>
            <a:ext cx="70106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з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 позн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кружающего м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ыбери один правильный отве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Что такое инерц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 Свойство тела сохранять скор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. Явление сохранения скорости тела при отсутствии действия на него других т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 Изменение скорости тела под действием других те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Что произойдет с бруском, если резко дернуть вперёд за ни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. Упадет наза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. Упадет впер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. Останется неподвижн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В каком случае наблюдается проявление инерци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. Камень падает на дно ущел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. Пыль выбивают из ков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. Мяч отскочил от стенки после уд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е изменение произошло в движении автобуса, если пассажиры отклонились влево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бус остановил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бус повернул напра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бус повернул нале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Для чего делают разбег при прыжках в длин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. Чтобы выше подпрыгну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. Чтобы увеличить длину траектории движения те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. Чтобы набрать скорость для толч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4939-A1CD-4EFD-901E-47948DDCC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Спасибо за работу на урок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Успехов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57120" y="190512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7 читать, выучить записи на листке с печатной основой, составить таблицу: инер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быту, технике, спорте, при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57120" y="35712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кое движение называется механическ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00040" y="785880"/>
            <a:ext cx="77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механическим движением называется изменение с те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времени положения тела относительно других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57120" y="1571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ие виды движения вы зн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71680" y="2071800"/>
            <a:ext cx="47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Ответ</a:t>
            </a:r>
            <a:r>
              <a:rPr b="0" i="1" lang="ru-RU" sz="1800" spc="-1" strike="noStrike">
                <a:solidFill>
                  <a:srgbClr val="009900"/>
                </a:solidFill>
                <a:latin typeface="Arial"/>
              </a:rPr>
              <a:t>: равномерное и неравноме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28760" y="257184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акое движение называют равномерным? Неравном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00040" y="30002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: движение называют равномерным, если тело за ра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промежутки времени проходит рав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571680" y="3857760"/>
            <a:ext cx="752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Ответ</a:t>
            </a:r>
            <a:r>
              <a:rPr b="0" i="1" lang="ru-RU" sz="1800" spc="-1" strike="noStrike">
                <a:solidFill>
                  <a:srgbClr val="0099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движение называют неравномерным, если тело за ра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промежутки времени проходит раз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7072200" y="4214880"/>
            <a:ext cx="857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500040" y="4786200"/>
            <a:ext cx="53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Чем эти движения отличаются друг от дру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785880" y="5786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571680" y="5429160"/>
            <a:ext cx="81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: при равномерном движении скорость тела остаётся постоян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 при неравномерном движении скорость тела изме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685800" y="609480"/>
            <a:ext cx="777240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 внимание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Picture 5" descr="AN087"/>
          <p:cNvPicPr/>
          <p:nvPr/>
        </p:nvPicPr>
        <p:blipFill>
          <a:blip r:embed="rId1"/>
          <a:stretch/>
        </p:blipFill>
        <p:spPr>
          <a:xfrm>
            <a:off x="1187280" y="2924280"/>
            <a:ext cx="1920960" cy="223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AN349"/>
          <p:cNvPicPr/>
          <p:nvPr/>
        </p:nvPicPr>
        <p:blipFill>
          <a:blip r:embed="rId2"/>
          <a:stretch/>
        </p:blipFill>
        <p:spPr>
          <a:xfrm>
            <a:off x="5580000" y="3789360"/>
            <a:ext cx="2249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8BFA-AD8A-4617-AE88-4B27F5656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Times New Roman"/>
              </a:rPr>
              <a:t>Что должны узнат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жет ли тело, находящееся в относительном покое, само собой изменить скоро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 можно изменить скорость движения те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 изменить направление движения те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 каких условиях  скорость движения тела не изменя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E659-B915-40E6-A689-D9EF48911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Как можно измени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 скорость тел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38862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корость тела изменяетс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если на н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действую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другие тела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Image24"/>
          <p:cNvPicPr/>
          <p:nvPr/>
        </p:nvPicPr>
        <p:blipFill>
          <a:blip r:embed="rId2"/>
          <a:srcRect l="0" t="4995" r="0" b="4995"/>
          <a:stretch/>
        </p:blipFill>
        <p:spPr>
          <a:xfrm>
            <a:off x="762120" y="4267080"/>
            <a:ext cx="2193840" cy="2264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Image6"/>
          <p:cNvPicPr/>
          <p:nvPr/>
        </p:nvPicPr>
        <p:blipFill>
          <a:blip r:embed="rId3"/>
          <a:srcRect l="7559" t="0" r="13605" b="6299"/>
          <a:stretch/>
        </p:blipFill>
        <p:spPr>
          <a:xfrm>
            <a:off x="2895480" y="3886200"/>
            <a:ext cx="1878120" cy="2678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1"/>
          <p:cNvPicPr/>
          <p:nvPr/>
        </p:nvPicPr>
        <p:blipFill>
          <a:blip r:embed="rId4"/>
          <a:srcRect l="0" t="0" r="0" b="17921"/>
          <a:stretch/>
        </p:blipFill>
        <p:spPr>
          <a:xfrm>
            <a:off x="3048120" y="1752480"/>
            <a:ext cx="3657600" cy="1946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06e-i3"/>
          <p:cNvPicPr/>
          <p:nvPr/>
        </p:nvPicPr>
        <p:blipFill>
          <a:blip r:embed="rId5"/>
          <a:srcRect l="56274" t="0" r="0" b="0"/>
          <a:stretch/>
        </p:blipFill>
        <p:spPr>
          <a:xfrm>
            <a:off x="685800" y="1219320"/>
            <a:ext cx="2233440" cy="2895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06e-i3"/>
          <p:cNvPicPr/>
          <p:nvPr/>
        </p:nvPicPr>
        <p:blipFill>
          <a:blip r:embed="rId6"/>
          <a:srcRect l="0" t="15119" r="73398" b="0"/>
          <a:stretch/>
        </p:blipFill>
        <p:spPr>
          <a:xfrm>
            <a:off x="6934320" y="990720"/>
            <a:ext cx="151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6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8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F5D-E020-4568-9ECD-75021CA56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Как можно изменить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 направление скорости те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98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правление скорости тела изменяется, если на него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действуют другие тел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p20"/>
          <p:cNvPicPr/>
          <p:nvPr/>
        </p:nvPicPr>
        <p:blipFill>
          <a:blip r:embed="rId2"/>
          <a:stretch/>
        </p:blipFill>
        <p:spPr>
          <a:xfrm>
            <a:off x="4191120" y="1447920"/>
            <a:ext cx="4038480" cy="2584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clip_image005563"/>
          <p:cNvPicPr/>
          <p:nvPr/>
        </p:nvPicPr>
        <p:blipFill>
          <a:blip r:embed="rId3"/>
          <a:stretch/>
        </p:blipFill>
        <p:spPr>
          <a:xfrm>
            <a:off x="609480" y="4114800"/>
            <a:ext cx="3429000" cy="2205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762120" y="44956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762120" y="49528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762120" y="54100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P1070155"/>
          <p:cNvPicPr/>
          <p:nvPr/>
        </p:nvPicPr>
        <p:blipFill>
          <a:blip r:embed="rId4"/>
          <a:stretch/>
        </p:blipFill>
        <p:spPr>
          <a:xfrm>
            <a:off x="609480" y="1447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3"/>
          <p:cNvSpPr/>
          <p:nvPr/>
        </p:nvSpPr>
        <p:spPr>
          <a:xfrm rot="2736600">
            <a:off x="1905120" y="335196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219280" y="5589360"/>
            <a:ext cx="34671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ристо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384 - 322 г. до н. э.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249518943_tonnel"/>
          <p:cNvPicPr/>
          <p:nvPr/>
        </p:nvPicPr>
        <p:blipFill>
          <a:blip r:embed="rId1"/>
          <a:stretch/>
        </p:blipFill>
        <p:spPr>
          <a:xfrm>
            <a:off x="5076720" y="62064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11280" y="100980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«Всё, что находится в движении, движется благодаря воздействию другого. Без действия нет движ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700360" y="4005360"/>
            <a:ext cx="1655640" cy="24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9CB1-FB0F-4AC7-BE3D-5CCCCA6309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25780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лилео Гали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564 – 164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99072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Как будет двигаться тело, если на него не будут действовать другие т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520080" y="3276720"/>
            <a:ext cx="5197680" cy="253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вление сохра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корости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 отсутствии 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него других т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инер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230640" y="1523880"/>
            <a:ext cx="581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cript MT Bold"/>
              </a:rPr>
              <a:t>Экспериментально установл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Script MT Bold"/>
              </a:rPr>
              <a:t>Если на тело не действуют другие те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Script MT Bold"/>
              </a:rPr>
              <a:t>то оно находится или в пок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Script MT Bold"/>
              </a:rPr>
              <a:t>или движется прямолинейно и равном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Script MT Bold"/>
              </a:rPr>
              <a:t>относительно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vori_001"/>
          <p:cNvPicPr/>
          <p:nvPr/>
        </p:nvPicPr>
        <p:blipFill>
          <a:blip r:embed="rId2"/>
          <a:stretch/>
        </p:blipFill>
        <p:spPr>
          <a:xfrm>
            <a:off x="380880" y="1600200"/>
            <a:ext cx="2855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39640" y="1052280"/>
            <a:ext cx="4537080" cy="16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alibri"/>
              </a:rPr>
              <a:t>Ракета после выхода в открытый космос летит с выключенными двигателями по инер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xmm"/>
          <p:cNvPicPr/>
          <p:nvPr/>
        </p:nvPicPr>
        <p:blipFill>
          <a:blip r:embed="rId1"/>
          <a:stretch/>
        </p:blipFill>
        <p:spPr>
          <a:xfrm>
            <a:off x="250920" y="3429000"/>
            <a:ext cx="4037040" cy="2981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j0365259"/>
          <p:cNvPicPr/>
          <p:nvPr/>
        </p:nvPicPr>
        <p:blipFill>
          <a:blip r:embed="rId2"/>
          <a:stretch/>
        </p:blipFill>
        <p:spPr>
          <a:xfrm>
            <a:off x="6732720" y="1052640"/>
            <a:ext cx="2022480" cy="223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j0285324"/>
          <p:cNvPicPr/>
          <p:nvPr/>
        </p:nvPicPr>
        <p:blipFill>
          <a:blip r:embed="rId3"/>
          <a:stretch/>
        </p:blipFill>
        <p:spPr>
          <a:xfrm>
            <a:off x="250920" y="62064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4"/>
          <a:stretch/>
        </p:blipFill>
        <p:spPr>
          <a:xfrm>
            <a:off x="5292720" y="3429000"/>
            <a:ext cx="229716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48578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ение инерции учитывается во многих видах спорт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j0365295"/>
          <p:cNvPicPr/>
          <p:nvPr/>
        </p:nvPicPr>
        <p:blipFill>
          <a:blip r:embed="rId1"/>
          <a:stretch/>
        </p:blipFill>
        <p:spPr>
          <a:xfrm>
            <a:off x="468360" y="4724280"/>
            <a:ext cx="1224000" cy="11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j0282777"/>
          <p:cNvPicPr/>
          <p:nvPr/>
        </p:nvPicPr>
        <p:blipFill>
          <a:blip r:embed="rId2"/>
          <a:stretch/>
        </p:blipFill>
        <p:spPr>
          <a:xfrm>
            <a:off x="468360" y="198900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j0309781"/>
          <p:cNvPicPr/>
          <p:nvPr/>
        </p:nvPicPr>
        <p:blipFill>
          <a:blip r:embed="rId3"/>
          <a:stretch/>
        </p:blipFill>
        <p:spPr>
          <a:xfrm>
            <a:off x="5003640" y="2276640"/>
            <a:ext cx="1738440" cy="15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j0285318"/>
          <p:cNvPicPr/>
          <p:nvPr/>
        </p:nvPicPr>
        <p:blipFill>
          <a:blip r:embed="rId4"/>
          <a:stretch/>
        </p:blipFill>
        <p:spPr>
          <a:xfrm>
            <a:off x="2916360" y="2421000"/>
            <a:ext cx="1584360" cy="1412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j0296924"/>
          <p:cNvPicPr/>
          <p:nvPr/>
        </p:nvPicPr>
        <p:blipFill>
          <a:blip r:embed="rId5"/>
          <a:stretch/>
        </p:blipFill>
        <p:spPr>
          <a:xfrm>
            <a:off x="2627280" y="4437000"/>
            <a:ext cx="1871640" cy="142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j0296947"/>
          <p:cNvPicPr/>
          <p:nvPr/>
        </p:nvPicPr>
        <p:blipFill>
          <a:blip r:embed="rId6"/>
          <a:stretch/>
        </p:blipFill>
        <p:spPr>
          <a:xfrm>
            <a:off x="5148360" y="443700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2" descr="AG00418_"/>
          <p:cNvPicPr/>
          <p:nvPr/>
        </p:nvPicPr>
        <p:blipFill>
          <a:blip r:embed="rId7"/>
          <a:stretch/>
        </p:blipFill>
        <p:spPr>
          <a:xfrm>
            <a:off x="3276720" y="260280"/>
            <a:ext cx="3417840" cy="18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4" descr="j0297012"/>
          <p:cNvPicPr/>
          <p:nvPr/>
        </p:nvPicPr>
        <p:blipFill>
          <a:blip r:embed="rId8"/>
          <a:stretch/>
        </p:blipFill>
        <p:spPr>
          <a:xfrm>
            <a:off x="7236000" y="3284640"/>
            <a:ext cx="1511280" cy="1087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5" descr="j0297003"/>
          <p:cNvPicPr/>
          <p:nvPr/>
        </p:nvPicPr>
        <p:blipFill>
          <a:blip r:embed="rId9"/>
          <a:stretch/>
        </p:blipFill>
        <p:spPr>
          <a:xfrm>
            <a:off x="7020000" y="620640"/>
            <a:ext cx="1800000" cy="1284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6" descr="j0336904"/>
          <p:cNvPicPr/>
          <p:nvPr/>
        </p:nvPicPr>
        <p:blipFill>
          <a:blip r:embed="rId10"/>
          <a:stretch/>
        </p:blipFill>
        <p:spPr>
          <a:xfrm>
            <a:off x="7380360" y="5013360"/>
            <a:ext cx="12920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0:44:14Z</dcterms:created>
  <dc:creator>admin</dc:creator>
  <dc:description/>
  <dc:language>en-US</dc:language>
  <cp:lastModifiedBy>admin</cp:lastModifiedBy>
  <dcterms:modified xsi:type="dcterms:W3CDTF">2010-05-18T19:37:36Z</dcterms:modified>
  <cp:revision>103</cp:revision>
  <dc:subject/>
  <dc:title>Инерция Урок физики в 7 классе</dc:title>
</cp:coreProperties>
</file>