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3E00-E72B-4515-AAA9-49602CC1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EA1-AB5A-43FA-9538-F13F697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FD8-5A34-43FC-860E-8F5BA8F0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935-6B1F-4095-A56F-4FCB6B60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3DC3-D56A-43AB-941D-B250845C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07D1-1B9D-463E-AB44-DDCACFF3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522A-FB8B-415C-BA0C-69F42313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9920-05F7-4F6D-B864-5096ECE1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4383-351D-4C20-889C-281A724A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301C-2764-45E1-BEEF-801B7512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3A70-1DFE-4F59-8CC1-7BB50CBD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5F6-F08D-46F4-AFA0-B16AFCF9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A24B-F676-4EA0-A431-4EEACFDF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4BB-0046-430D-8403-A184F2A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5511-AC61-4D64-A66D-052D609F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E27E-8750-48B0-B58F-9F4DB336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7204-4489-47FD-AA47-007F9B5A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C74C-5D10-4307-AD17-1C6EEA2D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2CE2-A764-4EFB-BDD6-A6A1ACC4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5FE7-0F6E-463C-ADE1-C4DF496D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FC4D-C60D-4638-8EFB-05C8E08D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6E45-DEEA-4161-B152-269E0A9A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DE1-2E65-4D33-BAB1-B17E8D03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AD83-16ED-4DCB-A7AB-DA180D1C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DBF7-287F-4E11-A7D8-328E9805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1525-D288-4AA7-B17F-4B578C2C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48F6C-137D-4748-AE8C-F25DED48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860E-FCB9-42E8-992E-2A785885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273D-DDC8-4BD2-8738-23675BF1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126B-7B55-4A9A-A07D-51E54C21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A9B-1DDB-4FEF-A140-106D01E3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7E0-FBEF-4E7C-B411-5C4ADB7D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C56-9547-4337-A99C-33DEAAA5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038-944E-4487-9C58-31FABEAE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3B3-DB45-49B2-843A-F12D99E4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FA8-0746-4F8D-9C3E-3C4A325C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3859-4F0F-4088-956C-B0AF5B47A9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CE0F-18A2-487B-B563-2A2406C957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24CE-FA6E-4324-A05C-8601BAECC1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rtfolio.1september.ru/" TargetMode="External"/><Relationship Id="rId2" Type="http://schemas.openxmlformats.org/officeDocument/2006/relationships/hyperlink" Target="http://festival.1september.ru/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спользование ИКТ на уроках в начальной школ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743200" y="299736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Скажи мне, и я забуду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кажи мне, - я смогу запомнить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ь мне это сделать самому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это станет моим навсегда".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ревняя мудр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MCj04282610000[1]"/>
          <p:cNvPicPr/>
          <p:nvPr/>
        </p:nvPicPr>
        <p:blipFill>
          <a:blip r:embed="rId1"/>
          <a:stretch/>
        </p:blipFill>
        <p:spPr>
          <a:xfrm>
            <a:off x="0" y="479736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гут быть полезны некоторые ресурсы сети Интернет, особенно при организации обучения с учетом межпредметных связей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же предлагаю список ресурс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В работе учител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24000" y="404640"/>
          <a:ext cx="8351640" cy="5832720"/>
        </p:xfrm>
        <a:graphic>
          <a:graphicData uri="http://schemas.openxmlformats.org/drawingml/2006/table">
            <a:tbl>
              <a:tblPr/>
              <a:tblGrid>
                <a:gridCol w="4143240"/>
                <a:gridCol w="420840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portfolio.1september.ru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стиваль исследовательских и творческих работ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://festival.1september.ru/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стиваль педагогических идей «Открытый урок 2006-2007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ttp://www.eidos.r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вристические олимпиа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ttp://www.intelgame.ru/doc/160.ht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сийский конкурс исследовательских работ и творческих проектов дошкольников и младших школь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http://character.webzone.ru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йт, посвященный истории развития русского пись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www.krugosvet.ru/humanit.htm Энциклопедия Кругосве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gwij99.chat.ru/ Галерея насекомы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www.livt.net/ Электронная иллюстрированная энциклопедия «Живые существа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nature.worldstreasure.com/ Чудеса природ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ancientrome.ru/ История древнего мир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http://www.screen.ru/gallery/plan.htm Галерея декоративно-прикладного искусст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Где учитель может поделиться своим опытом, наработками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ечно на школьном сай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Школьный сайт - это своего рода визитная карточка школы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страницах сайта наша школа познакомит посетителей Интернета, возможно, будущих учеников и их родителей с различными сторонами школьной жизни: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историей и традициями школы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школьным коллективом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образовательной политикой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техническим оснащением школы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· возможностями получения дополнительных образовательных услуг (через кружки, клубы, спортивные секции и пр.),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· условиями приема и т. д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ИКТ – информационно-коммуникативные технологии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нение ИКТ на уроках усиливает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ую мотивацию обучения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ктивизирует познавательную деятельность обучающихся.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Использование ИКТ позволяет проводить уроки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высоком эстетическом и эмоциональном уровне (музыка, анимация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печивает наглядность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влекает большое количество дидактического материал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ает объём выполняемой работы на уроке в 1,5-2 раз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еспечивает высокую степень дифференциации обучения (индивидуальный подход к ученику, применяя разноуровневые задания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именение ИКТ способствует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вышению качества      образования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84360" y="4005360"/>
            <a:ext cx="80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звитие мышлени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ирование приемов мыслительной деятельност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3284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ль применения ИКТ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Электронные ресурсы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льтимедийные кур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зентация к урок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ческие игр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овые оболоч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сурсы Интерне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лектронные энциклопед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ИКТ оправдывает себя во всех отношениях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ает качество знани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двигает ребёнка в общем развит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огает преодолеть труд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сит радость в жизнь ребён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воляет вести обучение в зоне ближайшего развит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ет благоприятные условия для лучшего взаимопонимания учителя и учащихся и их сотрудничества в учебном процесс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ребования, предъявляемые к учителю, работающему с применением И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адеть основами работы на компьютер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еть навыки работы с мультимедийными программ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адеть основами работы в Интерн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Этапы подготовки к уроку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иагности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 характер учебного материала, структура урока, временные затраты, возможности, интересы и способности ребенк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гнозирова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 оценка различных вариантов проведения урока, выбор наиболее оптимального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ланирован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 создание методической структуры урока, выбор форм организации учебной деятельности обучающихся, средств обучения и т.д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нение ИКТ в образовательном процессе позволяет решить одну из важных задач обучения –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bcbcb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cbcbcb"/>
                </a:solidFill>
                <a:latin typeface="Arial"/>
              </a:rPr>
              <a:t>повышение уровня зна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MCj04282610000[1]"/>
          <p:cNvPicPr/>
          <p:nvPr/>
        </p:nvPicPr>
        <p:blipFill>
          <a:blip r:embed="rId1"/>
          <a:stretch/>
        </p:blipFill>
        <p:spPr>
          <a:xfrm>
            <a:off x="179280" y="4508640"/>
            <a:ext cx="19623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4:15:42Z</dcterms:created>
  <dc:creator>Алена</dc:creator>
  <dc:description/>
  <dc:language>en-US</dc:language>
  <cp:lastModifiedBy>comp</cp:lastModifiedBy>
  <dcterms:modified xsi:type="dcterms:W3CDTF">2010-06-16T19:20:59Z</dcterms:modified>
  <cp:revision>18</cp:revision>
  <dc:subject/>
  <dc:title>Использование ИКТ на уроках в начальной школе.</dc:title>
</cp:coreProperties>
</file>