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A2AF-87E0-4AB7-902D-5207B512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7824-E601-4A61-A4A1-3CEB3789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BB4F-6C11-4ADE-983C-8C569285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AEB-FD63-43F2-BEDE-DD635DCE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263D-6281-4E0F-A166-8E62F0A4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2A50-BF8E-439A-927B-27EEDA05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9842-20EA-49D7-9C6E-E14A0CFA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FF51-17FD-4A83-9ABD-8890D9EB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DE71-0A66-49E9-A54B-80A4E669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BD4D-1F41-41FB-A346-9089690D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9E47-FACC-4E87-B063-8AC7710B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E806-7E78-4829-A7B1-A4E3A81C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99D9-E754-477F-86EC-9CC164C0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FBA6-03D9-442B-B560-620F599D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63D3-529F-4900-B443-D10AC851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BF74-5886-409C-9869-8DEAEB32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D81F-4B34-44E5-9AF0-0A0743D7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4EE92-584D-4A32-8585-B68EB3B1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9B096-E262-49F4-B8DC-16E306F1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258D3-07D8-430B-BA77-862D1296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53943-D2CC-4012-B6C7-28336F82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02195-6F30-471C-AC7F-B3B6A760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1821-F55B-4C92-8001-03C0101F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817E1-683B-433F-9EAE-08202592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D367E-BAF6-474D-A3BD-C9622791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CAA85-EE76-49D7-B789-AF7A7C19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C69D5-A5BF-4579-8C42-62BDF5B5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D99E3-DEBF-4AD8-B11F-DD0978F3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50E5C-A567-4A09-9161-F4791F84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512AE-295C-4C06-9A4B-A12F2433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14E2-835D-4A99-89BA-8168B5E0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3A5C-D7DB-4BEA-B466-6FFF5C97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3D2E-ADBC-455D-B9DA-F774072F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CCBC-00A3-4F91-930A-61C38353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0185-EC7F-41AB-8522-8A394B5C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6AAC-0CBB-497E-B10A-9867FB2A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A47D-0125-410D-818D-6238552C7A0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2444-D95C-4443-BFD3-518DF88D32C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A50C-27BC-4249-96AB-4EBC4D46E40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ortfolio.1september.ru/" TargetMode="External"/><Relationship Id="rId2" Type="http://schemas.openxmlformats.org/officeDocument/2006/relationships/hyperlink" Target="http://festival.1september.ru/" TargetMode="External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22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Использование ИКТ на уроках в начальной школ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743200" y="2997360"/>
            <a:ext cx="6400800" cy="24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"Скажи мне, и я забуду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кажи мне, - я смогу запомнить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воль мне это сделать самому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это станет моим навсегда".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Древняя мудрос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MCj04282610000[1]"/>
          <p:cNvPicPr/>
          <p:nvPr/>
        </p:nvPicPr>
        <p:blipFill>
          <a:blip r:embed="rId1"/>
          <a:stretch/>
        </p:blipFill>
        <p:spPr>
          <a:xfrm>
            <a:off x="0" y="4797360"/>
            <a:ext cx="1962000" cy="18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гут быть полезны некоторые ресурсы сети Интернет, особенно при организации обучения с учетом межпредметных связей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иже предлагаю список ресурсо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В работе учител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324000" y="404640"/>
          <a:ext cx="8351640" cy="5832720"/>
        </p:xfrm>
        <a:graphic>
          <a:graphicData uri="http://schemas.openxmlformats.org/drawingml/2006/table">
            <a:tbl>
              <a:tblPr/>
              <a:tblGrid>
                <a:gridCol w="4143240"/>
                <a:gridCol w="4208400"/>
              </a:tblGrid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http://portfolio.1september.ru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стиваль исследовательских и творческих работ учащи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http://festival.1september.ru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стиваль педагогических идей «Открытый урок 2006-2007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ttp://www.eidos.ru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вристические олимпиад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ttp://www.intelgame.ru/doc/160.htm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ссийский конкурс исследовательских работ и творческих проектов дошкольников и младших школьни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http://character.webzone.ru</a:t>
            </a: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/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йт, посвященный истории развития русского письм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http://www.krugosvet.ru/humanit.htm Энциклопедия Кругосве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http://gwij99.chat.ru/ Галерея насекомых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http://www.livt.net/ Электронная иллюстрированная энциклопедия «Живые существа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http://nature.worldstreasure.com/ Чудеса природы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http://ancientrome.ru/ История древнего мир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http://www.screen.ru/gallery/plan.htm Галерея декоративно-прикладного искусств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Где учитель может поделиться своим опытом, наработками?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ечно на школьном сайте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Школьный сайт - это своего рода визитная карточка школы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 страницах сайта наша школа познакомит посетителей Интернета, возможно, будущих учеников и их родителей с различными сторонами школьной жизни: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· историей и традициями школы,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· школьным коллективом,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· образовательной политикой,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· техническим оснащением школы,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· возможностями получения дополнительных образовательных услуг (через кружки, клубы, спортивные секции и пр.),</a:t>
            </a:r>
            <a:br>
              <a:rPr sz="20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· условиями приема и т. д.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ИКТ – информационно-коммуникативные технологии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менение ИКТ на уроках усиливает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ую мотивацию обучения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ктивизирует познавательную деятельность обучающихся.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Использование ИКТ позволяет проводить уроки: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высоком эстетическом и эмоциональном уровне (музыка, анимация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еспечивает наглядность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влекает большое количество дидактического материал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вышает объём выполняемой работы на уроке в 1,5-2 раз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еспечивает высокую степень дифференциации обучения (индивидуальный подход к ученику, применяя разноуровневые задания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Применение ИКТ способствует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вышению качества      образования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684360" y="4005360"/>
            <a:ext cx="806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звитие мышления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ормирование приемов мыслительной деятельност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9640" y="328464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Цель применения ИКТ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Электронные ресурсы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19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ультимедийные курс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зентация к уроку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ческие игр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стовые оболочк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сурсы Интерне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лектронные энциклопеди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ИКТ оправдывает себя во всех отношениях: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вышает качество знани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двигает ребёнка в общем развити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могает преодолеть трудн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осит радость в жизнь ребёнк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воляет вести обучение в зоне ближайшего развит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здает благоприятные условия для лучшего взаимопонимания учителя и учащихся и их сотрудничества в учебном процесс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Требования, предъявляемые к учителю, работающему с применением ИТ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ладеть основами работы на компьютер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еть навыки работы с мультимедийными программам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ладеть основами работы в Интерне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Этапы подготовки к уроку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72400" cy="518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иагностик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( характер учебного материала, структура урока, временные затраты, возможности, интересы и способности ребенка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огнозировани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( оценка различных вариантов проведения урока, выбор наиболее оптимального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ланировани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( создание методической структуры урока, выбор форм организации учебной деятельности обучающихся, средств обучения и т.д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71640" y="155700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менение ИКТ в образовательном процессе позволяет решить одну из важных задач обучения –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bcbcb"/>
                </a:solidFill>
                <a:latin typeface="Arial"/>
              </a:rPr>
              <a:t>           </a:t>
            </a:r>
            <a:r>
              <a:rPr b="1" i="1" lang="ru-RU" sz="3600" spc="-1" strike="noStrike">
                <a:solidFill>
                  <a:srgbClr val="cbcbcb"/>
                </a:solidFill>
                <a:latin typeface="Arial"/>
              </a:rPr>
              <a:t>повышение уровня знани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7" descr="MCj04282610000[1]"/>
          <p:cNvPicPr/>
          <p:nvPr/>
        </p:nvPicPr>
        <p:blipFill>
          <a:blip r:embed="rId1"/>
          <a:stretch/>
        </p:blipFill>
        <p:spPr>
          <a:xfrm>
            <a:off x="179280" y="4508640"/>
            <a:ext cx="196236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4:15:42Z</dcterms:created>
  <dc:creator>Алена</dc:creator>
  <dc:description/>
  <dc:language>en-US</dc:language>
  <cp:lastModifiedBy>comp</cp:lastModifiedBy>
  <dcterms:modified xsi:type="dcterms:W3CDTF">2010-06-16T19:20:59Z</dcterms:modified>
  <cp:revision>18</cp:revision>
  <dc:subject/>
  <dc:title>Использование ИКТ на уроках в начальной школе.</dc:title>
</cp:coreProperties>
</file>