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AA4-B527-471B-8E53-E0D8643B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0AB-3167-4D70-957E-F28D483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678-7747-4E15-80A8-02C47B96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3D7-6C76-4297-BF1C-F3BA1C13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95F-8D04-4D1E-8CAB-3D67CCE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F79-869F-4429-A103-5A7D86D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5F6-3923-4074-A54E-F2C297D2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9F5-0C8A-4166-A412-B06010C4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8D9-C8B9-4BC0-B1E7-E57F8498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4B1-7484-4195-AB36-A7EFBD8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BEC-40E3-4A87-89F5-D71EBED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E92-6FD1-43CB-98C1-B8EE206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ff"/>
            </a:gs>
            <a:gs pos="100000">
              <a:srgbClr val="78949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318-A9A1-44CE-A6F3-7D1F7F926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чальной школ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её роль в формировании У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572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Выпускная контрольная рабо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Кайдалов Сергей Константинови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учитель начальных клас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МОУ СОШ с. Таежное Хабаровского кр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500720" y="573840"/>
            <a:ext cx="428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порьте, заблуждайтесь, ошибайтесь, но ради бога, размышляйте, и хотя и криво, да сами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.Э. Лессин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293400" y="6357960"/>
            <a:ext cx="57204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йдалов С. К. учитель начальных классов с. Таежное Хабаровского кр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85840" y="785880"/>
            <a:ext cx="27860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оект» в рамках образовательной деятельности есть особое результативное действие, совершаемое в специально организованных педагогом безопасных условиях, которые дают ребёнку возможность действовать самостоятельно и получать результат. Этот результат можно увидеть, осмыслить, применить в реальной практическ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3071880" y="1214280"/>
            <a:ext cx="414324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 клас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изделие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просы юного технол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4286160" y="2357280"/>
            <a:ext cx="414360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изготовления издел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мысление последовательности опера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3357720" y="3571920"/>
            <a:ext cx="414324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издел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лгоритм выполнения оп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12"/>
          <p:cNvSpPr/>
          <p:nvPr/>
        </p:nvSpPr>
        <p:spPr>
          <a:xfrm>
            <a:off x="4572000" y="4714920"/>
            <a:ext cx="414324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4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ан работы над проект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93400" y="6357960"/>
            <a:ext cx="57204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йдалов С. К. учитель начальных классов с. Таежное Хабаровского кр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7120" y="1000080"/>
            <a:ext cx="371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проекта предполаг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зь обучения с жизн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амостоятельности и активности детей в учебном процесс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я умения адаптироваться к действи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общаться, сотрудничать с детьми в различны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проектов помогает научить детей ориентироваться в мире информации, добывать ее самостоятельно, усваивать в виде знаний, рационально подходить к процессу позн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 е. учит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071960" y="3786120"/>
            <a:ext cx="44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4157640" y="1030320"/>
            <a:ext cx="4400640" cy="1189080"/>
            <a:chOff x="4157640" y="1030320"/>
            <a:chExt cx="4400640" cy="1189080"/>
          </a:xfrm>
        </p:grpSpPr>
        <p:pic>
          <p:nvPicPr>
            <p:cNvPr id="56" name="Овал 12" descr=""/>
            <p:cNvPicPr/>
            <p:nvPr/>
          </p:nvPicPr>
          <p:blipFill>
            <a:blip r:embed="rId1"/>
            <a:stretch/>
          </p:blipFill>
          <p:spPr>
            <a:xfrm>
              <a:off x="4157640" y="1030320"/>
              <a:ext cx="4400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892760" y="1279440"/>
              <a:ext cx="2930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ок-проект  курса технологии УМК «Перспектива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Овал 13"/>
          <p:cNvGrpSpPr/>
          <p:nvPr/>
        </p:nvGrpSpPr>
        <p:grpSpPr>
          <a:xfrm>
            <a:off x="3870360" y="2389320"/>
            <a:ext cx="4975200" cy="1328760"/>
            <a:chOff x="3870360" y="2389320"/>
            <a:chExt cx="4975200" cy="1328760"/>
          </a:xfrm>
        </p:grpSpPr>
        <p:pic>
          <p:nvPicPr>
            <p:cNvPr id="59" name="Овал 13" descr=""/>
            <p:cNvPicPr/>
            <p:nvPr/>
          </p:nvPicPr>
          <p:blipFill>
            <a:blip r:embed="rId2"/>
            <a:stretch/>
          </p:blipFill>
          <p:spPr>
            <a:xfrm>
              <a:off x="3870360" y="2389320"/>
              <a:ext cx="49752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91160" y="2657520"/>
              <a:ext cx="3333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актическая ситуация предметные ум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оект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Овал 14"/>
          <p:cNvGrpSpPr/>
          <p:nvPr/>
        </p:nvGrpSpPr>
        <p:grpSpPr>
          <a:xfrm>
            <a:off x="3870360" y="3749760"/>
            <a:ext cx="5114880" cy="2541600"/>
            <a:chOff x="3870360" y="3749760"/>
            <a:chExt cx="5114880" cy="2541600"/>
          </a:xfrm>
        </p:grpSpPr>
        <p:pic>
          <p:nvPicPr>
            <p:cNvPr id="62" name="Овал 14" descr=""/>
            <p:cNvPicPr/>
            <p:nvPr/>
          </p:nvPicPr>
          <p:blipFill>
            <a:blip r:embed="rId3"/>
            <a:stretch/>
          </p:blipFill>
          <p:spPr>
            <a:xfrm>
              <a:off x="3870360" y="3749760"/>
              <a:ext cx="511488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711680" y="4192560"/>
              <a:ext cx="34354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здание практической ситуац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одготовка к выполнению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оставление плана работ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выполнение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оценивание работы по разным основания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резентаци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Стрелка вправо 15"/>
          <p:cNvGrpSpPr/>
          <p:nvPr/>
        </p:nvGrpSpPr>
        <p:grpSpPr>
          <a:xfrm>
            <a:off x="6083280" y="2036880"/>
            <a:ext cx="420840" cy="480960"/>
            <a:chOff x="6083280" y="2036880"/>
            <a:chExt cx="420840" cy="480960"/>
          </a:xfrm>
        </p:grpSpPr>
        <p:pic>
          <p:nvPicPr>
            <p:cNvPr id="65" name="Стрелка вправо 15" descr=""/>
            <p:cNvPicPr/>
            <p:nvPr/>
          </p:nvPicPr>
          <p:blipFill>
            <a:blip r:embed="rId4"/>
            <a:stretch/>
          </p:blipFill>
          <p:spPr>
            <a:xfrm>
              <a:off x="6083280" y="2036880"/>
              <a:ext cx="4208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5400000">
              <a:off x="6144840" y="2144880"/>
              <a:ext cx="298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Стрелка вправо 17"/>
          <p:cNvGrpSpPr/>
          <p:nvPr/>
        </p:nvGrpSpPr>
        <p:grpSpPr>
          <a:xfrm>
            <a:off x="6156360" y="3535200"/>
            <a:ext cx="415800" cy="482760"/>
            <a:chOff x="6156360" y="3535200"/>
            <a:chExt cx="415800" cy="482760"/>
          </a:xfrm>
        </p:grpSpPr>
        <p:pic>
          <p:nvPicPr>
            <p:cNvPr id="68" name="Стрелка вправо 17" descr=""/>
            <p:cNvPicPr/>
            <p:nvPr/>
          </p:nvPicPr>
          <p:blipFill>
            <a:blip r:embed="rId5"/>
            <a:stretch/>
          </p:blipFill>
          <p:spPr>
            <a:xfrm>
              <a:off x="6156360" y="3535200"/>
              <a:ext cx="4158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5400000">
              <a:off x="6216480" y="3644640"/>
              <a:ext cx="29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Выгнутая влево стрелка 18"/>
          <p:cNvGrpSpPr/>
          <p:nvPr/>
        </p:nvGrpSpPr>
        <p:grpSpPr>
          <a:xfrm>
            <a:off x="4797360" y="2749680"/>
            <a:ext cx="403200" cy="469800"/>
            <a:chOff x="4797360" y="2749680"/>
            <a:chExt cx="403200" cy="469800"/>
          </a:xfrm>
        </p:grpSpPr>
        <p:pic>
          <p:nvPicPr>
            <p:cNvPr id="71" name="Выгнутая влево стрелка 18" descr=""/>
            <p:cNvPicPr/>
            <p:nvPr/>
          </p:nvPicPr>
          <p:blipFill>
            <a:blip r:embed="rId6"/>
            <a:stretch/>
          </p:blipFill>
          <p:spPr>
            <a:xfrm>
              <a:off x="4797360" y="2749680"/>
              <a:ext cx="403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857840" y="2786040"/>
              <a:ext cx="285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Выгнутая вправо стрелка 20"/>
          <p:cNvGrpSpPr/>
          <p:nvPr/>
        </p:nvGrpSpPr>
        <p:grpSpPr>
          <a:xfrm>
            <a:off x="7510320" y="3035160"/>
            <a:ext cx="401760" cy="397080"/>
            <a:chOff x="7510320" y="3035160"/>
            <a:chExt cx="401760" cy="397080"/>
          </a:xfrm>
        </p:grpSpPr>
        <p:pic>
          <p:nvPicPr>
            <p:cNvPr id="74" name="Выгнутая вправо стрелка 20" descr=""/>
            <p:cNvPicPr/>
            <p:nvPr/>
          </p:nvPicPr>
          <p:blipFill>
            <a:blip r:embed="rId7"/>
            <a:stretch/>
          </p:blipFill>
          <p:spPr>
            <a:xfrm>
              <a:off x="7510320" y="303516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572240" y="307188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293400" y="6357960"/>
            <a:ext cx="57204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йдалов С. К. учитель начальных классов с. Таежное Хабаровского кр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939960"/>
            <a:ext cx="51436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проекта формирует у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ов начальной школы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ую картину мира (образа мира) на основе познания, освоения трудовых умений, осмысления технологического процесс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 профессиях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и позитивное отношение к окружающему миру (природа, люди, производство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бирать способы деятельности, реализовывать его в рамках практической деятельности, нести ответственность за результат своего труд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равноправному сотрудничеству на основе уважения личности другого человека; толерантность к мнению и позиции других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ебя как гражданина России в поликультурном многонациональном обществе на основе знакомства с ремёслами народов Росс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роектной деятельности в рамках курса «Технологии» обеспечит услов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чностного развит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включает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ую активность, инициативу школьника на основе связи трудового и технологического образования с жизненным опытом и системой ценностей ребён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ятийно-логического и образно-художественного мышле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отенциал и формирование умения решать проблемы в учебных, социальных и нестандартных ситуациях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универсальных учебных действий (УУД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ключают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технологической картой, выполнять технологические операции при изготовлении любых изделий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оценивать свой труд (изделие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теоретические знания в практической деятельност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разными материалами и инструментами (природные материалы, пластичные материалы, бумага, ткани, конструктор и пр.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блюдать технику безопасности и правила работы с инструментами при организации рабочего мес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8"/>
          <p:cNvSpPr/>
          <p:nvPr/>
        </p:nvSpPr>
        <p:spPr>
          <a:xfrm>
            <a:off x="6572160" y="785880"/>
            <a:ext cx="1143000" cy="121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da19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к учи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9"/>
          <p:cNvSpPr/>
          <p:nvPr/>
        </p:nvSpPr>
        <p:spPr>
          <a:xfrm>
            <a:off x="6215040" y="1928880"/>
            <a:ext cx="1857240" cy="6429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3560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ть цель, определять задач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10"/>
          <p:cNvSpPr/>
          <p:nvPr/>
        </p:nvSpPr>
        <p:spPr>
          <a:xfrm>
            <a:off x="6072120" y="2571840"/>
            <a:ext cx="2214720" cy="642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28a0b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относить  цель и  условия  ее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11"/>
          <p:cNvSpPr/>
          <p:nvPr/>
        </p:nvSpPr>
        <p:spPr>
          <a:xfrm>
            <a:off x="5786280" y="3143160"/>
            <a:ext cx="271476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нировать действия исходя из своих возмож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2"/>
          <p:cNvSpPr/>
          <p:nvPr/>
        </p:nvSpPr>
        <p:spPr>
          <a:xfrm>
            <a:off x="5572080" y="3786120"/>
            <a:ext cx="3286080" cy="857160"/>
          </a:xfrm>
          <a:prstGeom prst="ellipse">
            <a:avLst/>
          </a:prstGeom>
          <a:solidFill>
            <a:srgbClr val="35385a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спользовать предметные знания для реализации 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14"/>
          <p:cNvSpPr/>
          <p:nvPr/>
        </p:nvSpPr>
        <p:spPr>
          <a:xfrm>
            <a:off x="5286240" y="4572000"/>
            <a:ext cx="3500640" cy="928800"/>
          </a:xfrm>
          <a:prstGeom prst="ellipse">
            <a:avLst/>
          </a:prstGeom>
          <a:solidFill>
            <a:srgbClr val="a3171e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личать виды ответственности внутри своей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15"/>
          <p:cNvSpPr/>
          <p:nvPr/>
        </p:nvSpPr>
        <p:spPr>
          <a:xfrm>
            <a:off x="5143680" y="5429160"/>
            <a:ext cx="37861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формлять и представлять результаты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93400" y="6357960"/>
            <a:ext cx="572040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йдалов С. К. учитель начальных классов с. Таежное Хабаровского кр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85840" y="1020240"/>
            <a:ext cx="3857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ная деятельность вошла в уроки трудового обучения как естественная часть современного решения проблемы развивающего обучения. Ее появление в общеобразовательной школе – требование времени. Задача педагогов заключается в том, чтобы принять и реализовать это требование, полноценно использовать общеобразовательные и развивающие возможности учебных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начальной школе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1" descr="06-10-07_1115.jpg"/>
          <p:cNvPicPr/>
          <p:nvPr/>
        </p:nvPicPr>
        <p:blipFill>
          <a:blip r:embed="rId1"/>
          <a:stretch/>
        </p:blipFill>
        <p:spPr>
          <a:xfrm>
            <a:off x="4511520" y="1103400"/>
            <a:ext cx="1492560" cy="1719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2" descr="22-09-07_1230.jpg"/>
          <p:cNvPicPr/>
          <p:nvPr/>
        </p:nvPicPr>
        <p:blipFill>
          <a:blip r:embed="rId2"/>
          <a:stretch/>
        </p:blipFill>
        <p:spPr>
          <a:xfrm>
            <a:off x="5657760" y="1530360"/>
            <a:ext cx="2486160" cy="2090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3" descr="общее 2061.jpg"/>
          <p:cNvPicPr/>
          <p:nvPr/>
        </p:nvPicPr>
        <p:blipFill>
          <a:blip r:embed="rId3"/>
          <a:stretch/>
        </p:blipFill>
        <p:spPr>
          <a:xfrm>
            <a:off x="4651200" y="2457360"/>
            <a:ext cx="173052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4" descr="D:\Мои Документы\2009_10_14\IMG_0284.JPG"/>
          <p:cNvPicPr/>
          <p:nvPr/>
        </p:nvPicPr>
        <p:blipFill>
          <a:blip r:embed="rId4"/>
          <a:stretch/>
        </p:blipFill>
        <p:spPr>
          <a:xfrm>
            <a:off x="6010200" y="2955960"/>
            <a:ext cx="2494080" cy="2262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5" descr="IMG_0134.JPG"/>
          <p:cNvPicPr/>
          <p:nvPr/>
        </p:nvPicPr>
        <p:blipFill>
          <a:blip r:embed="rId5"/>
          <a:stretch/>
        </p:blipFill>
        <p:spPr>
          <a:xfrm>
            <a:off x="4816440" y="4114800"/>
            <a:ext cx="25844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Admin</cp:lastModifiedBy>
  <dcterms:modified xsi:type="dcterms:W3CDTF">2010-12-20T10:56:40Z</dcterms:modified>
  <cp:revision>14</cp:revision>
  <dc:subject/>
  <dc:title>Проектная деятельность на уроках технологии в начальной школе и её роль в формировании УУД. </dc:title>
</cp:coreProperties>
</file>