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8276-8ACC-4E7B-8C1A-BF99FC597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2CB0-DB25-48FA-8C1D-27E95D93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90DF-8E93-404B-8218-76E8D158A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9215-B699-4924-9E6F-2C78A0C9D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13D7-0275-4AA5-8ED9-6FF2AB967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E669-190F-47AD-A788-D40EF862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883D-0905-4E5F-A933-821F6D49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B923-5056-475E-A21F-23056B4D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4E2C-CCC8-4B95-884B-916E281C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7CA9-7778-4372-830D-B2B7BED4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3955-03EF-4485-9C0E-440C896B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CD0B-B9B2-437D-8E80-58EB7F34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DC6A-58B0-4539-AF84-53FF529E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0598-EE1F-44DE-8D70-5688FE5B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674A-10DB-405B-BBB1-2AEF2F6F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EF67-DB8C-4F5B-8FD5-A987D972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0AF5-6D2E-4E99-9203-3D17C3D0B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45CC-6951-4462-AA47-02E0B095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254E-9C84-440D-BBFB-4740EAA8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4FA8-ADDD-49B2-B65B-F320BA11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5222-2E35-4DC0-95FE-A30B138D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8A8D-8B7C-4743-93E7-5BE37F00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BC2E-5D4D-492D-9065-6615F202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2DE2-6305-4C83-BB10-E8924DF2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0FD2-E9A4-4450-BB45-7707D7FB5F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7DCC-8B67-4492-943B-0B0A2791246B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1676160"/>
            <a:ext cx="70866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Исследовательская деятельность педагог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4267080" y="426708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Шаповалова Л.Т., доцент кафедры профессионального образования БелРИПКППС, к.п.н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\\ipk-s03\Home\_photos\Лобашова\плакат\1\IMG_0738.JPG"/>
          <p:cNvPicPr/>
          <p:nvPr/>
        </p:nvPicPr>
        <p:blipFill>
          <a:blip r:embed="rId1"/>
          <a:stretch/>
        </p:blipFill>
        <p:spPr>
          <a:xfrm>
            <a:off x="457200" y="3657600"/>
            <a:ext cx="3600360" cy="24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ahoma"/>
              </a:rPr>
              <a:t>Блоки умений, необходимые педагогу исследователю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769644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МЕНИЯ И ЗНАНИЯ ИССЛЕДОВАТЕЛЬСКОГО ХАРАКТЕР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выбор темы исследова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целеполагани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умение выстроить структуру исследова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методы исследова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общелогические методы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поиск информац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26A6-AFD6-4A79-83D8-AC4AE5D8531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ahoma"/>
              </a:rPr>
              <a:t>Блоки умений, необходимые педагогу исследователю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572920"/>
            <a:ext cx="6818400" cy="35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МЕНИЕ РАБОТАТЬ С ИНФОРМАЦИ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структурирование информаци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выделение главного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упорядоченное хранение информац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0440-7367-4A91-A0C7-0AAE80E4B24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ahoma"/>
              </a:rPr>
              <a:t>Блоки умений, необходимые педагогу исследователю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572920"/>
            <a:ext cx="6818400" cy="35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МЕНИЕ ПРЕДСТАВИТЬ РЕЗУЛЬТАТЫ СВОЕЙ РАБО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формы представления результатов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требования к докладу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требования к речи докладчи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9BDD-AD27-4F16-8D26-ABD522DC922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Классификация исследований</a:t>
            </a:r>
            <a:br>
              <a:rPr sz="3200"/>
            </a:b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(применительно к исследовательской деятельности учителя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гностические – темы, ориентированные на разработку несуществующих объектов и явле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эмпирические – темы, тесно связанные с практикой и предполагающие проведение наблюдений, эксперимент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теоретические – ориентированные на работу по изучению и обобщению фактов, материалов, содержащихся в различных теоретических источниках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928B-3022-4032-8DDC-2F5F41B2CF2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СПАСИБО ЗА ВНИМАН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0983-3BD3-4D3E-AD29-1AE8F3C6EA1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5" descr="\\ipk-s03\Home\_photos\Лобашова\плакат\IM003055.jpg"/>
          <p:cNvPicPr/>
          <p:nvPr/>
        </p:nvPicPr>
        <p:blipFill>
          <a:blip r:embed="rId1"/>
          <a:stretch/>
        </p:blipFill>
        <p:spPr>
          <a:xfrm>
            <a:off x="1600200" y="685800"/>
            <a:ext cx="55911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ahoma"/>
              </a:rPr>
              <a:t>Цель исследовательской деятельности педагога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240" y="2057400"/>
            <a:ext cx="6970680" cy="24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стоит в создании условий для развития его способностей и индивидуально-личностных качеств в процессе реализации образования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FF7F-4BBD-4DD5-BFA5-B92722CC7E1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5" descr="\\ipk-s03\Home\_photos\Лобашова\плакат\1\IMG_0729.JPG"/>
          <p:cNvPicPr/>
          <p:nvPr/>
        </p:nvPicPr>
        <p:blipFill>
          <a:blip r:embed="rId1"/>
          <a:stretch/>
        </p:blipFill>
        <p:spPr>
          <a:xfrm>
            <a:off x="2743200" y="3962520"/>
            <a:ext cx="3600360" cy="24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6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Tahoma"/>
              </a:rPr>
              <a:t>Условия организации исследовательской деятельности педагог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572920"/>
            <a:ext cx="7772400" cy="35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о-первых, это мотивация на выполнение научно-исследовательской деятельности через различные формы-семинары, практикумы и др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о-вторых, создание и работа педагога по взаимодействию с коллегами и научными обществами учащихся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88BA-4718-499E-B031-2C8A17B52AF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ahoma"/>
              </a:rPr>
              <a:t>Исследовательская деятельность учител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433240"/>
            <a:ext cx="7772400" cy="29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временной школы является основным элементом и фактором педагогического творчества, источником его преподавательского статуса, показателем ответственности, способностей и талант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320E-5263-4091-B2EE-C45F8DD484C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213840"/>
            <a:ext cx="7572240" cy="16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ahoma"/>
              </a:rPr>
              <a:t>Исследовательская деятельность позволяет педагогу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293560"/>
            <a:ext cx="7772400" cy="38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ктуализировать самореализацию и творческое развитие личности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высить статус учебного заведения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величить профессионально-квалификационный рост учителя-исследователя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лучить качественно новое знание (инновацию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B045-F7B0-40E5-8202-7B1050A508D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Трудности, с которыми сталкивается учитель при организации исследовательской деятельности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433240"/>
            <a:ext cx="7772400" cy="36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лабое владение методологией научного исследования, недостаток методической, научной, психолого-педагогической, специальной литератур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ольшая загруженность учащихся, отсутствие времени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обладание в традиционном обучении репродуктивных методов, вступающих в противоречие с исследовательскими методам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9DE4-E00B-44D6-852A-EE1E77FE3D1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Причины, препятствующие научному творчеству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01880" y="2293920"/>
            <a:ext cx="7053120" cy="33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оязнь вовлечь детей в «несвойственную им научную деятельность»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укообразие в образовательном процессе, т.е. оторванное от жизни, схоластическое знание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32BF-7B79-474B-93D6-B79F2E143EA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Уровни прохождения через исследовательскую деятельность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. Репродуктивный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включающий элемент вхождения в поисковую, научно-исследовательскую деятельность через систему конкурсов, смотров и пр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2. Эмпирико-практический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включающий усложненный элемент прохождения через систему коллекционирования изучения опыта других педагогов и пр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3. Исследовательский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экспериментальный,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включающий более усложненный элемент прохождения через систему спецкурсов, спецсеминар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4. Творческий, продуктивно-деятельностный,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включающий собственно исследовательскую и экспериментальную работу, связанную с конструированием, моделированием и защитой своих проектов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CD4D-B669-4864-843B-D009D3CF8DC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ahoma"/>
              </a:rPr>
              <a:t>Блоки умений, необходимые педагогу исследователю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240" y="2572920"/>
            <a:ext cx="7047000" cy="35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РГАНИЗАЦИОННЫЕ УМ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рганизация рабочего мест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ланирование работ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81DD-799B-4183-AB15-EE03C9FCB08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apovalova</cp:lastModifiedBy>
  <dcterms:modified xsi:type="dcterms:W3CDTF">2008-09-08T06:07:2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