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AFF-FD84-4BA0-BDEB-C0115852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EDE-4AA8-4C79-B044-F90CDAF2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617-5A45-4963-AD34-8DCAE6C7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45D-3C1B-46BE-A4AD-5129EA24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1634-D5B4-4FCB-A992-7154ADFD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442F-EBA8-4556-A488-FA5FD4DB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2EBE-18F3-4D43-BFCA-78AE2E00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888F-2C9A-42CA-A71F-B43E1500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DA39-DF28-472F-BFC7-E3CB6E48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A296-5AC5-468E-951A-8C1A0670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6241-E2FE-4EDE-84D3-2BD5916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A80-B1EF-41EC-8667-83FD4C8D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E553-36AA-47B2-989B-3F82918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B83D-600B-45C7-9A28-4C92C122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EA3E-30F8-4489-A375-8BDE3140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B3D7-AFAA-47BF-97B0-BA1DFE91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FBC1-6218-4847-8C55-6A8F0379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367-C712-449A-808A-696534F5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3D2-2DB6-4829-BFE2-3E04AFCF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620-DAE1-473C-80AE-5E24C435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8B1-A318-4B18-9FDD-804AD993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5E7-5D9F-4414-9202-1E07D9F6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3DA-F0B3-4072-8B7C-9A26A1BA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9D4-0799-4787-A3C2-C5AE8D4F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4616-BC5B-439A-A399-8A6B9F24FC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940B-C7FF-45BD-87C3-7515376B72D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Исследовательская деятельность педаг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267080" y="42670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аповалова Л.Т., доцент кафедры профессионального образования БелРИПКППС, к.п.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\\ipk-s03\Home\_photos\Лобашова\плакат\1\IMG_0738.JPG"/>
          <p:cNvPicPr/>
          <p:nvPr/>
        </p:nvPicPr>
        <p:blipFill>
          <a:blip r:embed="rId1"/>
          <a:stretch/>
        </p:blipFill>
        <p:spPr>
          <a:xfrm>
            <a:off x="457200" y="3657600"/>
            <a:ext cx="360036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Блоки умений, необходимые педагогу исследовател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69644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Я И ЗНАНИЯ ИССЛЕДОВАТЕЛЬСКОГО ХАРАКТЕ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ыбор темы исслед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целеполаган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умение выстроить структуру исслед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методы исслед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общелогические метод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поиск информ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B041-1E44-4890-A9A0-553829C52C2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Блоки умений, необходимые педагогу исследовател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572920"/>
            <a:ext cx="68184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Е РАБОТАТЬ С ИНФОРМАЦ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структурирование информ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ыделение главног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упорядоченное хранение информ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6084-0102-44DB-8B22-C7232993C93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Блоки умений, необходимые педагогу исследовател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572920"/>
            <a:ext cx="68184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Е ПРЕДСТАВИТЬ РЕЗУЛЬТАТЫ СВОЕЙ РАБО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формы представления результа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требования к доклад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требования к речи докладч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355A-AB41-4AE9-B8F1-5677BE83C9E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Классификация исследований</a:t>
            </a:r>
            <a:br>
              <a:rPr sz="3200"/>
            </a:b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(применительно к исследовательской деятельности учителя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ностические – темы, ориентированные на разработку несуществующих объектов и явл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эмпирические – темы, тесно связанные с практикой и предполагающие проведение наблюдений, эксперимен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теоретические – ориентированные на работу по изучению и обобщению фактов, материалов, содержащихся в различных теоретических источника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DF61-1969-422D-A050-EFD6FB74A44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ПАСИБО ЗА ВНИМ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7B62-DB9E-4341-9017-7C232C701B6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\\ipk-s03\Home\_photos\Лобашова\плакат\IM003055.jpg"/>
          <p:cNvPicPr/>
          <p:nvPr/>
        </p:nvPicPr>
        <p:blipFill>
          <a:blip r:embed="rId1"/>
          <a:stretch/>
        </p:blipFill>
        <p:spPr>
          <a:xfrm>
            <a:off x="1600200" y="685800"/>
            <a:ext cx="5591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Цель исследовательской деятель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240" y="2057400"/>
            <a:ext cx="697068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ит в создании условий для развития его способностей и индивидуально-личностных качеств в процессе реализации образ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E66D-D3C7-4647-8691-9F0BAA832FD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\\ipk-s03\Home\_photos\Лобашова\плакат\1\IMG_0729.JPG"/>
          <p:cNvPicPr/>
          <p:nvPr/>
        </p:nvPicPr>
        <p:blipFill>
          <a:blip r:embed="rId1"/>
          <a:stretch/>
        </p:blipFill>
        <p:spPr>
          <a:xfrm>
            <a:off x="2743200" y="3962520"/>
            <a:ext cx="36003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Условия организации исследовательской деятельности педагог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572920"/>
            <a:ext cx="77724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-первых, это мотивация на выполнение научно-исследовательской деятельности через различные формы-семинары, практикумы и д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-вторых, создание и работа педагога по взаимодействию с коллегами и научными обществами учащихс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0522-D734-41E3-8C76-E163166636B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Исследовательская деятельность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433240"/>
            <a:ext cx="77724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ременной школы является основным элементом и фактором педагогического творчества, источником его преподавательского статуса, показателем ответственности, способностей и талан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A346-E76A-458D-A660-3C3A4751391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572240" cy="16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Исследовательская деятельность позволяет педагогу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293560"/>
            <a:ext cx="77724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ктуализировать самореализацию и творческое развитие личн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ысить статус учебного заведения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ить профессионально-квалификационный рост учителя-исследователя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учить качественно новое знание (инновацию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2431-94F5-4667-9A47-DAA5ABDC4FA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Трудности, с которыми сталкивается учитель при организации исследовательской деятельности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433240"/>
            <a:ext cx="777240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абое владение методологией научного исследования, недостаток методической, научной, психолого-педагогической, специальной литератур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ая загруженность учащихся, отсутствие времен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обладание в традиционном обучении репродуктивных методов, вступающих в противоречие с исследовательскими метод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5835-69CC-412E-B671-6A0442F2F1E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Причины, препятствующие научному творчеств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1880" y="2293920"/>
            <a:ext cx="705312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язнь вовлечь детей в «несвойственную им научную деятельность»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кообразие в образовательном процессе, т.е. оторванное от жизни, схоластическое знани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F220-294E-408B-B01D-4E727F1AEB6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Уровни прохождения через исследовательскую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 Репродуктивны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ключающий элемент вхождения в поисковую, научно-исследовательскую деятельность через систему конкурсов, смотров и п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Эмпирико-практически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ключающий усложненный элемент прохождения через систему коллекционирования изучения опыта других педагогов и п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Исследовательски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спериментальны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ключающий более усложненный элемент прохождения через систему спецкурсов, спецсеминар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Творческий, продуктивно-деятельностны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ключающий собственно исследовательскую и экспериментальную работу, связанную с конструированием, моделированием и защитой своих проект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C7C-40AE-42D3-A346-0582E9A51BC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Блоки умений, необходимые педагогу исследовател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572920"/>
            <a:ext cx="70470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РГАНИЗАЦИОННЫЕ УМ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рганизация рабочего мес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EF9C-F40E-4241-9082-2F56DF6F9E3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povalova</cp:lastModifiedBy>
  <dcterms:modified xsi:type="dcterms:W3CDTF">2008-09-08T06:07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