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6827-A747-4FDE-9872-687ED82D3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5B00-F670-49B7-818C-1B2DAC141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7F46-094E-4CFA-AEBC-B471220BB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FE69-CC69-4FC7-AEA1-1862C454A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481F-B535-4446-BC1F-C8FDB7CFBE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79EC-4A11-4343-B441-DE0173AF7E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5926-49DA-4B65-B8D9-4E7E0674A4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2D5D-88D5-41C6-B803-DD5270B93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5870-B300-4A18-9D0E-DA55CDA2E3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C290-28FD-4F4C-8B92-52E9C04EA9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98B1-6FFC-44E9-B249-89F0BEF11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3176-D160-4E04-98C6-3FCB1568E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7C42-D22F-4403-9882-F746C9CAA8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042D-B5C7-49B0-84BE-0532A93203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4340-FA2E-4FE1-B1F7-41115E4FD2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6876-FF9A-4D6F-BB1D-4B924CD441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0955E-C878-4BB8-948A-65029EBDD0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EDEA-7640-4333-BB16-1FCBB5D13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FD46-6EAD-46BE-B3D9-328B5D3B5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F10A-8AEE-427C-927C-01521A990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D70B-0659-40BB-AC25-E840311D5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D62E-468B-4574-8019-D06F598F6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F727-54BC-4AD5-B100-D52F114E8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595C-6D0B-410B-B3A1-EB9BF09C8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60948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380880" y="1416960"/>
              <a:ext cx="8304480" cy="180720"/>
              <a:chOff x="380880" y="1416960"/>
              <a:chExt cx="8304480" cy="18072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6856560" y="1416960"/>
                <a:ext cx="1828440" cy="180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Line 5"/>
              <p:cNvSpPr/>
              <p:nvPr/>
            </p:nvSpPr>
            <p:spPr>
              <a:xfrm>
                <a:off x="380880" y="1492200"/>
                <a:ext cx="8304480" cy="108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A8AF7D-4A82-4413-A9B2-92CBBB15883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0" y="0"/>
            <a:ext cx="8760960" cy="5942160"/>
            <a:chOff x="0" y="0"/>
            <a:chExt cx="8760960" cy="59421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Group 3"/>
            <p:cNvGrpSpPr/>
            <p:nvPr/>
          </p:nvGrpSpPr>
          <p:grpSpPr>
            <a:xfrm>
              <a:off x="0" y="3505320"/>
              <a:ext cx="8760960" cy="2436840"/>
              <a:chOff x="0" y="3505320"/>
              <a:chExt cx="8760960" cy="2436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99036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1037880" y="3733560"/>
                <a:ext cx="7646760" cy="21369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0" y="4875840"/>
                <a:ext cx="990360" cy="108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7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6272280" y="533520"/>
                <a:ext cx="243792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Line 9"/>
              <p:cNvSpPr/>
              <p:nvPr/>
            </p:nvSpPr>
            <p:spPr>
              <a:xfrm>
                <a:off x="635040" y="685080"/>
                <a:ext cx="8075520" cy="108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4920D5-1F3A-4189-9FAD-9C0E5708EC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057400" y="968400"/>
            <a:ext cx="66294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Monotype Corsiva"/>
              </a:rPr>
              <a:t>«Школьный музей</a:t>
            </a:r>
            <a:br>
              <a:rPr sz="5400"/>
            </a:br>
            <a:r>
              <a:rPr b="0" lang="ru-RU" sz="5400" spc="-1" strike="noStrike">
                <a:solidFill>
                  <a:srgbClr val="330033"/>
                </a:solidFill>
                <a:latin typeface="Monotype Corsiva"/>
              </a:rPr>
              <a:t>русского быта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371600" y="3774960"/>
            <a:ext cx="68580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«Древность придает семье, дому, мебели печать благородства, которая вызывает зависть у современников и которой не могут возместить ни роскошь, ни богатство, ни фантазии моды».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Ф. Кабальеро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Сбор и анализ информаци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торая группа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знакомилась с тем, как устроена экспозиция музея, узнала, какие предметы старинного быта хранятся в Зарайском краеведческом музе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ретья групп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сила объявления по посёлкам Текстильщиков и ЗСМ о приёме старинные вещи для организации школьного музея. Так же дети отправились в Стрелецкую слободу с целью сбора экспонатов. Там они встретились с жителями, которые рассказали им об истории своей улицы и подарили музею вещи, которыми пользовались их предки в прошлом ве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Итоговый этап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87692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паспорта музе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композиции «Школьный музей русского быта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рекомендаций по уходу за музейными экспона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ительная акция – открытие музе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1305000" y="1600200"/>
            <a:ext cx="3025800" cy="4529160"/>
            <a:chOff x="1305000" y="1600200"/>
            <a:chExt cx="3025800" cy="452916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tretch/>
          </p:blipFill>
          <p:spPr>
            <a:xfrm>
              <a:off x="1305000" y="1600200"/>
              <a:ext cx="302580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5"/>
            <p:cNvSpPr/>
            <p:nvPr/>
          </p:nvSpPr>
          <p:spPr>
            <a:xfrm>
              <a:off x="1305000" y="1600200"/>
              <a:ext cx="3025800" cy="45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Итоги проек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87692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или представления о жизни русского народа, его обычаях, традициях, укла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ли паспорт музе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ли экспозицию «Школьный музей русского быт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ли рекомендации по уходу за музейными экспона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359000" y="1600200"/>
            <a:ext cx="3139920" cy="2354400"/>
            <a:chOff x="1359000" y="1600200"/>
            <a:chExt cx="3139920" cy="2354400"/>
          </a:xfrm>
        </p:grpSpPr>
        <p:pic>
          <p:nvPicPr>
            <p:cNvPr id="139" name="Picture 4" descr=""/>
            <p:cNvPicPr/>
            <p:nvPr/>
          </p:nvPicPr>
          <p:blipFill>
            <a:blip r:embed="rId1"/>
            <a:stretch/>
          </p:blipFill>
          <p:spPr>
            <a:xfrm>
              <a:off x="1359000" y="1600200"/>
              <a:ext cx="313992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5"/>
            <p:cNvSpPr/>
            <p:nvPr/>
          </p:nvSpPr>
          <p:spPr>
            <a:xfrm>
              <a:off x="1359000" y="1600200"/>
              <a:ext cx="3139920" cy="23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Group 6"/>
          <p:cNvGrpSpPr/>
          <p:nvPr/>
        </p:nvGrpSpPr>
        <p:grpSpPr>
          <a:xfrm>
            <a:off x="1332000" y="4076640"/>
            <a:ext cx="3139920" cy="2354400"/>
            <a:chOff x="1332000" y="4076640"/>
            <a:chExt cx="3139920" cy="2354400"/>
          </a:xfrm>
        </p:grpSpPr>
        <p:pic>
          <p:nvPicPr>
            <p:cNvPr id="142" name="Picture 7" descr=""/>
            <p:cNvPicPr/>
            <p:nvPr/>
          </p:nvPicPr>
          <p:blipFill>
            <a:blip r:embed="rId2"/>
            <a:stretch/>
          </p:blipFill>
          <p:spPr>
            <a:xfrm>
              <a:off x="1332000" y="4076640"/>
              <a:ext cx="313992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8"/>
            <p:cNvSpPr/>
            <p:nvPr/>
          </p:nvSpPr>
          <p:spPr>
            <a:xfrm>
              <a:off x="1332000" y="4076640"/>
              <a:ext cx="3139920" cy="23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аспорт музе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музе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Школьный музей  русского быт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а образова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тябрь 2007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ем образован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ческим и ученическим коллективом МОУ средней общеобразовательной школы №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экспонат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6 г. - 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7 г. - 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8 г. - 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9 г. -1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рес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Зарайск Московской области, ул. К. Маркса, д. 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ткрытие музея на филиале школ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69744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ервые экскурс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427640" y="3357720"/>
            <a:ext cx="4465440" cy="301464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3"/>
          <p:cNvGrpSpPr/>
          <p:nvPr/>
        </p:nvGrpSpPr>
        <p:grpSpPr>
          <a:xfrm>
            <a:off x="468360" y="1197000"/>
            <a:ext cx="4425840" cy="3106800"/>
            <a:chOff x="468360" y="1197000"/>
            <a:chExt cx="4425840" cy="3106800"/>
          </a:xfrm>
        </p:grpSpPr>
        <p:pic>
          <p:nvPicPr>
            <p:cNvPr id="152" name="Picture 4" descr=""/>
            <p:cNvPicPr/>
            <p:nvPr/>
          </p:nvPicPr>
          <p:blipFill>
            <a:blip r:embed="rId2"/>
            <a:stretch/>
          </p:blipFill>
          <p:spPr>
            <a:xfrm>
              <a:off x="468360" y="1197000"/>
              <a:ext cx="4425840" cy="31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5"/>
            <p:cNvSpPr/>
            <p:nvPr/>
          </p:nvSpPr>
          <p:spPr>
            <a:xfrm>
              <a:off x="468360" y="1197000"/>
              <a:ext cx="4425840" cy="31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Arial"/>
              </a:rPr>
              <a:t>Музей перееха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2"/>
          <p:cNvGrpSpPr/>
          <p:nvPr/>
        </p:nvGrpSpPr>
        <p:grpSpPr>
          <a:xfrm>
            <a:off x="539640" y="1628640"/>
            <a:ext cx="4030920" cy="3022560"/>
            <a:chOff x="539640" y="1628640"/>
            <a:chExt cx="4030920" cy="3022560"/>
          </a:xfrm>
        </p:grpSpPr>
        <p:pic>
          <p:nvPicPr>
            <p:cNvPr id="156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403092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4"/>
            <p:cNvSpPr/>
            <p:nvPr/>
          </p:nvSpPr>
          <p:spPr>
            <a:xfrm>
              <a:off x="539640" y="1628640"/>
              <a:ext cx="4030920" cy="30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5"/>
          <p:cNvGrpSpPr/>
          <p:nvPr/>
        </p:nvGrpSpPr>
        <p:grpSpPr>
          <a:xfrm>
            <a:off x="4572000" y="3500280"/>
            <a:ext cx="4095720" cy="3071880"/>
            <a:chOff x="4572000" y="3500280"/>
            <a:chExt cx="4095720" cy="3071880"/>
          </a:xfrm>
        </p:grpSpPr>
        <p:pic>
          <p:nvPicPr>
            <p:cNvPr id="159" name="Picture 6" descr=""/>
            <p:cNvPicPr/>
            <p:nvPr/>
          </p:nvPicPr>
          <p:blipFill>
            <a:blip r:embed="rId2"/>
            <a:stretch/>
          </p:blipFill>
          <p:spPr>
            <a:xfrm>
              <a:off x="4572000" y="3500280"/>
              <a:ext cx="4095720" cy="30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7"/>
            <p:cNvSpPr/>
            <p:nvPr/>
          </p:nvSpPr>
          <p:spPr>
            <a:xfrm>
              <a:off x="4572000" y="3500280"/>
              <a:ext cx="4095720" cy="30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Arial"/>
              </a:rPr>
              <a:t>Уроки в музе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179280" y="1557360"/>
            <a:ext cx="4103640" cy="3076560"/>
            <a:chOff x="179280" y="1557360"/>
            <a:chExt cx="4103640" cy="307656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179280" y="1557360"/>
              <a:ext cx="4103640" cy="30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179280" y="1557360"/>
              <a:ext cx="4103640" cy="30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4427640" y="3068640"/>
            <a:ext cx="4456080" cy="3341520"/>
            <a:chOff x="4427640" y="3068640"/>
            <a:chExt cx="4456080" cy="3341520"/>
          </a:xfrm>
        </p:grpSpPr>
        <p:pic>
          <p:nvPicPr>
            <p:cNvPr id="166" name="Picture 6" descr=""/>
            <p:cNvPicPr/>
            <p:nvPr/>
          </p:nvPicPr>
          <p:blipFill>
            <a:blip r:embed="rId2"/>
            <a:stretch/>
          </p:blipFill>
          <p:spPr>
            <a:xfrm>
              <a:off x="4427640" y="3068640"/>
              <a:ext cx="4456080" cy="33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7"/>
            <p:cNvSpPr/>
            <p:nvPr/>
          </p:nvSpPr>
          <p:spPr>
            <a:xfrm>
              <a:off x="4427640" y="3068640"/>
              <a:ext cx="4456080" cy="33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Arial"/>
              </a:rPr>
              <a:t>Уроки в музе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4643280" y="3429000"/>
            <a:ext cx="4102200" cy="3076560"/>
            <a:chOff x="4643280" y="3429000"/>
            <a:chExt cx="4102200" cy="3076560"/>
          </a:xfrm>
        </p:grpSpPr>
        <p:pic>
          <p:nvPicPr>
            <p:cNvPr id="170" name="Picture 3" descr=""/>
            <p:cNvPicPr/>
            <p:nvPr/>
          </p:nvPicPr>
          <p:blipFill>
            <a:blip r:embed="rId1"/>
            <a:stretch/>
          </p:blipFill>
          <p:spPr>
            <a:xfrm>
              <a:off x="4643280" y="3429000"/>
              <a:ext cx="4102200" cy="30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4"/>
            <p:cNvSpPr/>
            <p:nvPr/>
          </p:nvSpPr>
          <p:spPr>
            <a:xfrm>
              <a:off x="4643280" y="3429000"/>
              <a:ext cx="4102200" cy="30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5"/>
          <p:cNvGrpSpPr/>
          <p:nvPr/>
        </p:nvGrpSpPr>
        <p:grpSpPr>
          <a:xfrm>
            <a:off x="179280" y="1557360"/>
            <a:ext cx="4257720" cy="3192480"/>
            <a:chOff x="179280" y="1557360"/>
            <a:chExt cx="4257720" cy="3192480"/>
          </a:xfrm>
        </p:grpSpPr>
        <p:pic>
          <p:nvPicPr>
            <p:cNvPr id="173" name="Picture 6" descr=""/>
            <p:cNvPicPr/>
            <p:nvPr/>
          </p:nvPicPr>
          <p:blipFill>
            <a:blip r:embed="rId2"/>
            <a:stretch/>
          </p:blipFill>
          <p:spPr>
            <a:xfrm>
              <a:off x="179280" y="1557360"/>
              <a:ext cx="4257720" cy="31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7"/>
            <p:cNvSpPr/>
            <p:nvPr/>
          </p:nvSpPr>
          <p:spPr>
            <a:xfrm>
              <a:off x="179280" y="1557360"/>
              <a:ext cx="4257720" cy="31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914400" y="223920"/>
            <a:ext cx="77724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дготовка к работе над проектом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проблемы и значения музея в жизни шко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ание цели про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а конкретных задач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методов реализации про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проекта музе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старинного русского быта, обычаев и традиций русского на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Цели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е обобщения изученного ранее краеведческого и исторического материала расширять представления детей о жизни русского народа, его обычаях, традициях, уклад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оценивать значимость исторического прошлого для настоящего поко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формированию у младших школьников патриотических и гражданских чув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ектные задач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старинного русского бы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познавательной и творческой деятельности (интеллектуальный поис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социального опыта 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ие ими русских традиций, обычае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нравственного отношения к родному краю, к историческому наслед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то работал над проектом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ь проект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ичева Ольга Евгеньев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и творческих групп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ютина Светлана Анатольев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кова Татьяна Алексеев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и 3 и 4 классов МОУ средней общеобразовательной школы № 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мы работали над проект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971640" y="1555920"/>
            <a:ext cx="7270560" cy="4875120"/>
            <a:chOff x="971640" y="1555920"/>
            <a:chExt cx="7270560" cy="4875120"/>
          </a:xfrm>
        </p:grpSpPr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>
              <a:off x="971640" y="1555920"/>
              <a:ext cx="7270560" cy="48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971640" y="1555920"/>
              <a:ext cx="7270560" cy="48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одготовительный этап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уроках мы часто встречали упоминания о старинных неизвестных нам предметах. Учителя показывали нам их на картинках, объясняли на словах их назначение. Мы решили собрать старинные вещи у себя в школе и организовать музей русского быта для более близкого знакомства со старыми вещами, предметами обихода, чтобы лучше представлять себе, как жили русские люди, их обычаи и традиции и чтобы сохранить эти вещи для будущих учеников наше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разделились на группы. Каждая группа получила своё зад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 участникам проекта было поручено принести для музея старые предметы быта и узнать их название и назна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оисковый этап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1359000" y="3941640"/>
            <a:ext cx="2917800" cy="2187720"/>
            <a:chOff x="1359000" y="3941640"/>
            <a:chExt cx="2917800" cy="2187720"/>
          </a:xfrm>
        </p:grpSpPr>
        <p:pic>
          <p:nvPicPr>
            <p:cNvPr id="115" name="Picture 3" descr=""/>
            <p:cNvPicPr/>
            <p:nvPr/>
          </p:nvPicPr>
          <p:blipFill>
            <a:blip r:embed="rId1"/>
            <a:stretch/>
          </p:blipFill>
          <p:spPr>
            <a:xfrm>
              <a:off x="1359000" y="3941640"/>
              <a:ext cx="29178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4"/>
            <p:cNvSpPr/>
            <p:nvPr/>
          </p:nvSpPr>
          <p:spPr>
            <a:xfrm>
              <a:off x="1359000" y="3941640"/>
              <a:ext cx="2917800" cy="21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Text Box 5"/>
          <p:cNvSpPr/>
          <p:nvPr/>
        </p:nvSpPr>
        <p:spPr>
          <a:xfrm>
            <a:off x="487692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едметов быта, их назначения, правил поль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1359000" y="1600200"/>
            <a:ext cx="2917800" cy="2187720"/>
            <a:chOff x="1359000" y="1600200"/>
            <a:chExt cx="2917800" cy="2187720"/>
          </a:xfrm>
        </p:grpSpPr>
        <p:pic>
          <p:nvPicPr>
            <p:cNvPr id="119" name="Picture 7" descr=""/>
            <p:cNvPicPr/>
            <p:nvPr/>
          </p:nvPicPr>
          <p:blipFill>
            <a:blip r:embed="rId2"/>
            <a:stretch/>
          </p:blipFill>
          <p:spPr>
            <a:xfrm>
              <a:off x="1359000" y="1600200"/>
              <a:ext cx="29178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8"/>
            <p:cNvSpPr/>
            <p:nvPr/>
          </p:nvSpPr>
          <p:spPr>
            <a:xfrm>
              <a:off x="1359000" y="1600200"/>
              <a:ext cx="2917800" cy="21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Сбор и анализ информаци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914400" y="1600200"/>
            <a:ext cx="77724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Первая группа,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посетила библиотеку и вернулась оттуда книгам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4716360" y="3014640"/>
            <a:ext cx="3998880" cy="2997360"/>
            <a:chOff x="4716360" y="3014640"/>
            <a:chExt cx="3998880" cy="2997360"/>
          </a:xfrm>
        </p:grpSpPr>
        <p:pic>
          <p:nvPicPr>
            <p:cNvPr id="124" name="Picture 4" descr=""/>
            <p:cNvPicPr/>
            <p:nvPr/>
          </p:nvPicPr>
          <p:blipFill>
            <a:blip r:embed="rId1"/>
            <a:stretch/>
          </p:blipFill>
          <p:spPr>
            <a:xfrm>
              <a:off x="4716360" y="3014640"/>
              <a:ext cx="399888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/>
            <p:cNvSpPr/>
            <p:nvPr/>
          </p:nvSpPr>
          <p:spPr>
            <a:xfrm>
              <a:off x="4716360" y="3014640"/>
              <a:ext cx="3998880" cy="29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6"/>
          <p:cNvGrpSpPr/>
          <p:nvPr/>
        </p:nvGrpSpPr>
        <p:grpSpPr>
          <a:xfrm>
            <a:off x="395280" y="3014640"/>
            <a:ext cx="4030560" cy="3021120"/>
            <a:chOff x="395280" y="3014640"/>
            <a:chExt cx="4030560" cy="3021120"/>
          </a:xfrm>
        </p:grpSpPr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395280" y="3014640"/>
              <a:ext cx="4030560" cy="30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/>
            <p:cNvSpPr/>
            <p:nvPr/>
          </p:nvSpPr>
          <p:spPr>
            <a:xfrm>
              <a:off x="395280" y="3014640"/>
              <a:ext cx="4030560" cy="30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1:46:33Z</dcterms:created>
  <dc:creator>а</dc:creator>
  <dc:description/>
  <dc:language>en-US</dc:language>
  <cp:lastModifiedBy>Admin</cp:lastModifiedBy>
  <dcterms:modified xsi:type="dcterms:W3CDTF">2010-12-22T16:26:50Z</dcterms:modified>
  <cp:revision>11</cp:revision>
  <dc:subject/>
  <dc:title>«Школьный музей русского быта».</dc:title>
</cp:coreProperties>
</file>