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5C8-20C5-4B90-B0C2-8C64E590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326-D17B-44C4-8F47-1BC23DB1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8A0-590C-456D-A19D-B8895C0E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F99-6312-4019-BFCE-879D9DE1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2E4F-447B-4087-81EA-21952806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CB31-4C98-4780-8862-A5B653E1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4C0E-5BCF-4675-A4DD-5581B06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F09E-16AE-4E66-9A77-DC8FFA71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EFCC-7EDE-49A7-9FD0-7998D44D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1D48-D368-4C91-909A-9B4BA862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BCF0-B4EB-4359-AEA5-3210C6B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A32-0FAB-4D37-A4A1-10EF09BE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5263-90CF-45CF-98FF-190D74C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FA7A-C5B9-4C13-A751-A651324A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83C4-95E6-4C08-A183-98C48398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6F60-3ED5-4C34-AB05-F9250541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F693-0EAA-4BE8-BD2A-7905B175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7EC-25C7-4C01-A012-1E151C1C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741-F3C5-49DA-B02B-FD65BC7D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629-7D0C-48CA-8012-C63AF4C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47B-1EFA-4CE8-99C5-3F393653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B22-BC3E-4F7E-92AD-08725BD3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6A1-D01F-4112-ABA0-39EE456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A86-E633-48E5-BD91-8C4E6F72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85A5-9090-4331-B4C1-1A16F5B5AE1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FDE5-B00C-4050-AA1B-E33F82912EA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3708360" y="6093000"/>
            <a:ext cx="1830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 класс</a:t>
            </a:r>
            <a:endParaRPr b="1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612560" y="4046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2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539640" y="2637000"/>
            <a:ext cx="58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емейн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252360" y="907920"/>
            <a:ext cx="22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рачный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договор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700360" y="692280"/>
            <a:ext cx="63374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оглашение, определяющее имуществен-ные права и обязанности супругов в браке или в случае его расторж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33000" y="2637000"/>
            <a:ext cx="851076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В брачном договоре указываются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способы участия каждого из супругов в доходах друг друг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порядок несения семейных расходов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имущество отходящее супругам в случае развод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293400" y="4392720"/>
            <a:ext cx="8613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Брачный договор не может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ограничивать правоспособность и дееспособность супругов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регулировать личные неимущественные прав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ставить одного из супругов в неблагоприятные отнош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267840" y="1844640"/>
            <a:ext cx="861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меняет установленный законом режим общей совместной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76040" y="5950080"/>
            <a:ext cx="87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екращается с момента прекращения брака, после исполн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всех положени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Права и обязанности родителей и дете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538200" y="900000"/>
            <a:ext cx="266544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тановлени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оисхождения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тей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467160" y="801720"/>
            <a:ext cx="53164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ец и мать состоящие в браке зап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ываются родителями по заявлени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юбого из них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2050920" y="2133720"/>
            <a:ext cx="4791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Мать не состоит в брак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85040" y="2421000"/>
            <a:ext cx="88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если нет совместного заявления родителей, или решения суд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становлении отцовства, записывается фамилия матери, а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я и отчество - по ее указани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612720" y="3573360"/>
            <a:ext cx="7991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оисхождение ребенка от матер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59560" y="3963960"/>
            <a:ext cx="866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авливается органом ЗАГСа на основании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кументов медицинского учреждени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и рождении вне медицинского учреждения - на основан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казаний свидетеле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WordArt 9"/>
          <p:cNvSpPr txBox="1"/>
          <p:nvPr/>
        </p:nvSpPr>
        <p:spPr>
          <a:xfrm>
            <a:off x="612720" y="5486400"/>
            <a:ext cx="7991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оисхождение ребенка от отц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8360" y="57754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цом признается супруг,бывший супруг,если не доказано иное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если не состоит в браке - на основании совместного заявл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Права и обязанности родителей и дете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44360" y="1150920"/>
            <a:ext cx="320364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несовершеннолетних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тей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466800" y="1052640"/>
            <a:ext cx="55436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ебенок имеет право жить и воспиты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аться в семье, право на общение с р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ителями, бабушками, дедушкам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68280" y="2854440"/>
            <a:ext cx="8439120" cy="33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Ребенок имеет право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а защиту своих прав и законных интересов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а защиту от злоупотреблений со стороны родителей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выражать свое мнение, которое учитываетс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аво на получение содержания от своих родителей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аво собственности на доходы, наследство и т.д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имеет права на собственность на имущество родителей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ак же как и они не имеют права собственности на его иму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щество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Права и обязанности родителей и дете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30320" y="1557360"/>
            <a:ext cx="2340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 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бязанност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одителей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612880" y="811080"/>
            <a:ext cx="635184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одители имеют равные права и несут рав-ные обязанности в отношении своих дете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ни обязаны воспитывать своих детей, обеспечить получение ими образова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одители - законные представители своих дете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09080" y="314172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вопросы с воспитанием детей родители решают совместно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ли возникают разногласия-вправе обратиться в орган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еки или су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51200" y="4292640"/>
            <a:ext cx="89146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место жительства детей при раздельном проживании родит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й устанавливается соглашением родителей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родитель проживающий отдельно от ребенка, имеет право н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ние с ним, участие в его образовании и воспитании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едушка, бабушка, братья сестры и другие родственники им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т право на общение с ребенк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130320" y="836640"/>
            <a:ext cx="2340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лишени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одительских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12880" y="652320"/>
            <a:ext cx="63518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исходит по основаниям, предусмотренным законом (ст.69 СК РФ) и только в судебном порядк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01960" y="1736640"/>
            <a:ext cx="87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и лишенные родительских прав теряют все права н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новании родства с ребенком, но не освобождаются от своих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язанносте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23200" y="2852640"/>
            <a:ext cx="872136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д может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осстановить родителей в правах, если они изменили образ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зни и отношение к воспитанию ребенк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обрать ребенка у одного из родителей без лишения родит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ских прав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ограничение родительских прав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лица, родительские права которых ограничены утрачиваю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 на личное воспитание ребенка, а также право на льг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 и государственные пособ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ассмотрении в суде дел должен бвть привлечен орган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печительства и опек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Права и обязанности родителей и дете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Алиментные обязатель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44360" y="692280"/>
            <a:ext cx="882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Родители обязаны содержать своих несовершеннослетних детей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81320" y="9507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 противном случае взыскиваются алименты в судебн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13000" y="1790640"/>
            <a:ext cx="815112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орядок взыскания алиментов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размер алиментов определяется по взаимному согласию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Если соглашение не достигнуто - взыскивается судо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один ребенок - 25 % от доходов (ежемесячно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два ребенка – 33%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три и более – 5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3200" y="4119480"/>
            <a:ext cx="88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мер алиментов может быть изменен в зависимости от мат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иального положения родителей. Алименты могут быть уста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вленны в твердой денежной сумм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179280" y="5300640"/>
            <a:ext cx="882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Трудоспособные совершеннолетние дети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обязаны содержать своих нетрудоспособных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56320" y="5991120"/>
            <a:ext cx="85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имеют права на содержание родители, лишенные родит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ских прав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Алиментные обязатель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44360" y="692280"/>
            <a:ext cx="882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упруги обязаны материально поддерживать друг друга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81320" y="9507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 противном случае взыскиваются алименты в судебн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98160" y="1773360"/>
            <a:ext cx="830808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раво на получение алиментов имеют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етрудоспособный нуждающийся супруг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жена, в период беременности и в течение 3 лет с момент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ождения ребенк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нуждающийся супруг, осуществляющий уход за ребенк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нвалид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37600" y="4149720"/>
            <a:ext cx="87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мер алиментов определяется добровольно, или в судебн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 в твердой денежной сумм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236160" y="5049720"/>
            <a:ext cx="871956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 на содержание могут иметь нетрудоспособные бабуш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и и дедушки, сестры и братья, внуки, усыновители и факт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ские воспитатели. Размер содержание устанавливается 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дой денежной сумм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400" y="2131920"/>
            <a:ext cx="8697960" cy="367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1.Понятие семейного пра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2.Права и обязанности супруг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3.Права и обязанности родителей и де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4.Алиментные обязатель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семейн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250920" y="1197000"/>
            <a:ext cx="187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семейно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о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385000" y="857160"/>
            <a:ext cx="65250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устанавливает условия, порядок, вступлен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брак, прекращения брака и признания его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действительным, регулирует личные не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ущественные и имущественные отнош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ежду членами семьи, определяет порядок и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ормы устройства в семью детей оставшихс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ез попечения родителе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544680" y="1998720"/>
            <a:ext cx="121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т.2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СК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40680" y="1700280"/>
            <a:ext cx="8992440" cy="3867480"/>
            <a:chOff x="40680" y="1700280"/>
            <a:chExt cx="8992440" cy="3867480"/>
          </a:xfrm>
        </p:grpSpPr>
        <p:sp>
          <p:nvSpPr>
            <p:cNvPr id="163" name="Text Box 11"/>
            <p:cNvSpPr/>
            <p:nvPr/>
          </p:nvSpPr>
          <p:spPr>
            <a:xfrm>
              <a:off x="40680" y="3645000"/>
              <a:ext cx="8992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егулирует в основном имущественные отношения, поэтому н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бладает существенными отличиями от гражданских правоот-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ношений, следовательно можно рассматривать как подотрасль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ражданского права, но традиционно выделяется в самостояте-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льную отрасль.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050920" y="1700280"/>
              <a:ext cx="0" cy="180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WordArt 14"/>
          <p:cNvSpPr txBox="1"/>
          <p:nvPr/>
        </p:nvSpPr>
        <p:spPr>
          <a:xfrm>
            <a:off x="468360" y="5877000"/>
            <a:ext cx="81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Относится к ведению РФ и субъектов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семейн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3635280" y="836640"/>
            <a:ext cx="187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сточник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семейного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179280" y="134604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емейный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кодекс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6516720" y="256536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Федеральны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закон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0" name="WordArt 12"/>
          <p:cNvSpPr txBox="1"/>
          <p:nvPr/>
        </p:nvSpPr>
        <p:spPr>
          <a:xfrm>
            <a:off x="6716880" y="134604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Impact"/>
              </a:rPr>
              <a:t>Закон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Impact"/>
              </a:rPr>
              <a:t>субъектов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1" name="WordArt 13"/>
          <p:cNvSpPr txBox="1"/>
          <p:nvPr/>
        </p:nvSpPr>
        <p:spPr>
          <a:xfrm>
            <a:off x="324000" y="2565360"/>
            <a:ext cx="22478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Impact"/>
              </a:rPr>
              <a:t>Международны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Impact"/>
              </a:rPr>
              <a:t>договор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73520" y="3860640"/>
            <a:ext cx="885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 «О защите прав человека и основных свобод»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ый пакт об экономических, социальных и куль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рных правах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ООН «О правах ребенка»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енция стран СНГ «О правовой помощи и правовых отн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ениях по гражданским, семейным и уголовным делам»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3068640" y="2565360"/>
            <a:ext cx="29512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Impact"/>
              </a:rPr>
              <a:t>Правовые акты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Impact"/>
              </a:rPr>
              <a:t>Правительства РФ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4" name="AutoShape 17"/>
          <p:cNvSpPr/>
          <p:nvPr/>
        </p:nvSpPr>
        <p:spPr>
          <a:xfrm>
            <a:off x="2340000" y="3068640"/>
            <a:ext cx="142920" cy="863640"/>
          </a:xfrm>
          <a:custGeom>
            <a:avLst/>
            <a:gdLst>
              <a:gd name="textAreaLeft" fmla="*/ 19080 w 142920"/>
              <a:gd name="textAreaRight" fmla="*/ 123840 w 14292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WordArt 3"/>
          <p:cNvSpPr txBox="1"/>
          <p:nvPr/>
        </p:nvSpPr>
        <p:spPr>
          <a:xfrm>
            <a:off x="250920" y="98100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Личны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180160" y="110016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гулируются в ограниченных масштабах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2590920" y="1851120"/>
            <a:ext cx="9712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К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ст.31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17080" y="191628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венство супруг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22840" y="2492280"/>
            <a:ext cx="874404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-право на свободу в выборе рода занятий, профессии, мес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ебывания и жительств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-совместное решение вопросов материнства, отцовства, во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итания, образования детей и других вопросов жизни семьи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-обязанность строить свои отношения в семье на основе вза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оуважения и взаимопомощ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481040" y="4869000"/>
            <a:ext cx="61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упруги не обязаны проживать совместно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97000" y="5445000"/>
            <a:ext cx="8562600" cy="119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анкции за нарушение этих прав не следуют, следовательн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зможно лишь расторжение брака.(Но возможно уголовно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казание, или материальные санкции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50920" y="116208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Личны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51200" y="946080"/>
            <a:ext cx="690300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 личным неимущественным правам также от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осятся-выбор фамилии(общая, сохранение св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ей, двойная-если одна уже не была двойной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25360" y="3284640"/>
            <a:ext cx="876096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мена фамилии одним из супругов не влечет автоматическо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мены фамилии у другого супруг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13200" y="2297160"/>
            <a:ext cx="846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мена фамилии после регистрации брака возможна лишь 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тветствии с Законом об актах гражданского состоя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13"/>
          <p:cNvSpPr txBox="1"/>
          <p:nvPr/>
        </p:nvSpPr>
        <p:spPr>
          <a:xfrm>
            <a:off x="431640" y="4437000"/>
            <a:ext cx="824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 расторжении брак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89600" y="5013360"/>
            <a:ext cx="81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прос о фамилии решается самостоятельно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охранение общей фамилии (согласие другого супруга н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уетс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озвращение добрачной фамили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250920" y="1109520"/>
            <a:ext cx="295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ущественны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492360" y="836640"/>
            <a:ext cx="54723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емейное право регулирует режим общей собственности, нажитой суп-ругами во время брак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3160" y="2716200"/>
            <a:ext cx="879300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доходы каждого из супругов от трудовой, предприниматель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ой, интеллектуальной деятельности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енсии, пособия, и иные денежные выплаты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движимые и недвижимые вещи, ценные бумаги, паи, вклад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 др., приобретенные за счет общих доходов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(не имеет значения на чьё имя оформлено и кем приобретено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щим собственником признается даже не работающий су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уг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WordArt 9"/>
          <p:cNvSpPr txBox="1"/>
          <p:nvPr/>
        </p:nvSpPr>
        <p:spPr>
          <a:xfrm>
            <a:off x="1403280" y="2276640"/>
            <a:ext cx="64389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Общее совместное имущество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5" name="WordArt 10"/>
          <p:cNvSpPr txBox="1"/>
          <p:nvPr/>
        </p:nvSpPr>
        <p:spPr>
          <a:xfrm>
            <a:off x="108000" y="616572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упруги имеют равные права на общее имущество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71280" y="350028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упруги могут иметь и собственное имущество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89640" y="549360"/>
            <a:ext cx="9013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и совершении сделки с общим имуществом, предполагаетс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о он действует с согласия другого супруг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лучае совершения сделки с особо важным для семьи иму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еством (дом), требуется нотариальная регистрация соглас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торого супруг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делка может быть аннулирована, если второй супруг предо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вил доказательства о том, что вторая сторона сделки завед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 знала о несогласии одного из супругов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65680" y="3933720"/>
            <a:ext cx="86526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-имущество принадлежавшее до брак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-полученное в дар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-наследство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-награды и премии не предусмотренные системой оплат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руда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-вещи индивидуального пользования(за исключением драг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ценностей и предметов роскоши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79280" y="836640"/>
            <a:ext cx="22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Раздел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овместного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муществ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700360" y="765000"/>
            <a:ext cx="6337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к в период брака, так и после его растор-ж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1224000" y="1676520"/>
            <a:ext cx="1760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добровольно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5502240" y="1674720"/>
            <a:ext cx="262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в судебном порядке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36880" y="1916280"/>
            <a:ext cx="37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лежит нотариальном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достоверени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885200" y="19162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ли нет согласи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яется размер доли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45240" y="2781360"/>
            <a:ext cx="8453160" cy="119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ещи, приобретенные для удовлетворения потребносте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етей разделу не подлежат и передаются супругу с которы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живают дет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83520" y="3933720"/>
            <a:ext cx="89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 требованиям супругов о разделе имущества применяется 3-х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тний срок исковой давност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00160" y="4724280"/>
            <a:ext cx="8793000" cy="1922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и разделе имущество доли супругов признаются равным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(доля может быть изменена, в пользу супруга у которого оста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ются дети, или уменьшена если супруг не получал доходов п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уважительной причине, либо расходовал общее имущество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ущерб интересам семь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Юляшка</cp:lastModifiedBy>
  <dcterms:modified xsi:type="dcterms:W3CDTF">2010-12-11T04:32:00Z</dcterms:modified>
  <cp:revision>36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