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A73-9CB1-4FE2-A926-06FABE8F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F88-1A12-4FAD-9ACE-AF901F62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9E5-C57D-42CD-B20B-945AA953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A065-8988-4852-AC0F-0FD70CBF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F078-838C-464D-85F3-EEAB6137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3E7-596C-4951-A93D-434AEB28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0EA9-E309-482F-AC43-09E82BEA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009A-7C32-4CF1-AA38-0088352E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75CC-DF24-4BD4-9A73-D17670B7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8AD1-9ED7-49B0-9F84-6CA1D6E1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9C8-65A2-45EA-8F80-482DE0E1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2B6-B0FB-47F7-86D8-18527C00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BBA7-BE09-4075-B23F-D037FC79D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00cc"/>
                </a:solidFill>
                <a:latin typeface="Comic Sans MS"/>
              </a:rPr>
              <a:t>Was machen die Kinder im Win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160" y="495252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Comic Sans MS"/>
              </a:rPr>
              <a:t>Die Kinder </a:t>
            </a:r>
            <a:r>
              <a:rPr b="1" lang="de-DE" sz="3200" spc="-1" strike="noStrike">
                <a:solidFill>
                  <a:srgbClr val="ff3300"/>
                </a:solidFill>
                <a:latin typeface="Comic Sans MS"/>
              </a:rPr>
              <a:t>rodel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9677"/>
          <a:stretch/>
        </p:blipFill>
        <p:spPr>
          <a:xfrm>
            <a:off x="2438280" y="1828800"/>
            <a:ext cx="411480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676520" y="4343040"/>
            <a:ext cx="71625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Comic Sans MS"/>
              </a:rPr>
              <a:t>Das Kind </a:t>
            </a:r>
            <a:r>
              <a:rPr b="1" lang="de-DE" sz="3200" spc="-1" strike="noStrike">
                <a:solidFill>
                  <a:srgbClr val="ff3300"/>
                </a:solidFill>
                <a:latin typeface="Comic Sans MS"/>
              </a:rPr>
              <a:t>läuft Schi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/</a:t>
            </a:r>
            <a:r>
              <a:rPr b="1" lang="de-DE" sz="3200" spc="-1" strike="noStrike">
                <a:solidFill>
                  <a:srgbClr val="ff3300"/>
                </a:solidFill>
                <a:latin typeface="Comic Sans MS"/>
              </a:rPr>
              <a:t>Ski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00400" y="380880"/>
            <a:ext cx="35575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47920" y="44956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Comic Sans MS"/>
              </a:rPr>
              <a:t>Die Kinder</a:t>
            </a: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3200" spc="-1" strike="noStrike">
                <a:solidFill>
                  <a:srgbClr val="ff3300"/>
                </a:solidFill>
                <a:latin typeface="Comic Sans MS"/>
              </a:rPr>
              <a:t>laufen Schlittschu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0" r="0" b="6850"/>
          <a:stretch/>
        </p:blipFill>
        <p:spPr>
          <a:xfrm>
            <a:off x="3124080" y="609480"/>
            <a:ext cx="41148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lang="de-DE" sz="3200" spc="-1" strike="noStrike">
                <a:solidFill>
                  <a:srgbClr val="0000ff"/>
                </a:solidFill>
                <a:latin typeface="Comic Sans MS"/>
              </a:rPr>
              <a:t>Der Junge </a:t>
            </a:r>
            <a:r>
              <a:rPr b="1" lang="de-DE" sz="3200" spc="-1" strike="noStrike">
                <a:solidFill>
                  <a:srgbClr val="ff3300"/>
                </a:solidFill>
                <a:latin typeface="Comic Sans MS"/>
              </a:rPr>
              <a:t>spielt Hoc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36576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26672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Comic Sans MS"/>
              </a:rPr>
              <a:t>Das Mädchen </a:t>
            </a:r>
            <a:r>
              <a:rPr b="1" lang="de-DE" sz="3200" spc="-1" strike="noStrike">
                <a:solidFill>
                  <a:srgbClr val="ff3300"/>
                </a:solidFill>
                <a:latin typeface="Comic Sans MS"/>
              </a:rPr>
              <a:t>baut einen Schneeman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7023"/>
          <a:stretch/>
        </p:blipFill>
        <p:spPr>
          <a:xfrm>
            <a:off x="2743200" y="228600"/>
            <a:ext cx="41148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240" y="4647960"/>
            <a:ext cx="84582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Comic Sans MS"/>
              </a:rPr>
              <a:t>Das Kind </a:t>
            </a:r>
            <a:r>
              <a:rPr b="1" lang="de-DE" sz="3200" spc="-1" strike="noStrike">
                <a:solidFill>
                  <a:srgbClr val="ff3300"/>
                </a:solidFill>
                <a:latin typeface="Comic Sans MS"/>
              </a:rPr>
              <a:t>macht eine Schneeballschla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0" b="7500"/>
          <a:stretch/>
        </p:blipFill>
        <p:spPr>
          <a:xfrm>
            <a:off x="2819520" y="152280"/>
            <a:ext cx="3547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9677"/>
          <a:stretch/>
        </p:blipFill>
        <p:spPr>
          <a:xfrm>
            <a:off x="457200" y="1295280"/>
            <a:ext cx="1981080" cy="163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1741320" cy="1752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0" r="0" b="6850"/>
          <a:stretch/>
        </p:blipFill>
        <p:spPr>
          <a:xfrm>
            <a:off x="3429000" y="4114800"/>
            <a:ext cx="2133720" cy="1800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600cc"/>
                </a:solidFill>
                <a:latin typeface="Comic Sans MS"/>
              </a:rPr>
              <a:t>Was passt</a:t>
            </a:r>
            <a:r>
              <a:rPr b="1" lang="ru-RU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de-DE" sz="3200" spc="-1" strike="noStrike">
                <a:solidFill>
                  <a:srgbClr val="6600cc"/>
                </a:solidFill>
                <a:latin typeface="Comic Sans MS"/>
              </a:rPr>
              <a:t>zusam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809880" y="1295280"/>
            <a:ext cx="186696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rcRect l="0" t="0" r="0" b="7023"/>
          <a:stretch/>
        </p:blipFill>
        <p:spPr>
          <a:xfrm>
            <a:off x="6705720" y="4038480"/>
            <a:ext cx="1981080" cy="1774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rcRect l="0" t="0" r="0" b="7500"/>
          <a:stretch/>
        </p:blipFill>
        <p:spPr>
          <a:xfrm>
            <a:off x="6858000" y="1066680"/>
            <a:ext cx="1741320" cy="1981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105520" y="2362320"/>
            <a:ext cx="228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1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5257800"/>
            <a:ext cx="218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2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010280" y="1752480"/>
            <a:ext cx="228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3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9880" y="5029200"/>
            <a:ext cx="304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4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14400" y="1600200"/>
            <a:ext cx="228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5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458200" y="4952880"/>
            <a:ext cx="266760" cy="5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6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86200" y="5867280"/>
            <a:ext cx="17524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) Schi laufe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6200" y="3276720"/>
            <a:ext cx="106668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b) rodel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2971800"/>
            <a:ext cx="3353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c) einen Schneemann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baue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5867280"/>
            <a:ext cx="2114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d) Hockey spiele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324480" y="5943600"/>
            <a:ext cx="24955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) Schlittschuh laufe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248440" y="3048120"/>
            <a:ext cx="389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f) eine Schneeballschlacht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mache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1-01-10T12:29:1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