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335-5637-4EE0-AD58-32F74911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089-BE57-4BA8-9A46-8782E360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23F-E960-4A37-8743-5DFADB90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509-3B65-4313-9512-F261B704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1E3-4347-43F3-A255-AACF7E19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B2D-500C-42B1-A754-6E6988F5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BCC-D628-442F-8D2D-B9F6EE1E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5FC-D596-4C5D-A6E8-7EFDD4F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6BA-17E0-4BF0-8908-B05E83BE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C17-5A29-4D70-9120-D95DD14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559-2273-472D-AF95-53839BED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A2C-7185-4161-ACEA-15410F0A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D575-1D95-4615-BD97-7A1F32721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76280"/>
            <a:ext cx="755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русского языка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324000" y="2205000"/>
            <a:ext cx="86407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Обобщение знаний о частях речи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755640" y="4149720"/>
            <a:ext cx="807732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ла учитель начальных классо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ихонова С.Г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ticket"/>
          <p:cNvPicPr/>
          <p:nvPr/>
        </p:nvPicPr>
        <p:blipFill>
          <a:blip r:embed="rId2"/>
          <a:stretch/>
        </p:blipFill>
        <p:spPr>
          <a:xfrm>
            <a:off x="2627280" y="189000"/>
            <a:ext cx="3714840" cy="400032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700360" y="4076640"/>
            <a:ext cx="392760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л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orig"/>
          <p:cNvPicPr/>
          <p:nvPr/>
        </p:nvPicPr>
        <p:blipFill>
          <a:blip r:embed="rId2"/>
          <a:stretch/>
        </p:blipFill>
        <p:spPr>
          <a:xfrm>
            <a:off x="1116000" y="836640"/>
            <a:ext cx="403236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5219640" y="2205000"/>
            <a:ext cx="352908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офё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4716360" y="2349360"/>
            <a:ext cx="3672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яг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6" descr="MC900426442[1]"/>
          <p:cNvPicPr/>
          <p:nvPr/>
        </p:nvPicPr>
        <p:blipFill>
          <a:blip r:embed="rId2"/>
          <a:stretch/>
        </p:blipFill>
        <p:spPr>
          <a:xfrm>
            <a:off x="684360" y="1557360"/>
            <a:ext cx="36716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ssian_flag"/>
          <p:cNvPicPr/>
          <p:nvPr/>
        </p:nvPicPr>
        <p:blipFill>
          <a:blip r:embed="rId2"/>
          <a:stretch/>
        </p:blipFill>
        <p:spPr>
          <a:xfrm>
            <a:off x="2771640" y="476280"/>
            <a:ext cx="400068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2195640" y="486900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auk1"/>
          <p:cNvPicPr/>
          <p:nvPr/>
        </p:nvPicPr>
        <p:blipFill>
          <a:blip r:embed="rId1"/>
          <a:stretch/>
        </p:blipFill>
        <p:spPr>
          <a:xfrm>
            <a:off x="1692360" y="2565360"/>
            <a:ext cx="5904000" cy="4292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395280" y="189000"/>
            <a:ext cx="8353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укцион Знаний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3000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b134e9305f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6"/>
          <p:cNvSpPr txBox="1"/>
          <p:nvPr/>
        </p:nvSpPr>
        <p:spPr>
          <a:xfrm>
            <a:off x="971640" y="2349360"/>
            <a:ext cx="72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я существительное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2195640" y="692280"/>
            <a:ext cx="410364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тов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53000"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39640" y="47628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льто, книг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508720" y="333360"/>
            <a:ext cx="28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о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468360" y="1844640"/>
            <a:ext cx="3029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бус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3851280" y="2060640"/>
            <a:ext cx="461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шка, ли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539640" y="3357720"/>
            <a:ext cx="48243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бака, коров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5651640" y="3357720"/>
            <a:ext cx="266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блок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539640" y="4941720"/>
            <a:ext cx="2892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жницы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3995640" y="494172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кан, дево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908000" y="260280"/>
            <a:ext cx="33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о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3" descr="029"/>
          <p:cNvPicPr/>
          <p:nvPr/>
        </p:nvPicPr>
        <p:blipFill>
          <a:blip r:embed="rId1"/>
          <a:stretch/>
        </p:blipFill>
        <p:spPr>
          <a:xfrm>
            <a:off x="5724360" y="0"/>
            <a:ext cx="187200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395280" y="184464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бу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835280" y="3429000"/>
            <a:ext cx="31669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блок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826920" y="5300640"/>
            <a:ext cx="3681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жн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7" descr="small_5050bondibon"/>
          <p:cNvPicPr/>
          <p:nvPr/>
        </p:nvPicPr>
        <p:blipFill>
          <a:blip r:embed="rId2"/>
          <a:stretch/>
        </p:blipFill>
        <p:spPr>
          <a:xfrm>
            <a:off x="4716360" y="1916280"/>
            <a:ext cx="2087640" cy="1104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fruits1"/>
          <p:cNvPicPr/>
          <p:nvPr/>
        </p:nvPicPr>
        <p:blipFill>
          <a:blip r:embed="rId3"/>
          <a:stretch/>
        </p:blipFill>
        <p:spPr>
          <a:xfrm>
            <a:off x="6443640" y="3213000"/>
            <a:ext cx="208764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images"/>
          <p:cNvPicPr/>
          <p:nvPr/>
        </p:nvPicPr>
        <p:blipFill>
          <a:blip r:embed="rId4"/>
          <a:stretch/>
        </p:blipFill>
        <p:spPr>
          <a:xfrm>
            <a:off x="4859280" y="522936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1042920" y="765000"/>
            <a:ext cx="2592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ян-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4427640" y="907920"/>
            <a:ext cx="2808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янист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1116000" y="2205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-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4500720" y="2349360"/>
            <a:ext cx="316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нт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4356000" y="3789360"/>
            <a:ext cx="2952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ч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1042920" y="3645000"/>
            <a:ext cx="2737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-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1116000" y="4941720"/>
            <a:ext cx="20876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уз-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0"/>
          <p:cNvSpPr txBox="1"/>
          <p:nvPr/>
        </p:nvSpPr>
        <p:spPr>
          <a:xfrm>
            <a:off x="4427640" y="508464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узчик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b134e9305f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1979640" y="2637000"/>
            <a:ext cx="475308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гол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2411280" y="1125360"/>
            <a:ext cx="3889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ов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53000"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лето"/>
          <p:cNvPicPr/>
          <p:nvPr/>
        </p:nvPicPr>
        <p:blipFill>
          <a:blip r:embed="rId1"/>
          <a:stretch/>
        </p:blipFill>
        <p:spPr>
          <a:xfrm>
            <a:off x="0" y="0"/>
            <a:ext cx="9144000" cy="7910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755640" y="189000"/>
            <a:ext cx="770400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равствуй, небо голубо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755640" y="1628640"/>
            <a:ext cx="763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равствуй, солнце золото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755640" y="2852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равствуй, матушка- земл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826920" y="4221000"/>
            <a:ext cx="756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равствуйте, мои друзь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2916360" y="0"/>
            <a:ext cx="284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6948360" y="2060640"/>
            <a:ext cx="1989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ом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179280" y="2349360"/>
            <a:ext cx="2521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6227640" y="5229360"/>
            <a:ext cx="254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тер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2916360" y="5734080"/>
            <a:ext cx="28080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324000" y="3716280"/>
            <a:ext cx="23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ег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250920" y="836640"/>
            <a:ext cx="25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лака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6335640" y="765000"/>
            <a:ext cx="280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ман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7056360" y="3645000"/>
            <a:ext cx="20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оз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179280" y="5084640"/>
            <a:ext cx="2287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ель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16" descr="осень"/>
          <p:cNvPicPr/>
          <p:nvPr/>
        </p:nvPicPr>
        <p:blipFill>
          <a:blip r:embed="rId1"/>
          <a:stretch/>
        </p:blipFill>
        <p:spPr>
          <a:xfrm>
            <a:off x="2843280" y="1413000"/>
            <a:ext cx="3517920" cy="38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1244369437_divchina"/>
          <p:cNvPicPr/>
          <p:nvPr/>
        </p:nvPicPr>
        <p:blipFill>
          <a:blip r:embed="rId1"/>
          <a:stretch/>
        </p:blipFill>
        <p:spPr>
          <a:xfrm>
            <a:off x="3635280" y="333360"/>
            <a:ext cx="165600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1244369606_malec"/>
          <p:cNvPicPr/>
          <p:nvPr/>
        </p:nvPicPr>
        <p:blipFill>
          <a:blip r:embed="rId2"/>
          <a:stretch/>
        </p:blipFill>
        <p:spPr>
          <a:xfrm>
            <a:off x="395280" y="1700280"/>
            <a:ext cx="1584360" cy="1360440"/>
          </a:xfrm>
          <a:prstGeom prst="rect">
            <a:avLst/>
          </a:prstGeom>
          <a:ln w="0">
            <a:noFill/>
          </a:ln>
        </p:spPr>
      </p:pic>
      <p:sp>
        <p:nvSpPr>
          <p:cNvPr id="123" name="WordArt 8"/>
          <p:cNvSpPr txBox="1"/>
          <p:nvPr/>
        </p:nvSpPr>
        <p:spPr>
          <a:xfrm>
            <a:off x="1332000" y="1916280"/>
            <a:ext cx="6264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Times New Roman"/>
              <a:ea typeface="Times New Roman"/>
            </a:endParaRPr>
          </a:p>
        </p:txBody>
      </p:sp>
      <p:pic>
        <p:nvPicPr>
          <p:cNvPr id="124" name="Picture 9" descr="1244369606_malec"/>
          <p:cNvPicPr/>
          <p:nvPr/>
        </p:nvPicPr>
        <p:blipFill>
          <a:blip r:embed="rId3"/>
          <a:stretch/>
        </p:blipFill>
        <p:spPr>
          <a:xfrm>
            <a:off x="6804000" y="177336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1244369437_divchina"/>
          <p:cNvPicPr/>
          <p:nvPr/>
        </p:nvPicPr>
        <p:blipFill>
          <a:blip r:embed="rId4"/>
          <a:stretch/>
        </p:blipFill>
        <p:spPr>
          <a:xfrm>
            <a:off x="3708360" y="465300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b134e9305f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4"/>
          <p:cNvSpPr txBox="1"/>
          <p:nvPr/>
        </p:nvSpPr>
        <p:spPr>
          <a:xfrm>
            <a:off x="1258920" y="270828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я прилагательное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771640" y="1125360"/>
            <a:ext cx="42483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тов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53000"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908000" y="189000"/>
            <a:ext cx="53294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бери пар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539640" y="1484280"/>
            <a:ext cx="324036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..  доро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539640" y="2781360"/>
            <a:ext cx="33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..   помид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4716360" y="1413000"/>
            <a:ext cx="3095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..  д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10"/>
          <p:cNvSpPr txBox="1"/>
          <p:nvPr/>
        </p:nvSpPr>
        <p:spPr>
          <a:xfrm>
            <a:off x="4643280" y="2708280"/>
            <a:ext cx="324180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.   мя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611280" y="4149720"/>
            <a:ext cx="30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.   кни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4643280" y="4076640"/>
            <a:ext cx="32418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.  солн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multik32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47841968_12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337440"/>
          </a:xfrm>
          <a:prstGeom prst="rect">
            <a:avLst/>
          </a:prstGeom>
          <a:ln w="0">
            <a:noFill/>
          </a:ln>
        </p:spPr>
      </p:pic>
      <p:sp>
        <p:nvSpPr>
          <p:cNvPr id="139" name="WordArt 7"/>
          <p:cNvSpPr txBox="1"/>
          <p:nvPr/>
        </p:nvSpPr>
        <p:spPr>
          <a:xfrm>
            <a:off x="5940360" y="1989000"/>
            <a:ext cx="295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хорошего насмтро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258646217_0l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042920" y="549360"/>
            <a:ext cx="6769080" cy="41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и речи все важны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и речи все нужн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foto_9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900000" y="4724280"/>
            <a:ext cx="7704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альчиковое упраж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b134e9305f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755640" y="162864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2195640" y="1052640"/>
            <a:ext cx="496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те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4" descr="2830"/>
          <p:cNvPicPr/>
          <p:nvPr/>
        </p:nvPicPr>
        <p:blipFill>
          <a:blip r:embed="rId2"/>
          <a:stretch/>
        </p:blipFill>
        <p:spPr>
          <a:xfrm>
            <a:off x="1908000" y="3068640"/>
            <a:ext cx="60487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aa1a57474e85c11579d8db110bc5c44"/>
          <p:cNvPicPr/>
          <p:nvPr/>
        </p:nvPicPr>
        <p:blipFill>
          <a:blip r:embed="rId2"/>
          <a:stretch/>
        </p:blipFill>
        <p:spPr>
          <a:xfrm>
            <a:off x="2268360" y="69228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1763640" y="4797360"/>
            <a:ext cx="518472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газ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1263916373"/>
          <p:cNvPicPr/>
          <p:nvPr/>
        </p:nvPicPr>
        <p:blipFill>
          <a:blip r:embed="rId2"/>
          <a:stretch/>
        </p:blipFill>
        <p:spPr>
          <a:xfrm>
            <a:off x="1763640" y="2349360"/>
            <a:ext cx="5977080" cy="41752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2124000" y="692280"/>
            <a:ext cx="5184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мв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53000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2:34:47Z</dcterms:created>
  <dc:creator>1</dc:creator>
  <dc:description/>
  <dc:language>en-US</dc:language>
  <cp:lastModifiedBy>Customer</cp:lastModifiedBy>
  <dcterms:modified xsi:type="dcterms:W3CDTF">2010-10-19T13:50:41Z</dcterms:modified>
  <cp:revision>10</cp:revision>
  <dc:subject/>
  <dc:title>Слайд 1</dc:title>
</cp:coreProperties>
</file>