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760-DFD3-4C20-86B5-71597B4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9F6-A15E-4D67-9C0A-2E0D937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658-0D35-47B3-AEF9-0FCC7098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35E-2AB2-4038-B294-0D39C5FF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6FEB-1E76-4B15-AEC9-4129614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1291-81F5-4029-8DCC-BCC5138D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FE7B-F830-4B0F-B79D-A08B6E3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2D5C-1BB6-4011-8987-4E57B67E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56B6-B32F-49F3-B93D-D0D35469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FD3C-43C5-4BDE-8959-FE15E046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0FB-3DFE-44FA-8A18-24104116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BF5-7962-4A07-9651-4884E01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46C9-BBCB-4A3D-A6C5-8C7955D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535D-6BB0-43C1-B197-868B363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4BDF-7C59-4D73-B102-A06B221C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223-C9AC-4F32-B272-45B81E19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F8B-9CCF-4789-8B6B-98A5D60B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527-98B0-45B9-BFD8-28EDDDE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84C-8A3E-4D36-B758-15D6A2FD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EF9-4697-4356-AE15-912548AF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447-A8AC-4ACB-83A1-CF251556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E9C-1F57-4361-9689-3E7C413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3CC-9980-4EE1-BB70-07826F2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895-7A38-4F37-A78C-93B7EC4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11AE-3E38-43D3-8FF7-5FDA0D66A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8A00-0E85-4716-B159-F3AF935E4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Җиләк-җимешләр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627200"/>
            <a:ext cx="5638680" cy="410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8800" y="556272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карбыз. – Это арбу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2309760"/>
            <a:ext cx="3276360" cy="251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5181480"/>
            <a:ext cx="43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анар. – Это гран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0" y="58197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алма. - Это ябло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267080" cy="319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5720" y="5334120"/>
            <a:ext cx="57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әфлисун. –Это апельс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3962520" cy="266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57913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лимон. – Это лим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0" y="548640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шәфталу. – Это прес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200400" cy="3189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5616720"/>
            <a:ext cx="54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армуд. – Это груш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2680" y="2905200"/>
            <a:ext cx="2971800" cy="24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5398920"/>
            <a:ext cx="61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 йөзем. – Это виногра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58960" y="5257800"/>
            <a:ext cx="78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 кура җиләге. – Это мали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 нәрсә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95480" y="2149560"/>
            <a:ext cx="3353040" cy="252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0280" y="5105520"/>
            <a:ext cx="61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 карлыган. - Это смороди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3-12-31T22:19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