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362-55D1-4B32-A9AE-2066BBDF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694-1472-483E-9224-4254C588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D5D-8D50-4620-9AD4-4E2EAC3C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370-824C-447A-BAD2-8CAC3698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1128-FFED-4F96-A4F9-0545A2F4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C7D-0877-434D-B60F-E94DDF6C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E4D1-3150-4D15-9C49-53E1620D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DEAD-4287-48FA-9E7E-57E0C890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D989-2A06-4C52-8195-673ECEFD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088F-EDF8-46FF-84DB-B759D95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9E72-508B-4C9F-B6B4-9DD7174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FBC-5963-432C-9713-8236DACF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000A-6E6B-4394-A664-66852E1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7763-0F00-46A8-9444-50F5D9D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E36-5EC2-42AB-A631-59D1F50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907F-01DB-4902-AC38-8A181067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E671-7A41-459B-B45A-2B1952AF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703-42AE-4491-ACAA-C4DFB5C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CB9-3ABA-4B23-A923-C93F438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A02-B7F3-4919-8E10-8D67CF5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18E-80F0-4167-9D32-CAD1B2D2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D12-5B81-445F-97B6-8ABC138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88E-05BD-42F2-BC1C-D826BA89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409-9111-4FB7-9C00-5BE277F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B23-FDF4-4D68-932E-23EF7EF05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E0EC-B447-457A-9BBD-7A26C1942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Җиләк-җимешләр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627200"/>
            <a:ext cx="5638680" cy="410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8800" y="556272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карбыз. – Это арбу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2309760"/>
            <a:ext cx="3276360" cy="251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5181480"/>
            <a:ext cx="43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анар. – Это гран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3429000" cy="281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0" y="58197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алма. - Это ябло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267080" cy="319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05720" y="5334120"/>
            <a:ext cx="57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әфлисун. –Это апельс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3962520" cy="2666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57913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лимон. – Это лим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0" y="548640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шәфталу. – Это прес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200400" cy="3189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5616720"/>
            <a:ext cx="54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армуд. – Это груш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52680" y="2905200"/>
            <a:ext cx="2971800" cy="245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71600" y="5398920"/>
            <a:ext cx="61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 йөзем. – Это виногра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58960" y="5257800"/>
            <a:ext cx="78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 кура җиләге. – Это мали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95480" y="2149560"/>
            <a:ext cx="3353040" cy="252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0280" y="5105520"/>
            <a:ext cx="61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карлыган. - Это смороди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3-12-31T22:19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