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5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2CFC-526B-4E34-BDF6-712AF246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0626-BE7C-4C3A-A09E-23779D65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4479A3-C7A2-4AB0-B1DF-58D15B39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4596FB-5996-44C3-88AB-F66E8266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A6AD86-D8C0-4107-B11A-4F47B08A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C0F2CD-EFA7-4525-AF27-5C15160E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65E008-4312-41AF-BC3A-FC382AFD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B7F319-AB15-4124-AD40-C97A1E15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F81799-EBFB-4B5E-A4D4-34536BD3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499C15-1670-40D4-A238-50799E95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D27083-8030-43C3-8522-341318BE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6C766-49DC-459D-8958-591FE235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3062-D32C-4EA8-A269-8AF6324ED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BD1BA-FD64-4F9F-886E-47F0CF8A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9E200-D07A-4A5A-8C9D-9CB0C98C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C7172-74F7-4E34-851F-6C0DDA26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37AFF-2E60-4A38-8892-BDEC811D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E40CF-30FD-43EB-A140-7AC6BC53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C1783-1FB2-46B7-BCDF-0E6AC0B9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C613C-DFD9-4F53-A3C4-77DE3367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3A528-00AF-42F3-A713-DA4B3D14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1AA86-3F57-4347-9D45-FB376E40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AEA7A-7DDE-43FB-9DDC-A4B84980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92F3-647E-4532-9360-FB87AA35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F49D1-5F2D-4EA9-812C-780200DE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3112-A1ED-4E56-AD04-CBDAE172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9B2E-D2C7-4C74-905F-0EB75E10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D9C5-C514-42CC-8551-35DE39DE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9FC8-FA8A-4944-BE7B-D2B4F174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E8DD-9CE8-4A79-8102-C01361F6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03DF-0A11-47B6-9242-D615DD62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1A35-B492-41D8-93E3-7593ECB6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A875-1078-46DB-A4D2-E6338281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1B12-DC87-445F-8160-50A461F2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EF94-D7C3-4B69-B891-41F2FB28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8354-9D15-410B-8837-24568A54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F1BA-81EA-4BCC-B769-1DC839E6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7F13-AD5B-415F-A546-30A1944D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83D5D-1B0F-415C-9A79-06A9D448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CFF24-85FB-4A8E-A2B8-85112576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289FB-AB07-4CBA-B13B-2BC22B63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B14A1-3B15-4A75-B4B2-9F3435D0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71893-77EF-4FF9-B8EF-35734FA5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2F38-3D4C-482D-A4EB-5FB8D158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D4A63-AF74-4B9E-94CE-C9622043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58AEC-A75F-46DD-A267-996E70CD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2F47C-34F5-48C5-A905-61CB2C54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B4C93-0ABD-42F4-A030-AD591FC8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AC53A-AF60-4675-8362-9DCB7CA9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D97FE-9F1B-46FE-AA22-873A2E1D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B6E10-B22F-43BF-A51B-998C99F1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AD8AD-63CA-48D9-B9F0-696B369C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56C40-A98B-4B52-84C4-D0D5C016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4370A-2357-471A-AF2D-0D7B94DE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7751-99E2-4A7F-8AA1-F9946265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13354-12AE-4664-8EC4-22588EB1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B0EAD-47D0-4263-A510-BBD39AD7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C64FF-BEDF-4BE3-BB6A-F810FF2B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C321F-E5C4-4CE7-A8D4-3470FCE4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5458E-2920-4817-A94E-57547FD9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44496-FAA2-4E65-8668-1D4B7F74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2D661-3C89-4306-9DF0-9E3218BC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08DAD-B45C-41A8-989C-548DE5E49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32083-40FF-4E21-8954-FD3BE239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C657F-FFC6-4782-A3AA-C173F1A9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5208-B9C3-43D2-A0E4-DE0BC0E0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7D258-AEAF-48FE-A4CB-CF75EDFC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B17DA-A207-4D67-9261-EAA94DD1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6BC12-BE8F-4B8E-B29B-BEBAA680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0557A-EDDA-4019-94BA-EFDB15A9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DDACC-18D9-4F6E-AE1D-7D3CBFB4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28DF2-C8E5-4D66-B043-DA7B64D5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53D96-9D52-4851-A753-377C44A4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2916C-EB33-4E11-9115-94953394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3891F-98AC-471B-A19E-6092A762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4F14F-3EF2-46A3-B235-E6E55179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C5B5-B5EF-42A9-8B19-239E6A38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1196C-E6E5-4A31-A855-170706A7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0DB1B-37C7-431A-AD3A-45EEC41C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07BDF-3B2F-4268-BA0B-2F498F7C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24785-2EC6-4C32-AD0A-8EDED550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BD32F-CF05-498E-901A-1FB021B5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18C49-D57A-4454-8280-28F59F16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FB5A9-40C3-4759-880B-43636558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011B6-F417-49AC-BE82-93A29E83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DB963-2636-4283-9BA8-81D5EE33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0CA29-A057-4F80-B96B-67319C07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7E96-5C72-4640-A539-50896217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5A4EA-FD0D-4094-9A99-043B5CAE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AE777-A8AD-4BB0-A0E6-8D1CECAF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A1722-F023-40B4-B06B-D4F2A172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73294-C6A5-4A18-8B0C-DA4F41A2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A2894-81DE-4551-A31A-01AA0D6B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1AA59-C2A5-430C-9216-616CBC6A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44D39-36B4-4E01-9C0E-91E50D50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C69C5-0988-421D-A943-88238126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1ED36-AFF9-44EB-8415-65357833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8875A-A27B-4D83-81EF-D86D2BC1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89BE-DC47-4687-B214-9DA07777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E55E6-2108-4309-8BF9-02967BB2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25814-CC0C-4676-A497-2B959D9B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D3EC4-8271-4A0C-A769-B819639C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8B260-98CA-4A36-BC28-D5B74B30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35D1E-6E48-4688-8532-005980C6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0A58C-4848-42EB-9966-C95C8BD4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89F24-2CC6-4825-9A27-22C23DB4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581D6-3085-4798-8453-5A8399D0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0D120-5495-4E85-A47D-DCEAE10E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5CAC5-1C92-4629-A897-23E86BC7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315-0BC2-42CE-BC52-D872289E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94B72-BDA5-48CD-B89C-56585838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D4171-B08C-4B8C-B454-11DC5C25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48E6A-9A46-4D50-B036-3C465F8F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AE3B2-7E9B-42B2-BA7A-65ED61F3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46A70-F849-468A-8F69-CAD09E6A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74BDC-843D-433D-96FE-F2EB19E6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5931B-3697-48A9-99E6-EC8B922D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EAA8DD-52E4-454E-A386-3E0E7747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3058DC-06CF-49D8-BFFA-48B3F373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F47E7B-FA54-4CEA-8A28-47C9CE84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D72E-AF39-4A17-9718-E5BF547B0C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13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4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15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0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41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6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57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9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60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28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29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EFB8-AB9E-4B7B-9C9A-FBDFFD12C9BB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7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3797-685D-4925-B3E1-73D16D75C9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5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8CC3-8536-4278-87A2-AACA1437A8A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81EE-030F-4F89-A9D2-FCEC409D77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5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5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8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9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0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E2AA-5EC2-4D96-A451-AFB1FB78717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61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2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63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75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94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12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9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20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88EC-CC0D-4D56-A517-3F6950CE95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6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FD62-6D7B-4BEC-B10A-F4C01093D6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1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25D9-22CE-46AD-9EEE-A45821C18B0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18A7-F14F-40FF-9532-B8858A1A6F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99680" y="2285640"/>
            <a:ext cx="8062920" cy="434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Викторина по произведениям</a:t>
            </a: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В. Бианки</a:t>
            </a:r>
            <a:br>
              <a:rPr sz="4800"/>
            </a:br>
            <a:br>
              <a:rPr sz="4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Составила учитель начальных классов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МОУ Луговской СОШ Гурьевского района Калининградской области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Семыкина Светлана Борисовна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2010 г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900000" y="4292640"/>
            <a:ext cx="68724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0" name="Picture 9" descr=""/>
          <p:cNvPicPr/>
          <p:nvPr/>
        </p:nvPicPr>
        <p:blipFill>
          <a:blip r:embed="rId1"/>
          <a:stretch/>
        </p:blipFill>
        <p:spPr>
          <a:xfrm>
            <a:off x="2843280" y="260280"/>
            <a:ext cx="3168720" cy="1265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2.«Чей нос лучше?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Verdana"/>
              </a:rPr>
              <a:t>Допишите названия птиц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Тонконос –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ухолов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рестонос –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лест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Долгонос –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бекас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ерпонос –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роншнеп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етконос –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озодо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ешконос –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еликан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Долбонос –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дятел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755" name="Picture 5" descr=""/>
          <p:cNvPicPr/>
          <p:nvPr/>
        </p:nvPicPr>
        <p:blipFill>
          <a:blip r:embed="rId1"/>
          <a:stretch/>
        </p:blipFill>
        <p:spPr>
          <a:xfrm>
            <a:off x="2411280" y="5373720"/>
            <a:ext cx="2376720" cy="16318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7" descr=""/>
          <p:cNvPicPr/>
          <p:nvPr/>
        </p:nvPicPr>
        <p:blipFill>
          <a:blip r:embed="rId2"/>
          <a:stretch/>
        </p:blipFill>
        <p:spPr>
          <a:xfrm>
            <a:off x="2843280" y="213372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8" descr=""/>
          <p:cNvPicPr/>
          <p:nvPr/>
        </p:nvPicPr>
        <p:blipFill>
          <a:blip r:embed="rId3"/>
          <a:stretch/>
        </p:blipFill>
        <p:spPr>
          <a:xfrm>
            <a:off x="5724360" y="1484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9" descr=""/>
          <p:cNvPicPr/>
          <p:nvPr/>
        </p:nvPicPr>
        <p:blipFill>
          <a:blip r:embed="rId4"/>
          <a:stretch/>
        </p:blipFill>
        <p:spPr>
          <a:xfrm>
            <a:off x="5940360" y="5300640"/>
            <a:ext cx="1800360" cy="1428840"/>
          </a:xfrm>
          <a:prstGeom prst="rect">
            <a:avLst/>
          </a:prstGeom>
          <a:ln w="0">
            <a:noFill/>
          </a:ln>
        </p:spPr>
      </p:pic>
      <p:pic>
        <p:nvPicPr>
          <p:cNvPr id="759" name="Рисунок 5" descr=""/>
          <p:cNvPicPr/>
          <p:nvPr/>
        </p:nvPicPr>
        <p:blipFill>
          <a:blip r:embed="rId5"/>
          <a:srcRect l="25562" t="24633" r="27018" b="4460"/>
          <a:stretch/>
        </p:blipFill>
        <p:spPr>
          <a:xfrm>
            <a:off x="4067280" y="3573360"/>
            <a:ext cx="1942920" cy="178128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11" descr="2-5"/>
          <p:cNvPicPr/>
          <p:nvPr/>
        </p:nvPicPr>
        <p:blipFill>
          <a:blip r:embed="rId6"/>
          <a:stretch/>
        </p:blipFill>
        <p:spPr>
          <a:xfrm>
            <a:off x="6300720" y="3213000"/>
            <a:ext cx="1414440" cy="1836720"/>
          </a:xfrm>
          <a:prstGeom prst="rect">
            <a:avLst/>
          </a:prstGeom>
          <a:ln w="9360">
            <a:solidFill>
              <a:srgbClr val="5e855b"/>
            </a:solidFill>
            <a:miter/>
          </a:ln>
        </p:spPr>
      </p:pic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3. «Паучок-пилот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00"/>
                </a:solidFill>
                <a:latin typeface="Arial"/>
              </a:rPr>
              <a:t>Перечислите все 16 названий насекомых из данного рассказ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ухи                                                   Жук-плавуне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мары                                               Гладыши-кувырканч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уравьи                                              Слизняк-прудови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Жук-олень                                           Паук-серебрян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чи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лизня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Шме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Жук-медля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лоники-зелен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лоп-скорпио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рекоз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Picture 4" descr=""/>
          <p:cNvPicPr/>
          <p:nvPr/>
        </p:nvPicPr>
        <p:blipFill>
          <a:blip r:embed="rId1"/>
          <a:stretch/>
        </p:blipFill>
        <p:spPr>
          <a:xfrm>
            <a:off x="7380360" y="2637000"/>
            <a:ext cx="952560" cy="81900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5" descr=""/>
          <p:cNvPicPr/>
          <p:nvPr/>
        </p:nvPicPr>
        <p:blipFill>
          <a:blip r:embed="rId2"/>
          <a:stretch/>
        </p:blipFill>
        <p:spPr>
          <a:xfrm>
            <a:off x="7812000" y="5229360"/>
            <a:ext cx="838440" cy="95220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6" descr=""/>
          <p:cNvPicPr/>
          <p:nvPr/>
        </p:nvPicPr>
        <p:blipFill>
          <a:blip r:embed="rId3"/>
          <a:stretch/>
        </p:blipFill>
        <p:spPr>
          <a:xfrm>
            <a:off x="3635280" y="5589720"/>
            <a:ext cx="952560" cy="6379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7" descr=""/>
          <p:cNvPicPr/>
          <p:nvPr/>
        </p:nvPicPr>
        <p:blipFill>
          <a:blip r:embed="rId4"/>
          <a:stretch/>
        </p:blipFill>
        <p:spPr>
          <a:xfrm>
            <a:off x="8191440" y="3573360"/>
            <a:ext cx="952560" cy="75240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8" descr=""/>
          <p:cNvPicPr/>
          <p:nvPr/>
        </p:nvPicPr>
        <p:blipFill>
          <a:blip r:embed="rId5"/>
          <a:stretch/>
        </p:blipFill>
        <p:spPr>
          <a:xfrm>
            <a:off x="6732720" y="0"/>
            <a:ext cx="2411280" cy="17604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9" descr=""/>
          <p:cNvPicPr/>
          <p:nvPr/>
        </p:nvPicPr>
        <p:blipFill>
          <a:blip r:embed="rId6"/>
          <a:stretch/>
        </p:blipFill>
        <p:spPr>
          <a:xfrm>
            <a:off x="2700360" y="3284640"/>
            <a:ext cx="952560" cy="94284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10" descr=""/>
          <p:cNvPicPr/>
          <p:nvPr/>
        </p:nvPicPr>
        <p:blipFill>
          <a:blip r:embed="rId7"/>
          <a:stretch/>
        </p:blipFill>
        <p:spPr>
          <a:xfrm>
            <a:off x="6012000" y="4724280"/>
            <a:ext cx="9522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4. Название-вопр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Arial"/>
              </a:rPr>
              <a:t>Какие названия рассказов В. Бианки содержат вопро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Чей нос лучше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Кто чем поет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У кого дом лучше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де раки зимуют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Чьи это ноги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2" name="Picture 4" descr=""/>
          <p:cNvPicPr/>
          <p:nvPr/>
        </p:nvPicPr>
        <p:blipFill>
          <a:blip r:embed="rId1"/>
          <a:stretch/>
        </p:blipFill>
        <p:spPr>
          <a:xfrm>
            <a:off x="4211640" y="5076720"/>
            <a:ext cx="2093760" cy="156708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5" descr=""/>
          <p:cNvPicPr/>
          <p:nvPr/>
        </p:nvPicPr>
        <p:blipFill>
          <a:blip r:embed="rId2"/>
          <a:stretch/>
        </p:blipFill>
        <p:spPr>
          <a:xfrm>
            <a:off x="7164360" y="2637000"/>
            <a:ext cx="1795320" cy="208728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6" descr=""/>
          <p:cNvPicPr/>
          <p:nvPr/>
        </p:nvPicPr>
        <p:blipFill>
          <a:blip r:embed="rId3"/>
          <a:stretch/>
        </p:blipFill>
        <p:spPr>
          <a:xfrm>
            <a:off x="4859280" y="2637000"/>
            <a:ext cx="2016360" cy="169380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18" descr="C:\Documents and Settings\Елена\Рабочий стол\Новая папка\29235315.jpg"/>
          <p:cNvPicPr/>
          <p:nvPr/>
        </p:nvPicPr>
        <p:blipFill>
          <a:blip r:embed="rId4"/>
          <a:stretch/>
        </p:blipFill>
        <p:spPr>
          <a:xfrm>
            <a:off x="6948360" y="5157720"/>
            <a:ext cx="187164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5. Сказки, сказки, сказки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00"/>
                </a:solidFill>
                <a:latin typeface="Tahoma"/>
              </a:rPr>
              <a:t>Из каких сказок В. Бианки отрывк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1. «Надоело щенку гонять кур по двору.»Пойду-ка, - думает, - на охоту за дикими зверями и птицами»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2. Залез муравей на березу. Долез до вершины, посмотрел вниз, а там, на земле, его родной муравейник чуть виден»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3. «Наладили парус, посадили мышонка в долбленое судёнышко и пустили по течению»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4. «Набродили, наследили звери на снегу. Не сразу поймешь, что тут было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5. «Чик был молодой красноголовый воробей. Когда ему исполнился год от рождения, он женился на Чирике и решил зажить своим домком».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8" name="Picture 17" descr="D:\Мои документы\Галина\воробей.bmp"/>
          <p:cNvPicPr/>
          <p:nvPr/>
        </p:nvPicPr>
        <p:blipFill>
          <a:blip r:embed="rId1"/>
          <a:stretch/>
        </p:blipFill>
        <p:spPr>
          <a:xfrm>
            <a:off x="7596360" y="5734080"/>
            <a:ext cx="990360" cy="11239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779" name="Picture 5" descr=""/>
          <p:cNvPicPr/>
          <p:nvPr/>
        </p:nvPicPr>
        <p:blipFill>
          <a:blip r:embed="rId2"/>
          <a:stretch/>
        </p:blipFill>
        <p:spPr>
          <a:xfrm>
            <a:off x="468360" y="5734080"/>
            <a:ext cx="842760" cy="112392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6" descr=""/>
          <p:cNvPicPr/>
          <p:nvPr/>
        </p:nvPicPr>
        <p:blipFill>
          <a:blip r:embed="rId3"/>
          <a:stretch/>
        </p:blipFill>
        <p:spPr>
          <a:xfrm>
            <a:off x="5219640" y="5765760"/>
            <a:ext cx="2087640" cy="109224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7" descr=""/>
          <p:cNvPicPr/>
          <p:nvPr/>
        </p:nvPicPr>
        <p:blipFill>
          <a:blip r:embed="rId4"/>
          <a:stretch/>
        </p:blipFill>
        <p:spPr>
          <a:xfrm>
            <a:off x="3419640" y="5773680"/>
            <a:ext cx="1441440" cy="108432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9" descr=""/>
          <p:cNvPicPr/>
          <p:nvPr/>
        </p:nvPicPr>
        <p:blipFill>
          <a:blip r:embed="rId5"/>
          <a:stretch/>
        </p:blipFill>
        <p:spPr>
          <a:xfrm>
            <a:off x="1692360" y="5830920"/>
            <a:ext cx="136836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6. Подведение итог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6" name="WordArt 4"/>
          <p:cNvSpPr txBox="1"/>
          <p:nvPr/>
        </p:nvSpPr>
        <p:spPr>
          <a:xfrm>
            <a:off x="395280" y="115920"/>
            <a:ext cx="8229600" cy="452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Спасиб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pic>
        <p:nvPicPr>
          <p:cNvPr id="787" name="Picture 5" descr=""/>
          <p:cNvPicPr/>
          <p:nvPr/>
        </p:nvPicPr>
        <p:blipFill>
          <a:blip r:embed="rId1"/>
          <a:stretch/>
        </p:blipFill>
        <p:spPr>
          <a:xfrm>
            <a:off x="3924360" y="5013360"/>
            <a:ext cx="17240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2" name="Picture 4" descr="береговушка"/>
          <p:cNvPicPr/>
          <p:nvPr/>
        </p:nvPicPr>
        <p:blipFill>
          <a:blip r:embed="rId1"/>
          <a:stretch/>
        </p:blipFill>
        <p:spPr>
          <a:xfrm>
            <a:off x="826920" y="1916280"/>
            <a:ext cx="7993080" cy="416844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Рассказ В. Бианки «Лесные домики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724" name="Picture 7" descr=""/>
          <p:cNvPicPr/>
          <p:nvPr/>
        </p:nvPicPr>
        <p:blipFill>
          <a:blip r:embed="rId2"/>
          <a:stretch/>
        </p:blipFill>
        <p:spPr>
          <a:xfrm>
            <a:off x="6437160" y="3573360"/>
            <a:ext cx="242280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1. Рассказ В. Бианки «Лесные домики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7" name="Picture 10" descr="береговушка"/>
          <p:cNvPicPr/>
          <p:nvPr/>
        </p:nvPicPr>
        <p:blipFill>
          <a:blip r:embed="rId1"/>
          <a:stretch/>
        </p:blipFill>
        <p:spPr>
          <a:xfrm>
            <a:off x="826920" y="1916280"/>
            <a:ext cx="7993080" cy="413064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7" descr=""/>
          <p:cNvPicPr/>
          <p:nvPr/>
        </p:nvPicPr>
        <p:blipFill>
          <a:blip r:embed="rId2"/>
          <a:stretch/>
        </p:blipFill>
        <p:spPr>
          <a:xfrm>
            <a:off x="6012000" y="3860640"/>
            <a:ext cx="280800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1. Рассказ В. Бианки «Лесные домики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1" name="Picture 9" descr="витютень"/>
          <p:cNvPicPr/>
          <p:nvPr/>
        </p:nvPicPr>
        <p:blipFill>
          <a:blip r:embed="rId1"/>
          <a:stretch/>
        </p:blipFill>
        <p:spPr>
          <a:xfrm>
            <a:off x="826920" y="1916280"/>
            <a:ext cx="7993080" cy="41767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8" descr=""/>
          <p:cNvPicPr/>
          <p:nvPr/>
        </p:nvPicPr>
        <p:blipFill>
          <a:blip r:embed="rId2"/>
          <a:stretch/>
        </p:blipFill>
        <p:spPr>
          <a:xfrm>
            <a:off x="6588000" y="3141720"/>
            <a:ext cx="2214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1. Рассказ В. Бианки «Лесные домики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Picture 7" descr="комната"/>
          <p:cNvPicPr/>
          <p:nvPr/>
        </p:nvPicPr>
        <p:blipFill>
          <a:blip r:embed="rId1"/>
          <a:stretch/>
        </p:blipFill>
        <p:spPr>
          <a:xfrm>
            <a:off x="826920" y="1916280"/>
            <a:ext cx="7993080" cy="41684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8" descr=""/>
          <p:cNvPicPr/>
          <p:nvPr/>
        </p:nvPicPr>
        <p:blipFill>
          <a:blip r:embed="rId2"/>
          <a:stretch/>
        </p:blipFill>
        <p:spPr>
          <a:xfrm>
            <a:off x="6588000" y="4149720"/>
            <a:ext cx="21542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1.Рассказ В. Бианки «Лесные домики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9" name="Picture 7" descr="пеночка"/>
          <p:cNvPicPr/>
          <p:nvPr/>
        </p:nvPicPr>
        <p:blipFill>
          <a:blip r:embed="rId1"/>
          <a:stretch/>
        </p:blipFill>
        <p:spPr>
          <a:xfrm>
            <a:off x="826920" y="1916280"/>
            <a:ext cx="7993080" cy="417672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6" descr=""/>
          <p:cNvPicPr/>
          <p:nvPr/>
        </p:nvPicPr>
        <p:blipFill>
          <a:blip r:embed="rId2"/>
          <a:stretch/>
        </p:blipFill>
        <p:spPr>
          <a:xfrm>
            <a:off x="6012000" y="3933720"/>
            <a:ext cx="28080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1. Рассказ В. Бианки «Лесные домики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3" name="Picture 6" descr="иволга"/>
          <p:cNvPicPr/>
          <p:nvPr/>
        </p:nvPicPr>
        <p:blipFill>
          <a:blip r:embed="rId1"/>
          <a:stretch/>
        </p:blipFill>
        <p:spPr>
          <a:xfrm>
            <a:off x="826920" y="1916280"/>
            <a:ext cx="7993080" cy="417672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7" descr=""/>
          <p:cNvPicPr/>
          <p:nvPr/>
        </p:nvPicPr>
        <p:blipFill>
          <a:blip r:embed="rId2"/>
          <a:stretch/>
        </p:blipFill>
        <p:spPr>
          <a:xfrm>
            <a:off x="6659640" y="4437000"/>
            <a:ext cx="2232000" cy="16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1. Рассказ В. Бианки «Лесные домики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7" name="Picture 8" descr="пятнашки"/>
          <p:cNvPicPr/>
          <p:nvPr/>
        </p:nvPicPr>
        <p:blipFill>
          <a:blip r:embed="rId1"/>
          <a:stretch/>
        </p:blipFill>
        <p:spPr>
          <a:xfrm>
            <a:off x="826920" y="1916280"/>
            <a:ext cx="7993080" cy="41767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6" descr=""/>
          <p:cNvPicPr/>
          <p:nvPr/>
        </p:nvPicPr>
        <p:blipFill>
          <a:blip r:embed="rId2"/>
          <a:stretch/>
        </p:blipFill>
        <p:spPr>
          <a:xfrm>
            <a:off x="6599160" y="4149720"/>
            <a:ext cx="254484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1. Рассказ В. Бианки «Лесные домики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1" name="Picture 9" descr="конский"/>
          <p:cNvPicPr/>
          <p:nvPr/>
        </p:nvPicPr>
        <p:blipFill>
          <a:blip r:embed="rId1"/>
          <a:stretch/>
        </p:blipFill>
        <p:spPr>
          <a:xfrm>
            <a:off x="826920" y="1916280"/>
            <a:ext cx="7993080" cy="417672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8" descr=""/>
          <p:cNvPicPr/>
          <p:nvPr/>
        </p:nvPicPr>
        <p:blipFill>
          <a:blip r:embed="rId2"/>
          <a:stretch/>
        </p:blipFill>
        <p:spPr>
          <a:xfrm>
            <a:off x="6659640" y="4292640"/>
            <a:ext cx="21542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4:20:01Z</dcterms:created>
  <dc:creator>LIHEY</dc:creator>
  <dc:description/>
  <dc:language>en-US</dc:language>
  <cp:lastModifiedBy>Admin</cp:lastModifiedBy>
  <dcterms:modified xsi:type="dcterms:W3CDTF">2003-01-01T21:39:00Z</dcterms:modified>
  <cp:revision>32</cp:revision>
  <dc:subject/>
  <dc:title>Викторина по произведения  В. Бианки </dc:title>
</cp:coreProperties>
</file>