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png" ContentType="image/png"/>
  <Override PartName="/ppt/media/image5.jpeg" ContentType="image/jpeg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E757-FCFE-40E5-957D-C2C0BF406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F4F5-B391-4FEA-8234-8B200CA0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9041-96B1-4C22-BAFE-3B2FEDB49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90AB-5F65-4611-82A1-4ECABA60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BF6A-B014-4650-90D6-B177FCE6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19F5-11BB-4A16-8387-5B5192A2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647E-2400-49BF-A2DD-9F6DAE83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16F7-CEE7-4131-B795-FF22D006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30F2-22D4-40FF-B583-34B6363E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2E1C-498F-4E48-BF88-F235FCD6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7018-D629-4B62-B1BA-656DA832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1AFB-E7CF-4EDF-91B0-5BFC8AF1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8601-255D-4F00-88B0-7432BFC3C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апр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нь юм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63640" y="3000240"/>
            <a:ext cx="5832720" cy="328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 празднико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949720"/>
            <a:ext cx="822960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116000" y="1700280"/>
            <a:ext cx="7488360" cy="22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обрых вам шуток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 хороших друзей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92360" y="4176720"/>
            <a:ext cx="2519640" cy="242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7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76480" y="5444640"/>
            <a:ext cx="5159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апреля – никому не вер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11280" y="1989000"/>
            <a:ext cx="4105440" cy="2654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68360" y="333360"/>
            <a:ext cx="80690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кую поговорку част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потребляют в этот день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00000" y="1341360"/>
            <a:ext cx="7201080" cy="374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 отмечают этот де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других странах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84360" y="3157560"/>
            <a:ext cx="4032360" cy="3206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95280" y="6740640"/>
            <a:ext cx="8229600" cy="1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ранц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 Франции этот день шутливых обманов называется «апрельская рыб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м давным-давно начало года было 1 апреля. В 1564 г. король Карл-9 издал указ о переносе нового года на 1 января. В знак несогласия 1 апреля люди стали присылать традиционный подарок – ры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гл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Англии 1 апреля – «День всех дураков». Каждый может подшутить над своими друзьями. Того, кто попался на шутку, встречают весёлым смехом и криками: «Апрельский дурак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364000" y="907920"/>
            <a:ext cx="355464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068720" y="0"/>
            <a:ext cx="50752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рм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471636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мцы считают этот день несчастливым, т.к.по преданию в этот день родился Иуда. Взрослые и дети обманывают друг друга, посылают в аптеки, в магазины с невыполнимыми поручени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как этот день отмечают в Росс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5949720"/>
            <a:ext cx="822960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87640" y="1916280"/>
            <a:ext cx="3084480" cy="321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Шуточные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ичка идёт со скоростью 80км/ч, а ветер дует в другую сторону со скоростью 5км/ч.Куда сносит д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х камней нет в мо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чему одни люди ходят в сапогах, а другие – в ботинк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й остров выдаёт себя за одеж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и телёнка. Сколько будет но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70880" y="-316080"/>
            <a:ext cx="1473120" cy="208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За чем мы ед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Почему цапля стоит на одной ног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У кого в мире самая большая шляп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Три девочки шли в школу под одним зонтиком. Почему ни одна не промок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Сколько минут надо варить крутое яйц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148360" y="-103320"/>
            <a:ext cx="3995640" cy="288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07:40:23Z</dcterms:created>
  <dc:creator>Sasha</dc:creator>
  <dc:description/>
  <dc:language>en-US</dc:language>
  <cp:lastModifiedBy>Sasha</cp:lastModifiedBy>
  <dcterms:modified xsi:type="dcterms:W3CDTF">2010-03-28T08:46:54Z</dcterms:modified>
  <cp:revision>2</cp:revision>
  <dc:subject/>
  <dc:title>1 апреля</dc:title>
</cp:coreProperties>
</file>