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12.jpeg" ContentType="image/jpeg"/>
  <Override PartName="/ppt/media/image7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1208-2E0E-445D-8F95-CFDC95024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698-4809-4B8E-9A0B-6CF2E5639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0A79-8D9E-4E0E-84B2-8A4E159DB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B608-72CE-4AC5-B92A-386CA6BE5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D158-EF35-4786-939E-D50A26C35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6C75-28C8-4FDE-B8A6-3CDE57396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725-6988-4DEB-95A0-D44960C25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AD1F-9CCC-4EE6-BCB2-40EB0DC4C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72E-FCFA-40B7-92CB-F32EAA821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B9C-A36D-45EA-9FCA-BA3BC6E9F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F44-5E0B-4823-8FFC-8B4990661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5FA-1D07-437E-A5FC-A99D435EA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3B8B-2225-4137-8164-5AB16D854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CDCF-1B4B-462F-A193-0D8934D34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5580-6F46-4F7B-8C7B-E9C4371F5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97A-1A2F-49F5-8860-B9542401F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42CA-ECC4-4CBC-9DFC-A9C6F0083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A361-67EB-416F-98ED-6ED08E5E6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20B-7F55-40D8-9485-F6A0D953D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28A6-A04C-4164-81F4-E3B2FBB07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8BF2-5A0E-460A-91AD-BC4F72A8B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6BB-6513-4644-9930-FD95E64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5E2-C3BC-4FCD-880C-1250F2D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7E8-D484-46F3-8EEF-DFB591B7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98C-ADE7-42EB-80D4-EA2D1404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B79-077C-4232-946D-AD062058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94F-D018-404A-A579-2734D554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364-1A29-421B-A3C3-E5E71499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CC1-645C-4A7B-95A4-108D2F77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C9E-10A7-4122-89C3-F6329901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4C6-0DFB-4828-B5B8-7CD35D35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A61-CED8-4704-92BF-70200729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478-F504-42C2-8E27-D9D17CA3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89A-9000-4257-A823-BE702409D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571680" y="857160"/>
            <a:ext cx="7848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ff0000"/>
                    </a:gs>
                    <a:gs pos="100000">
                      <a:srgbClr val="33cc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ные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33ccff"/>
                  </a:gs>
                  <a:gs pos="50000">
                    <a:srgbClr val="ff0000"/>
                  </a:gs>
                  <a:gs pos="100000">
                    <a:srgbClr val="33cc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ff0000"/>
                    </a:gs>
                    <a:gs pos="100000">
                      <a:srgbClr val="33cc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сурсы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33ccff"/>
                  </a:gs>
                  <a:gs pos="50000">
                    <a:srgbClr val="ff0000"/>
                  </a:gs>
                  <a:gs pos="100000">
                    <a:srgbClr val="33cc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ff0000"/>
                    </a:gs>
                    <a:gs pos="100000">
                      <a:srgbClr val="33cc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увашского края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33ccff"/>
                  </a:gs>
                  <a:gs pos="50000">
                    <a:srgbClr val="ff0000"/>
                  </a:gs>
                  <a:gs pos="100000">
                    <a:srgbClr val="33cc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428760"/>
            <a:ext cx="371484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оловодье река затапливает пойму на 1,5— 3,5 м в течение 15—30 дней. Сура — уникальная река. До устья реки Алгашки Сура течет вдоль высокого и крутого левого берега, в то время, как практически все реки северного полушария имеют высокий правый бере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На территории республики в Суру впадают Бездна, Киря, Выла, Алатырь, Меня, Алгашка и другие реки. Из них Киря имеет в верховьях вод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_9421_1ffde479_XL"/>
          <p:cNvPicPr/>
          <p:nvPr/>
        </p:nvPicPr>
        <p:blipFill>
          <a:blip r:embed="rId1"/>
          <a:stretch/>
        </p:blipFill>
        <p:spPr>
          <a:xfrm>
            <a:off x="3857760" y="1428840"/>
            <a:ext cx="5033880" cy="29383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3"/>
          <p:cNvSpPr/>
          <p:nvPr/>
        </p:nvSpPr>
        <p:spPr>
          <a:xfrm>
            <a:off x="500040" y="4857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3276720" y="1908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иви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28760" y="157392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м по величине притоком Волги в республике является Цивиль, длина которого 172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стоки находятся в окрестностях д. Лесные Туваны Шумерлинского района. В нижнем течении ширина долины реки достигает 1—1,5 км. В половодье пойма реки затапливается на 1,5—2 м на 10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ivilsk069"/>
          <p:cNvPicPr/>
          <p:nvPr/>
        </p:nvPicPr>
        <p:blipFill>
          <a:blip r:embed="rId1"/>
          <a:srcRect l="0" t="2244" r="0" b="0"/>
          <a:stretch/>
        </p:blipFill>
        <p:spPr>
          <a:xfrm>
            <a:off x="3780000" y="1500120"/>
            <a:ext cx="5184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0" y="-647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-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842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1333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4857840" y="464760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сточной части Чувашии протекают притоки Свияги, крупнейшие из них Кубня, Була, Карла, Ута, 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4500720" y="592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439440" y="14472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ия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357120" y="1000080"/>
            <a:ext cx="3857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Свияга — приток Волги, в которую она впадает в пределах Татарстана. Но ее истоки, верхнее и среднее течение находятся на территории Ульяновской област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Река Свияга берет свое начало в Кузоватовском районе, где она имеет три истока. Наибольший интерес представляет главный исток Свияги к юго-западу от села Кузоватово, примерно в 5 км от него на возвышенности с отметкой 332 м н.у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15637779"/>
          <p:cNvPicPr/>
          <p:nvPr/>
        </p:nvPicPr>
        <p:blipFill>
          <a:blip r:embed="rId1"/>
          <a:stretch/>
        </p:blipFill>
        <p:spPr>
          <a:xfrm>
            <a:off x="4572000" y="1143000"/>
            <a:ext cx="4189320" cy="3303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14200" y="1506600"/>
            <a:ext cx="331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Чувашии по данным на 1995 г. 754 озера с площадью более 1 га. Большинство из них пойме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а, расположенные вне речных пойм, по происхождению котловин обычно карстовые, суффозионные, есть междю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447640" y="214200"/>
            <a:ext cx="51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ёра Чувашской Республ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:\Documents and Settings\Владелец\Рабочий стол\реки\clip_image001.jpg"/>
          <p:cNvPicPr/>
          <p:nvPr/>
        </p:nvPicPr>
        <p:blipFill>
          <a:blip r:embed="rId1"/>
          <a:stretch/>
        </p:blipFill>
        <p:spPr>
          <a:xfrm>
            <a:off x="3643200" y="1357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57160" y="509760"/>
            <a:ext cx="716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стовые озер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ются там, где в верхней части земной коры залегают растворимые водой горные породы. В Чувашии происхождение карстовых озер связано с местами залегания гипса, прослоями доломитов и известняков. Подземные воды, растворяя горные породы, образуют под землей пустоты, что ведет к провалам. На месте провалов возникают озера. К типично карстовым озерам относятся Сюткюль, Кюльхири, Аль, Белое, Бездонное, Светлое, Изъя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934080" y="62866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photo239"/>
          <p:cNvPicPr/>
          <p:nvPr/>
        </p:nvPicPr>
        <p:blipFill>
          <a:blip r:embed="rId1"/>
          <a:stretch/>
        </p:blipFill>
        <p:spPr>
          <a:xfrm>
            <a:off x="2000160" y="2857680"/>
            <a:ext cx="50958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85880" y="651600"/>
            <a:ext cx="717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ффозионные озер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ются в результате проседания почвогрунтов в связи с растворением и выносом грунтовыми и просачивающимися водами мелких минеральных частиц или возникновением подземных пуст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озера небольшие и неглубокие (1,5—2 м). Типичное суффозионное озеро в республике — Шихазанское, расположенное в Комсомоль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kapsino"/>
          <p:cNvPicPr/>
          <p:nvPr/>
        </p:nvPicPr>
        <p:blipFill>
          <a:blip r:embed="rId1"/>
          <a:stretch/>
        </p:blipFill>
        <p:spPr>
          <a:xfrm>
            <a:off x="2195640" y="2838600"/>
            <a:ext cx="5305320" cy="36860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71640" y="3343320"/>
            <a:ext cx="57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857840" y="596880"/>
            <a:ext cx="398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юнные озера находятся в Заволжье, известно 2 озера — Большое Лебединое и Малое Лебединое. Их дно покрыто мощным слоем сапропеля. С высоты пойменные озера выглядят серебряными подковами, разбросанными по долинам рек.      Чем старше река, тем она богаче озерами-старицами. В республике такие озера расположены в основном в бассейне Суры (около 500) и Цивиля (121). Наиболее известными пойменными озерами являются Шиблево, Изерки, Старица, Базарное, Дол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28"/>
          <p:cNvPicPr/>
          <p:nvPr/>
        </p:nvPicPr>
        <p:blipFill>
          <a:blip r:embed="rId1"/>
          <a:stretch/>
        </p:blipFill>
        <p:spPr>
          <a:xfrm>
            <a:off x="0" y="1268280"/>
            <a:ext cx="485928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258920" y="458136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187280" y="5013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187280" y="5013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4000" y="465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.Малое лебеди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71640" y="3343320"/>
            <a:ext cx="57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214960" y="1163160"/>
            <a:ext cx="338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лощади большинство озер республики не превышает 5 га. Самыми большими озерами Чувашии являются Большое Лебединое (30 га). Белое (17,5 га), Кюльхири (14 га), Светлое (11 га), Тени (8,9 га), Шихазанское (8 га). Все пойменные озера небольшие, только 6 из них по площади превышают 2,5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434600" y="464328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Большое Лебеди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lake1"/>
          <p:cNvPicPr/>
          <p:nvPr/>
        </p:nvPicPr>
        <p:blipFill>
          <a:blip r:embed="rId1"/>
          <a:stretch/>
        </p:blipFill>
        <p:spPr>
          <a:xfrm>
            <a:off x="468360" y="1214280"/>
            <a:ext cx="4554360" cy="3149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286240" y="654840"/>
            <a:ext cx="3643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озионные процессы приводят к заиливанию озер, вследствие высокого плоскостного смыва со скл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за последние 20—25 лет перестало существовать около 50 оз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928880" y="5300640"/>
            <a:ext cx="16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юткю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596770616"/>
          <p:cNvPicPr/>
          <p:nvPr/>
        </p:nvPicPr>
        <p:blipFill>
          <a:blip r:embed="rId1"/>
          <a:stretch/>
        </p:blipFill>
        <p:spPr>
          <a:xfrm>
            <a:off x="250920" y="1557360"/>
            <a:ext cx="476244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71640" y="3343320"/>
            <a:ext cx="57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786280" y="869400"/>
            <a:ext cx="3000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республика расположена в зоне, благоприятной для образования болот. Всего их у нас около 400 различной величины и площ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аболоченные участки находятся в Заволжье и в долине Суры. Так как большинство болот расположено в поймах рек, в их питании преобладают грунтовые и речные воды. В основном, они относятся к низинному типу бо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824017"/>
          <p:cNvPicPr/>
          <p:nvPr/>
        </p:nvPicPr>
        <p:blipFill>
          <a:blip r:embed="rId1"/>
          <a:srcRect l="3470" t="5878" r="3658" b="5918"/>
          <a:stretch/>
        </p:blipFill>
        <p:spPr>
          <a:xfrm>
            <a:off x="357120" y="1500120"/>
            <a:ext cx="5108760" cy="3714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я культуру родного края на уроках, я получил некоторые сведения о водных ресурсах Чувашии. У меня появилось желание узнать о них больше, изучить подробнее. В своей работе я хочу наглядно показать и рассказать о наших водах.  А вода, на мой взгляд, главное составляющее жизни на земле. Без воды всё может погибнуть. Не будет лесов, хлебов, овощей, фр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71640" y="3343320"/>
            <a:ext cx="57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715000" y="707400"/>
            <a:ext cx="3214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 подземных вод Чувашии огромны, так как они залегают по всей осадочной толще, т. е. до глубин 1400—18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осные толщи четвертичных отложений долин Волги и Суры обладают достаточным качеством воды, они обильны и пригодны для хозяйственно-питьевых нужд. Они снабжают водой города Шумерля, Ядрин, Чебоксары, Мариинский Посад и другие населен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2431080" y="52149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С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1697"/>
          <p:cNvPicPr/>
          <p:nvPr/>
        </p:nvPicPr>
        <p:blipFill>
          <a:blip r:embed="rId1"/>
          <a:stretch/>
        </p:blipFill>
        <p:spPr>
          <a:xfrm>
            <a:off x="285840" y="1160640"/>
            <a:ext cx="5214960" cy="3912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3429000" y="2556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3343320"/>
            <a:ext cx="57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929200" y="571680"/>
            <a:ext cx="274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 и озёра используются многими отраслями хозяйства: энергетикой, транспортом, земледелием, животноводством, а также для организации зон отды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4098"/>
          <p:cNvPicPr/>
          <p:nvPr/>
        </p:nvPicPr>
        <p:blipFill>
          <a:blip r:embed="rId1"/>
          <a:stretch/>
        </p:blipFill>
        <p:spPr>
          <a:xfrm>
            <a:off x="755640" y="476280"/>
            <a:ext cx="4392720" cy="283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129661785"/>
          <p:cNvPicPr/>
          <p:nvPr/>
        </p:nvPicPr>
        <p:blipFill>
          <a:blip r:embed="rId2"/>
          <a:stretch/>
        </p:blipFill>
        <p:spPr>
          <a:xfrm>
            <a:off x="1979640" y="3789360"/>
            <a:ext cx="5400720" cy="27939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ая Республика обладает уникальной природной средой. Источниками водных ресурсов являются красавицы реки Волга, Сура, Цивиль, а также четыре сотни озер - жемчужин чувашского края, разбросанные по чувашскому кр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ашей чувашской земле протекает рек (2356)  и ручьев общей протяжённостью 8650 км, насчитывается 754 озера (правда, крупных озёр не имеется). Эти реки, ручьи, озёра орошают землю Чувашии, которая поит, кормит, даёт всё, что нужно природе и люд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14280" y="285840"/>
            <a:ext cx="684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cc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ти всё живое  на земле не может обойтись без воды. Звериные тропы в лесу ведут к водопою. Птицы летят к рекам, озё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76023"/>
          <p:cNvPicPr/>
          <p:nvPr/>
        </p:nvPicPr>
        <p:blipFill>
          <a:blip r:embed="rId1"/>
          <a:stretch/>
        </p:blipFill>
        <p:spPr>
          <a:xfrm>
            <a:off x="324000" y="206064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40"/>
          <p:cNvPicPr/>
          <p:nvPr/>
        </p:nvPicPr>
        <p:blipFill>
          <a:blip r:embed="rId2"/>
          <a:stretch/>
        </p:blipFill>
        <p:spPr>
          <a:xfrm>
            <a:off x="3392640" y="1287360"/>
            <a:ext cx="671400" cy="66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40"/>
          <p:cNvPicPr/>
          <p:nvPr/>
        </p:nvPicPr>
        <p:blipFill>
          <a:blip r:embed="rId3"/>
          <a:stretch/>
        </p:blipFill>
        <p:spPr>
          <a:xfrm>
            <a:off x="3786120" y="2000160"/>
            <a:ext cx="67176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0"/>
          <p:cNvPicPr/>
          <p:nvPr/>
        </p:nvPicPr>
        <p:blipFill>
          <a:blip r:embed="rId4"/>
          <a:stretch/>
        </p:blipFill>
        <p:spPr>
          <a:xfrm>
            <a:off x="7643880" y="1071720"/>
            <a:ext cx="671400" cy="66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38"/>
          <p:cNvPicPr/>
          <p:nvPr/>
        </p:nvPicPr>
        <p:blipFill>
          <a:blip r:embed="rId5"/>
          <a:stretch/>
        </p:blipFill>
        <p:spPr>
          <a:xfrm>
            <a:off x="684360" y="4724280"/>
            <a:ext cx="1485720" cy="1895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111"/>
          <p:cNvPicPr/>
          <p:nvPr/>
        </p:nvPicPr>
        <p:blipFill>
          <a:blip r:embed="rId6"/>
          <a:stretch/>
        </p:blipFill>
        <p:spPr>
          <a:xfrm>
            <a:off x="4500720" y="85716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72722"/>
          <p:cNvPicPr/>
          <p:nvPr/>
        </p:nvPicPr>
        <p:blipFill>
          <a:blip r:embed="rId7"/>
          <a:stretch/>
        </p:blipFill>
        <p:spPr>
          <a:xfrm>
            <a:off x="5381640" y="1989000"/>
            <a:ext cx="3419640" cy="4559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036ы"/>
          <p:cNvPicPr/>
          <p:nvPr/>
        </p:nvPicPr>
        <p:blipFill>
          <a:blip r:embed="rId8"/>
          <a:stretch/>
        </p:blipFill>
        <p:spPr>
          <a:xfrm>
            <a:off x="3059280" y="4508640"/>
            <a:ext cx="2808000" cy="21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40"/>
          <p:cNvPicPr/>
          <p:nvPr/>
        </p:nvPicPr>
        <p:blipFill>
          <a:blip r:embed="rId9"/>
          <a:stretch/>
        </p:blipFill>
        <p:spPr>
          <a:xfrm>
            <a:off x="4572000" y="2571840"/>
            <a:ext cx="671400" cy="662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71680" y="357120"/>
            <a:ext cx="825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cc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риходом воды появляется жизнь. Пропала вода -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знь становится невозможной. Потому что вод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иксир жизни. Подарив людям воду, природа дала 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сценное богат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50426_1024_768"/>
          <p:cNvPicPr/>
          <p:nvPr/>
        </p:nvPicPr>
        <p:blipFill>
          <a:blip r:embed="rId1"/>
          <a:stretch/>
        </p:blipFill>
        <p:spPr>
          <a:xfrm>
            <a:off x="1500120" y="18572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9"/>
          <p:cNvSpPr/>
          <p:nvPr/>
        </p:nvSpPr>
        <p:spPr>
          <a:xfrm>
            <a:off x="5076720" y="1066680"/>
            <a:ext cx="367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вашия расположена на востоке Восточно-Европейской равнины, в Среднем Поволжье, на правом и левом берегах реки Волга. Большая часть республики занимает правобережье Волги и находится на территории, ограниченной волжскими притоками — Сурой и Свия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660680" y="142920"/>
            <a:ext cx="57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ные и подземны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300560" cy="566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35215"/>
          <p:cNvPicPr/>
          <p:nvPr/>
        </p:nvPicPr>
        <p:blipFill>
          <a:blip r:embed="rId2"/>
          <a:stretch/>
        </p:blipFill>
        <p:spPr>
          <a:xfrm>
            <a:off x="5076720" y="4221000"/>
            <a:ext cx="3672000" cy="2449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2876400"/>
            <a:ext cx="756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541760" cy="568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5148360" y="662760"/>
            <a:ext cx="3816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о, что запасы пресных вод суши невелики. В Чувашии они представлены поверхностными и подземными водами. Ресурсы рек с давних времен в жизни людей играли большую роль. Малые реки использовались для замочки конопли, луба, на них строились мельницы. По большим рекам (Волга, Сура, Цивиль) ходили маломерные суда. В питании чувашей значительную роль играла речная рыба. В то же время жители близлежащих к большим рекам селений страдали от сильных навод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468360" y="2876400"/>
            <a:ext cx="756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3286080" y="121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3357720" y="2428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286240" y="740520"/>
            <a:ext cx="36752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настоящее время рабочий уровень воды 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ебоксарском водохранилищ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веден только до отметки 63 м. Даже при этом уровне пойма левобережья и низкие надпойменные террасы затоплены. Так как уровень воды не достиг проектного, образовалось обширное мелководье с десятками остров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ощадь мелководья составляет около 40% всей поверхности водоема. Глубоководная зона совпадает лишь со старым руслом Волги. Мелководье и образовавшиеся острова являются основной причиной высокой мутности воды. Водохранилище питается за счет стока основной реки Волги и ее прито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539640" y="260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ой рекой, протекающей на севере республики на протяжении 120 км, является Волга, в которую впадают многочисленные большие и малые прито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возведения плотины Чебоксарской ГЭС ширина русла Волги у Чебоксар была более 1 км, а глубина на плесах 10—12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cheboksarskaja_ges"/>
          <p:cNvPicPr/>
          <p:nvPr/>
        </p:nvPicPr>
        <p:blipFill>
          <a:blip r:embed="rId1"/>
          <a:stretch/>
        </p:blipFill>
        <p:spPr>
          <a:xfrm>
            <a:off x="395280" y="2852640"/>
            <a:ext cx="4719600" cy="3076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0" y="-585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-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0" y="765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0"/>
          <p:cNvSpPr/>
          <p:nvPr/>
        </p:nvSpPr>
        <p:spPr>
          <a:xfrm>
            <a:off x="0" y="1271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1332000" y="549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5651640" y="29811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14200" y="297720"/>
            <a:ext cx="33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олгу в пределах нашей республики впадают многочисленные притоки.    Число малых рек в Чувашии составляет 2356, на 1000 км2 территории приходится 133 рек и речек. Общая протяженность рек Чувашии — 865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500720" y="3017520"/>
            <a:ext cx="4284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рзают реки обычно в первой половине ноября. Ледостав длится 140—150 дней. Питание рек в основном снеговое, отчасти грунтовыми в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жим рек Чувашии крайне неравномерный. Основная масса воды на малых реках проходит в весеннее половодье (50—70% годовой нормы). Самый низкий уровень воды весной наблюдается в юго-западной части республики, где распространены песчаные грунты, куда и просачиваются талые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1242246039_techet-reka-volga"/>
          <p:cNvPicPr/>
          <p:nvPr/>
        </p:nvPicPr>
        <p:blipFill>
          <a:blip r:embed="rId1"/>
          <a:stretch/>
        </p:blipFill>
        <p:spPr>
          <a:xfrm>
            <a:off x="179280" y="3357720"/>
            <a:ext cx="4025880" cy="300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20080126_4724"/>
          <p:cNvPicPr/>
          <p:nvPr/>
        </p:nvPicPr>
        <p:blipFill>
          <a:blip r:embed="rId2"/>
          <a:stretch/>
        </p:blipFill>
        <p:spPr>
          <a:xfrm>
            <a:off x="4500720" y="189000"/>
            <a:ext cx="4032000" cy="2693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68360" y="2876400"/>
            <a:ext cx="756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3925440" y="1890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3643200" y="857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4497480" y="24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539640" y="8366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ым крупным притоком Волги в Чувашии является Сура, длина которой 864 км, площадь бассейна — 68 тыс. км2. По Чувашии она протекает вдоль западной границы республики на протяжении 250 км. Русло Суры извилистое, шириной 110—250 м. Средний уклон реки большой (29 см на 1 км), поэтому С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еет большую скорость течения (0,75 м/с) и является самым мутным из крупных притоков Волг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40"/>
          <p:cNvPicPr/>
          <p:nvPr/>
        </p:nvPicPr>
        <p:blipFill>
          <a:blip r:embed="rId1"/>
          <a:stretch/>
        </p:blipFill>
        <p:spPr>
          <a:xfrm>
            <a:off x="1835280" y="2857680"/>
            <a:ext cx="5840280" cy="37144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8:23:38Z</dcterms:created>
  <dc:creator>User</dc:creator>
  <dc:description/>
  <dc:language>en-US</dc:language>
  <cp:lastModifiedBy>user</cp:lastModifiedBy>
  <dcterms:modified xsi:type="dcterms:W3CDTF">2011-01-27T12:07:31Z</dcterms:modified>
  <cp:revision>67</cp:revision>
  <dc:subject/>
  <dc:title>Слайд 1</dc:title>
</cp:coreProperties>
</file>