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B10-3261-4D2A-84AD-DEF3954D6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DCDC-47F3-467D-BA57-E18544CAE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5DB-E0C2-45E5-9EFD-C9178D1B8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ABBB-1C92-4CC7-B32F-1A855A1E8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90C-FED9-4640-8635-0662F3999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0FF1-0DD7-4979-B3A7-4495BA10F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8A7-CB58-40D1-BA8D-E97B1DABB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FC6-C5CB-4C01-BD21-63C6BA286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C0E-9127-4D8B-BA33-8E6076F1A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8CA9-D2D3-47B6-82C5-459B23554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9B70-766F-4AC1-9D8A-AAD5DED13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FC1A-7376-45E6-9669-372575FD1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8972-3C8B-4F6E-A4D0-5A3707AAC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80B-4F68-4EE7-9C06-F0AE040B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A4C-0D7B-46B2-A986-74191FFD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D47-0149-4D50-A51B-755AA138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E4F-8E99-4B0F-8499-5CC0A0C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A4CC-ED31-4491-A5A6-7677B3E5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A564-349D-4F41-9667-5C36E9D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73F-35AD-44C1-B786-284847E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7E52-6C12-460D-A519-94AF49BA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00CE-8E51-40DA-AC70-2045C22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EEFE-E3D5-4DCA-AC47-8DF8457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331-40A4-434D-B91A-34076A4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78E-8327-4551-A54F-93783175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3FC-2E86-4E88-B2DB-4B8E6EB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D039-4A8F-4FD0-A6FB-418A4AF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8AE4-771D-4DDF-887F-5D6F0C4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056B-A877-4DAF-9DE9-8ED36D06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E38C-2BBE-4F45-A6DE-617C596C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81E-11A7-4E0C-A15E-E06D302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DF6-39F1-44D0-B157-258C344B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541-E076-413C-BCC9-7BF71F9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F76-A634-40D8-BE76-E270105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FF0-627C-4830-BDA3-0146F4C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BEE-FDF8-4282-B127-C4D28D7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1AC-72B4-44E9-9DA1-D365C1C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485-54D6-48E4-9B36-49F7C9F5FB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D14-3634-48C1-A810-2B0A997D490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85680" y="1365120"/>
            <a:ext cx="8790120" cy="185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к русского языка в 3 классе по программе «Образовательная система «Школа 2100» авт.Р.Н.Бунеев, Е.В.Бунеева, О.В.Прони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к составила ЧЕБАКОВА Г.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начальных классов                                                         МОУ СОШ № 2 г.Краснода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4" descr="C:\Users\DOMO\Desktop\анимашки\book3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718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й в..сной ____ отправились к знакомому леснику.  _____ жил в л…сной ст…ро..ке. Дорога шла лесом. ____ в…ла прямо к избу…ке лесник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3472 L 0.42413 -0.33518 E">
                                      <p:cBhvr>
                                        <p:cTn id="24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3472 L -0.15747 -0.18982 E">
                                      <p:cBhvr>
                                        <p:cTn id="25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3472 L 0.52535 -0.45393 E">
                                      <p:cBhvr>
                                        <p:cTn id="25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 – ПРИЛАГ. – ГЛА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ЫЙ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ИТ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ЗНА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ЛЕТ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ОЕ-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Т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ЁМ ИТО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29" name="Содержимое 2"/>
          <p:cNvGrpSpPr/>
          <p:nvPr/>
        </p:nvGrpSpPr>
        <p:grpSpPr>
          <a:xfrm>
            <a:off x="255600" y="1809720"/>
            <a:ext cx="8504280" cy="4664160"/>
            <a:chOff x="255600" y="1809720"/>
            <a:chExt cx="8504280" cy="4664160"/>
          </a:xfrm>
        </p:grpSpPr>
        <p:pic>
          <p:nvPicPr>
            <p:cNvPr id="13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55600" y="1809720"/>
              <a:ext cx="8504280" cy="46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Что такое части речи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Перечислите части речи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Самостоятельные части речи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Служебные части речи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 Междометия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 Какие части речи мы чаще употребляем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общение знаний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. Что такое речь?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. Как можно назвать те части, которые мы произноси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. Чем отличаются слова друг от друг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6640" y="122400"/>
            <a:ext cx="7669440" cy="209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85840" y="2133360"/>
            <a:ext cx="794376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6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А С Т И   Р Е Ч И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АМОСТОЯТЕЛЬ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УЖЕБ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РЕЧ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Ы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 Имена существитель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Имена прилагатель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. Глагол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. Нареч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. Местоимен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РЕЧИ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СЛУЖЕБНЫ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 Предлог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Союз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РЕЧИ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84464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!           ОХ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!             АЙ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!    БАЮ-БАЙ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!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" name="Содержимое 2"/>
          <p:cNvGrpSpPr/>
          <p:nvPr/>
        </p:nvGrpSpPr>
        <p:grpSpPr>
          <a:xfrm>
            <a:off x="304920" y="1060560"/>
            <a:ext cx="8454960" cy="5376600"/>
            <a:chOff x="304920" y="1060560"/>
            <a:chExt cx="8454960" cy="5376600"/>
          </a:xfrm>
        </p:grpSpPr>
        <p:pic>
          <p:nvPicPr>
            <p:cNvPr id="11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04920" y="1060560"/>
              <a:ext cx="8454960" cy="53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1143000"/>
              <a:ext cx="822960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1. ИМЕНА СУЩЕСТВИ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( КТО? ЧТО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2. ИМЕНА ПРИЛАГА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(КАКОЙ? КАКАЯ? КАКОЕ? КАКИЕ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3. ГЛА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(ЧТО ДЕЛАТЬ? ЧТО СДЕЛАТЬ? И Т.Д.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4. НАРЕЧ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(КАК? КОГДА? ГДЕ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5. МЕСТОИМЕНИЯ  (КТО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№ 20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20960"/>
            <a:ext cx="40384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ь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т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т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 (тишь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ро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ЕТ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ётся (дать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а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Я          МЫ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ТЫ          ВЫ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ОН  ОНА  ОНО  ОН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8:56:03Z</dcterms:created>
  <dc:creator>future</dc:creator>
  <dc:description/>
  <dc:language>en-US</dc:language>
  <cp:lastModifiedBy>123</cp:lastModifiedBy>
  <dcterms:modified xsi:type="dcterms:W3CDTF">2011-01-31T17:54:00Z</dcterms:modified>
  <cp:revision>18</cp:revision>
  <dc:subject/>
  <dc:title>Ч А С Т И     Р Е Ч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9000000000001024140</vt:lpwstr>
  </property>
</Properties>
</file>