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EA6-C00F-438A-AF91-0C3061D7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B61-7A54-4717-ABB7-535BCC0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3C3-414A-4C14-A5EA-87DFD42B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E21-21A5-47AE-A7F6-F2FD3912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5D04-0E8C-4798-B473-C794088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FC2-D690-42A8-A21D-FA6738D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1A56-1F48-41D0-B493-D0B115C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77F1-266A-4324-BA0A-0A32FDAF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237-6DC7-4D86-B366-D001BE4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586-9B58-439E-9DC9-63034EB5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05F0-F0F8-468E-BD98-C536461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E2F-3B9A-4252-8780-3CA8B96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232B-8561-48DB-9DD9-29E7AEF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421-8385-43E7-A3F8-45C3BAA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C56-B2E7-406A-8D48-9D07C99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7C4-BAA4-45FC-BD6E-09F18999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09BF-3DD2-4BAB-9A95-74133EF6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5D-B534-47E5-BDB1-7BCEE1D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8D8-0981-4EC0-9761-964854B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829-97D3-4BEA-AEAE-8798393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4E7-9751-43E7-89CB-8D9816A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F77-AEFF-4C3C-A9A5-AB2F510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891-3887-47B6-9369-4A90247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42E-95AD-461C-9687-E824463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F6A-BCDF-47E7-B4BB-3661311B9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602-7568-43D4-B024-07E5613B6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Эмоционально-ценностное отношение к миру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743200" y="487656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етьякова Татьяна Геннадьевна, учитель географ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У «Гимназия № 43» г. Омс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Северный Кавказ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705120" cy="5686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44118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Западная Сибирь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233960" cy="5105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406760" y="1523880"/>
            <a:ext cx="45450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Омская область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-13306320"/>
            <a:ext cx="360" cy="9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705480" cy="5381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-353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-13317480"/>
            <a:ext cx="360" cy="9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362400" cy="4762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-366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400800" y="-9088560"/>
            <a:ext cx="36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622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-20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400800" y="-8798040"/>
            <a:ext cx="360" cy="68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5124600" cy="3638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-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-6078600"/>
            <a:ext cx="36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-898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400800" y="-13684320"/>
            <a:ext cx="360" cy="9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870440" y="990720"/>
            <a:ext cx="3664080" cy="5638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-378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-13012560"/>
            <a:ext cx="360" cy="9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3911760" cy="5334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-3324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Моё представление о мир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1035000"/>
            <a:ext cx="8229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638600" cy="49910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77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83908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Образ зарубежной страны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7724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80880" y="876240"/>
            <a:ext cx="8543880" cy="5981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743200" y="304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f7535"/>
                </a:solidFill>
                <a:latin typeface="Times New Roman"/>
              </a:rPr>
              <a:t>Венг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533520" y="914400"/>
            <a:ext cx="8340480" cy="5791320"/>
            <a:chOff x="533520" y="914400"/>
            <a:chExt cx="8340480" cy="579132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533520" y="914400"/>
              <a:ext cx="4146480" cy="57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5029200" y="990720"/>
              <a:ext cx="3844800" cy="541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/>
          <p:nvPr/>
        </p:nvSpPr>
        <p:spPr>
          <a:xfrm>
            <a:off x="1981080" y="304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f7535"/>
                </a:solidFill>
                <a:latin typeface="Times New Roman"/>
              </a:rPr>
              <a:t>Ирландия и Фран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Дальний Восток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04920" y="914400"/>
            <a:ext cx="8610480" cy="5638680"/>
            <a:chOff x="304920" y="914400"/>
            <a:chExt cx="8610480" cy="563868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476244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181480" y="914400"/>
              <a:ext cx="3733920" cy="556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11:31Z</dcterms:created>
  <dc:creator>Татьяна</dc:creator>
  <dc:description/>
  <dc:language>en-US</dc:language>
  <cp:lastModifiedBy>Happy</cp:lastModifiedBy>
  <dcterms:modified xsi:type="dcterms:W3CDTF">2011-02-01T12:28:03Z</dcterms:modified>
  <cp:revision>15</cp:revision>
  <dc:subject/>
  <dc:title>Презентация PowerPoint</dc:title>
</cp:coreProperties>
</file>