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23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gif" ContentType="image/gi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C73-D178-4CC9-A706-EAD9CF639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068D-87C0-4A15-B60A-BB437C11F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946-961D-4C26-A4F2-F18616A60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E0E3-3CF5-4426-B5CC-1C8340328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D73-DD47-46A2-ABCC-AA277E7BE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ED0-DB2D-41C4-AD49-E6F4B1567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602C-F73C-48BB-A8E8-AC26B8A61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BAC-AD31-4B71-8E91-83855E784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699-F939-47FF-B3C0-BE8569D85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5CE0-B4B4-4005-8D2F-00AEA014F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34A-C723-4350-BC93-2AEF0A731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FE0-12A8-4BBC-94F7-28D9DC9AF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FF2-A6B3-4D9C-9B0D-5FD5E2B14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AE9-DC03-4CD8-97FE-07C55F079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FA4-1984-4E3E-8E3F-F013E1830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2B2-76D7-4DB0-8D96-80635AC15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16AC-6EAC-495C-AD0A-E6363AEC3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B6F-30E8-4F87-A7EF-374ACF24E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9F1B-C0E5-4572-A175-BE87B3A6E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F98-4B0F-4688-977A-C89AC1C4D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91F-54A1-4EE7-A2A6-2AACB7B14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4530-A78B-4253-8F9E-878DD5049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06FF-3CED-4A41-ABF7-4FBB5E354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C52-23F8-457C-889C-E162CE71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408-CF1C-4CFC-8CC6-950AC60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4A0-B67D-41AE-B558-89F9C693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9F6-EB24-450E-AD10-AEC1616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3EE-5DE0-49C0-970B-93278554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97F4-09A1-4188-A0D5-4AD8761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B9F-9219-4C75-BAE4-1D4837D7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C40B-C977-4191-AAD1-ADA2B40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E26D-BDE1-4B70-B933-58DF579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3F96-FAD1-4ADD-8990-9FC12F2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C221-BE51-4A91-B35E-CDD1F69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BDA-934C-47F4-A64B-D68B987B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141E-12F3-482C-9C3A-A3A91B1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B70B-22D6-488F-ACEA-EF1C153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E24F-4E8F-4FCC-9727-DBF72BAB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67F9-FB4B-4B67-B4FB-E871278F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4B9E-4D81-4632-B9FD-0CDCE41E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659D-557A-4A30-838B-889F8A0C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1046-1D2E-4444-BF18-0888CA8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7085-3747-4E85-8D71-820BFBB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B67A-7A40-4E38-BBAB-192875B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32A6-DAEB-46CE-AEE5-5E0DFF7A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B02-C18E-4B4A-89CB-892B66D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72C6-0A7D-4186-9EA8-8C0D9A24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238F-DB88-478C-9F92-8E10921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0848-E032-40BB-BAE2-5EAB00B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D216-7484-4BC9-BBA5-FC3973F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5F2C-FF36-4A06-ABCF-8544629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7351-9E79-4661-9C8B-4A5CC5E7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5AC2-98E3-4281-AC88-78DE132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C1FA-C822-4F64-8DF7-415836DE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C189-60E3-41E7-B483-B6BCF0C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955E-91AD-45CD-BDF5-00D27E71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7DF-88E2-4354-BFEC-D008446C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DB1A-2BD2-459B-9BF8-B7CF5EA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1CFE-C1B2-4C78-9467-0C0916C4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4C63-DCDD-499B-8C0C-30DCBEEC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1C56-99F7-4413-84E5-DECA8A5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5AD6-0C24-4D56-BECE-4F0EF65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131C-18D2-4436-8D88-3619F586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AB7D-277F-4696-BCAA-F80C7FF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8490-FDD3-4226-BBD8-F460E83A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21EC-D4DA-427B-AB3C-32F0A4BA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0A48-0895-4850-B94D-0692B198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0B6-361F-4B7F-AC23-DD324D6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AD33-8D9E-4CF6-8BE8-D576788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1FC3-D4F1-41C4-8B21-3083CB3E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65E8-EF62-4992-9D7D-1EB7911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4A6B-3E68-43D0-A4F4-F58C35A2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171B-E2A2-4D03-8EBE-C87B301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FC68-34CA-44DA-BE6D-20F1EDA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889B-F563-4188-9C10-F682AE2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3727-554B-45BC-922B-B00D03E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D4F2-BD42-45F3-BB75-5B4172FA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C1D9-3631-4DBE-B4C8-A50F8E57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749-DB11-494F-BDC2-2B7E0745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AB31-3472-4641-B03A-A4EF3001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3479-75EF-43A8-AC70-A7054557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3615-3C31-463C-874B-FE3FE995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9B2D-7DAE-4DEB-A1EA-6E2BDF5B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6D63-73B7-417A-9C58-414D9C3E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B0A6-DF1A-4EC4-AB53-7EFFA06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CDFE-57BE-425C-8835-328D98D4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8922-1743-4C56-A0AB-D74B12C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D16A-E610-4578-ACED-F0D66C4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64EC2-E495-4489-A8CC-0B55410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941-4145-45DE-B8C3-E8E8521C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F2F6-DF77-4390-B25E-DF79C34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9CFE-2615-4EB9-A461-5F0A8FA0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A5F7-0438-4713-AEF9-32DBC747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FC1BD-DDA0-41DC-90CD-A5FBBF2A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18C2B-0177-479B-89DA-3EEAA4E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CC0B-57D4-4AC5-AAAF-C44D72C9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880F-2B7A-49C0-8126-A729A86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1CBBB-48E5-4464-9894-B589DAB2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2364-79D4-4D41-BFB0-2CC831E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FFBF-AAA6-457F-9B2C-82E6732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266-9FD0-41CA-BD78-BE64085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A1F1-BE46-490B-9E05-D1FA25E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D519-96EB-40A2-A764-35A3974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FE0A-8C07-485C-8391-F283124F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C622-F18C-4EE5-AE39-C8388345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4CE5-E214-4929-9DF2-8C3F4FCA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F1B-9CBA-4D19-A944-109FEC6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3F1E-D793-435D-8F4C-29DECE73252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6FEA-C949-4529-AAC7-F0767A0FC6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D64-A175-43DB-872B-C169CED5738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16A-602E-4296-A139-92FC85D970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3E2C-821C-4D26-9A3C-F91027484A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DA3-4E1C-4EE5-8966-78D4B005E7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1EE9-DACD-4132-8074-2E5C10A195E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quator.ru/photo-forms/2005_galapagos/galapagos_photo_07.htm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317520" y="469800"/>
            <a:ext cx="8472600" cy="2170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46836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217760" y="62373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7" descr="C:\Documents and Settings\admin\Рабочий стол\зоопарк.jpg"/>
          <p:cNvPicPr/>
          <p:nvPr/>
        </p:nvPicPr>
        <p:blipFill>
          <a:blip r:embed="rId2"/>
          <a:stretch/>
        </p:blipFill>
        <p:spPr>
          <a:xfrm>
            <a:off x="2071800" y="3429000"/>
            <a:ext cx="4705200" cy="2590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6"/>
          <p:cNvSpPr/>
          <p:nvPr/>
        </p:nvSpPr>
        <p:spPr>
          <a:xfrm>
            <a:off x="412920" y="201600"/>
            <a:ext cx="87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игр- самый большой и грозный из крупных кош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сит  200 - 300 кг.  Сейчас тигры стали редки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тны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Picture 8" descr="3d13"/>
          <p:cNvPicPr/>
          <p:nvPr/>
        </p:nvPicPr>
        <p:blipFill>
          <a:blip r:embed="rId1"/>
          <a:stretch/>
        </p:blipFill>
        <p:spPr>
          <a:xfrm>
            <a:off x="179280" y="57610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Documents and Settings\admin\Рабочий стол\тигр.jpg"/>
          <p:cNvPicPr/>
          <p:nvPr/>
        </p:nvPicPr>
        <p:blipFill>
          <a:blip r:embed="rId2"/>
          <a:stretch/>
        </p:blipFill>
        <p:spPr>
          <a:xfrm>
            <a:off x="1857240" y="2143080"/>
            <a:ext cx="5143680" cy="3862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picha913"/>
          <p:cNvPicPr/>
          <p:nvPr/>
        </p:nvPicPr>
        <p:blipFill>
          <a:blip r:embed="rId1"/>
          <a:stretch/>
        </p:blipFill>
        <p:spPr>
          <a:xfrm>
            <a:off x="179280" y="260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89280" y="4941720"/>
            <a:ext cx="90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и гигантов суши бегемот уступает только сл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рослый самец достигает в длину 4,5 метров. Высо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го 1.5 м, а весит он 3.5 т. Бегемот- травоядно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тное. За день может  съесть до 500 кг трав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1870"/>
          <p:cNvPicPr/>
          <p:nvPr/>
        </p:nvPicPr>
        <p:blipFill>
          <a:blip r:embed="rId1"/>
          <a:stretch/>
        </p:blipFill>
        <p:spPr>
          <a:xfrm>
            <a:off x="4643280" y="260280"/>
            <a:ext cx="4365720" cy="5835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-45000" y="115920"/>
            <a:ext cx="48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 бизонов включа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себя 2 вид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вропейского зубра 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вероамериканс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изона. Они  принадлежа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упным стад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тным. Рост 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– 4 м, а вес 1.5 тон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и великаны оч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радали от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х отстреливали ра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куры и языка, котор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итался деликатес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х стада мешали движен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ездов. Бизон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бивали просто ра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влеч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monkeys_foto-wallpaper_09"/>
          <p:cNvPicPr/>
          <p:nvPr/>
        </p:nvPicPr>
        <p:blipFill>
          <a:blip r:embed="rId1"/>
          <a:stretch/>
        </p:blipFill>
        <p:spPr>
          <a:xfrm>
            <a:off x="4356000" y="2997360"/>
            <a:ext cx="4641840" cy="34812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4238280" y="344520"/>
            <a:ext cx="467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ртышки – сам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ногочисленные из лесн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зьян. Они славя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нообразием цвета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ёстрой окрас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-9360" y="4365720"/>
            <a:ext cx="43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ни прекрасные прыгу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великолепно уме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лансировать п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и длинн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ровых хвос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10" descr="3d24"/>
          <p:cNvPicPr/>
          <p:nvPr/>
        </p:nvPicPr>
        <p:blipFill>
          <a:blip r:embed="rId2"/>
          <a:stretch/>
        </p:blipFill>
        <p:spPr>
          <a:xfrm>
            <a:off x="7956720" y="191772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02"/>
          <p:cNvPicPr/>
          <p:nvPr/>
        </p:nvPicPr>
        <p:blipFill>
          <a:blip r:embed="rId3"/>
          <a:stretch/>
        </p:blipFill>
        <p:spPr>
          <a:xfrm>
            <a:off x="324000" y="476280"/>
            <a:ext cx="3708360" cy="2990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9" descr="Комодский варан"/>
          <p:cNvPicPr/>
          <p:nvPr/>
        </p:nvPicPr>
        <p:blipFill>
          <a:blip r:embed="rId1"/>
          <a:stretch/>
        </p:blipFill>
        <p:spPr>
          <a:xfrm>
            <a:off x="2357280" y="3286080"/>
            <a:ext cx="4438800" cy="3133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3"/>
          <p:cNvSpPr/>
          <p:nvPr/>
        </p:nvSpPr>
        <p:spPr>
          <a:xfrm>
            <a:off x="406800" y="201600"/>
            <a:ext cx="817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модский дракон  был обнаружен только 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11 году. Эта огромная ящерица весит 150 кг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 её длина превышает 3 метров. Драконы 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оядные рептилии, они едят живых суще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ще их добычей становятся слабые и боль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от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SnackTimePandaBear"/>
          <p:cNvPicPr/>
          <p:nvPr/>
        </p:nvPicPr>
        <p:blipFill>
          <a:blip r:embed="rId1"/>
          <a:stretch/>
        </p:blipFill>
        <p:spPr>
          <a:xfrm>
            <a:off x="4067280" y="11592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16204302"/>
          <p:cNvPicPr/>
          <p:nvPr/>
        </p:nvPicPr>
        <p:blipFill>
          <a:blip r:embed="rId2"/>
          <a:stretch/>
        </p:blipFill>
        <p:spPr>
          <a:xfrm>
            <a:off x="324000" y="3941640"/>
            <a:ext cx="3889080" cy="29163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8"/>
          <p:cNvSpPr/>
          <p:nvPr/>
        </p:nvSpPr>
        <p:spPr>
          <a:xfrm>
            <a:off x="-18000" y="0"/>
            <a:ext cx="402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ая панд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рывается 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юбопытных глаз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точных Гимала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ёт в непроходи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мбуковых лес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375800" y="4076640"/>
            <a:ext cx="476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юбит молодые побег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мбука. Но если их нет, 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т старые стебли. Охоти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на мелких зверюш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021018_05"/>
          <p:cNvPicPr/>
          <p:nvPr/>
        </p:nvPicPr>
        <p:blipFill>
          <a:blip r:embed="rId1"/>
          <a:stretch/>
        </p:blipFill>
        <p:spPr>
          <a:xfrm>
            <a:off x="4211640" y="404640"/>
            <a:ext cx="4740120" cy="3554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______________183"/>
          <p:cNvPicPr/>
          <p:nvPr/>
        </p:nvPicPr>
        <p:blipFill>
          <a:blip r:embed="rId2"/>
          <a:stretch/>
        </p:blipFill>
        <p:spPr>
          <a:xfrm>
            <a:off x="179280" y="3041640"/>
            <a:ext cx="4824360" cy="361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8"/>
          <p:cNvSpPr/>
          <p:nvPr/>
        </p:nvSpPr>
        <p:spPr>
          <a:xfrm>
            <a:off x="-4680" y="404640"/>
            <a:ext cx="42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дведи – это мохнат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яжеловесы сред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ищ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5022000" y="4149720"/>
            <a:ext cx="392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ый большой 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дведей – бел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ярный медвед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го  длина больше 3 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сит он целую тон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1" descr="ani-bird_blue"/>
          <p:cNvPicPr/>
          <p:nvPr/>
        </p:nvPicPr>
        <p:blipFill>
          <a:blip r:embed="rId3"/>
          <a:stretch/>
        </p:blipFill>
        <p:spPr>
          <a:xfrm>
            <a:off x="7596360" y="5867280"/>
            <a:ext cx="1238040" cy="99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" descr="249546829"/>
          <p:cNvPicPr/>
          <p:nvPr/>
        </p:nvPicPr>
        <p:blipFill>
          <a:blip r:embed="rId1"/>
          <a:stretch/>
        </p:blipFill>
        <p:spPr>
          <a:xfrm>
            <a:off x="1258920" y="1916280"/>
            <a:ext cx="7129440" cy="47624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204840" y="128520"/>
            <a:ext cx="871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унс обитает  в районе Гудзонова залива. Длин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верёк всего 40 см, а его мех блестяще –чёр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вета  с белыми полосками. Встречая врага скун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щается своей отвратительной жидк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Веллингтогская выдра."/>
          <p:cNvPicPr/>
          <p:nvPr/>
        </p:nvPicPr>
        <p:blipFill>
          <a:blip r:embed="rId1"/>
          <a:stretch/>
        </p:blipFill>
        <p:spPr>
          <a:xfrm>
            <a:off x="500040" y="928800"/>
            <a:ext cx="3892680" cy="25970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9"/>
          <p:cNvSpPr/>
          <p:nvPr/>
        </p:nvSpPr>
        <p:spPr>
          <a:xfrm>
            <a:off x="6057360" y="344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445400" y="43052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12" descr="large_2754"/>
          <p:cNvPicPr/>
          <p:nvPr/>
        </p:nvPicPr>
        <p:blipFill>
          <a:blip r:embed="rId2"/>
          <a:stretch/>
        </p:blipFill>
        <p:spPr>
          <a:xfrm>
            <a:off x="5427720" y="4357800"/>
            <a:ext cx="3521160" cy="2340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8"/>
          <p:cNvSpPr/>
          <p:nvPr/>
        </p:nvSpPr>
        <p:spPr>
          <a:xfrm>
            <a:off x="1311120" y="552924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Picture 5" descr="C:\Documents and Settings\admin\Рабочий стол\рысь.jpg"/>
          <p:cNvPicPr/>
          <p:nvPr/>
        </p:nvPicPr>
        <p:blipFill>
          <a:blip r:embed="rId1"/>
          <a:stretch/>
        </p:blipFill>
        <p:spPr>
          <a:xfrm>
            <a:off x="1714680" y="1504800"/>
            <a:ext cx="5715000" cy="3848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4316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де обедал, воробей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зоопарке у звер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обедал я спер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решеткою у ль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16" descr="0e2ce74c1d381f9e0e55d242ffadb788"/>
          <p:cNvPicPr/>
          <p:nvPr/>
        </p:nvPicPr>
        <p:blipFill>
          <a:blip r:embed="rId1"/>
          <a:stretch/>
        </p:blipFill>
        <p:spPr>
          <a:xfrm>
            <a:off x="6156360" y="189000"/>
            <a:ext cx="2833560" cy="307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18" descr="Yalta_Zoo_Lion"/>
          <p:cNvPicPr/>
          <p:nvPr/>
        </p:nvPicPr>
        <p:blipFill>
          <a:blip r:embed="rId2"/>
          <a:stretch/>
        </p:blipFill>
        <p:spPr>
          <a:xfrm>
            <a:off x="4643280" y="335772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1018"/>
          <p:cNvPicPr/>
          <p:nvPr/>
        </p:nvPicPr>
        <p:blipFill>
          <a:blip r:embed="rId1"/>
          <a:stretch/>
        </p:blipFill>
        <p:spPr>
          <a:xfrm>
            <a:off x="395280" y="1484280"/>
            <a:ext cx="5715000" cy="5067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6"/>
          <p:cNvSpPr/>
          <p:nvPr/>
        </p:nvSpPr>
        <p:spPr>
          <a:xfrm>
            <a:off x="2880" y="115920"/>
            <a:ext cx="899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енивец – живёт во влажных лесах Южной Амер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н всю жизнь проводит вверх ногами, цепля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ми четырьмя конечностями за ветку  и весит п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испытыва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доб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7" descr="галапагосская, или слоновая черепаха, Geochelone elephantopus на острове Санта-Кру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3000240"/>
            <a:ext cx="4824360" cy="36198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-24840" y="-1440"/>
            <a:ext cx="92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игантская черепаха по имени Генриетта - старейшая из ны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ивущих на Земле существ, отметила сегодня очередной д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ждения. Легендарной долгожительнице исполнилось 175 л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честь юбилея зоопарк Стива Ирвина в Австралии, где послед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сятилетия живет Генриетта, устроил пышный праздни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менинницу накормили разными лакомствами, в частност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зовым тортом из гибискус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рушка-черепаха, которая к своим преклонным годам достиг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мера письменного стола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596040" y="31417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Tahoma"/>
              </a:rPr>
              <a:t>Генриет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365880" y="60930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Tahoma"/>
              </a:rPr>
              <a:t>Слоновая черепа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4"/>
          <p:cNvSpPr/>
          <p:nvPr/>
        </p:nvSpPr>
        <p:spPr>
          <a:xfrm>
            <a:off x="2627280" y="35712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7" descr="7"/>
          <p:cNvPicPr/>
          <p:nvPr/>
        </p:nvPicPr>
        <p:blipFill>
          <a:blip r:embed="rId1"/>
          <a:stretch/>
        </p:blipFill>
        <p:spPr>
          <a:xfrm>
            <a:off x="1357200" y="1643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2" descr="984"/>
          <p:cNvPicPr/>
          <p:nvPr/>
        </p:nvPicPr>
        <p:blipFill>
          <a:blip r:embed="rId1"/>
          <a:stretch/>
        </p:blipFill>
        <p:spPr>
          <a:xfrm>
            <a:off x="179280" y="3284640"/>
            <a:ext cx="4427640" cy="34239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5"/>
          <p:cNvSpPr/>
          <p:nvPr/>
        </p:nvSpPr>
        <p:spPr>
          <a:xfrm flipV="1" rot="10801200">
            <a:off x="0" y="213300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крепился у лисиц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90440" y="36450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 моржа попил вод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19" descr="bird10"/>
          <p:cNvPicPr/>
          <p:nvPr/>
        </p:nvPicPr>
        <p:blipFill>
          <a:blip r:embed="rId2"/>
          <a:stretch/>
        </p:blipFill>
        <p:spPr>
          <a:xfrm>
            <a:off x="7093080" y="5200560"/>
            <a:ext cx="1812960" cy="1451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1" descr="2513"/>
          <p:cNvPicPr/>
          <p:nvPr/>
        </p:nvPicPr>
        <p:blipFill>
          <a:blip r:embed="rId3"/>
          <a:stretch/>
        </p:blipFill>
        <p:spPr>
          <a:xfrm>
            <a:off x="5292720" y="260280"/>
            <a:ext cx="34686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slon"/>
          <p:cNvPicPr/>
          <p:nvPr/>
        </p:nvPicPr>
        <p:blipFill>
          <a:blip r:embed="rId1"/>
          <a:stretch/>
        </p:blipFill>
        <p:spPr>
          <a:xfrm>
            <a:off x="428760" y="1714680"/>
            <a:ext cx="3670200" cy="275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3237"/>
          <p:cNvPicPr/>
          <p:nvPr/>
        </p:nvPicPr>
        <p:blipFill>
          <a:blip r:embed="rId2"/>
          <a:stretch/>
        </p:blipFill>
        <p:spPr>
          <a:xfrm>
            <a:off x="5357880" y="2143080"/>
            <a:ext cx="3085920" cy="41515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1"/>
          <p:cNvSpPr/>
          <p:nvPr/>
        </p:nvSpPr>
        <p:spPr>
          <a:xfrm>
            <a:off x="243360" y="2016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л морковку у слон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398880" y="56610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 журавлём поел пше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Picture 14" descr="bird10"/>
          <p:cNvPicPr/>
          <p:nvPr/>
        </p:nvPicPr>
        <p:blipFill>
          <a:blip r:embed="rId3"/>
          <a:stretch/>
        </p:blipFill>
        <p:spPr>
          <a:xfrm>
            <a:off x="7905600" y="214200"/>
            <a:ext cx="1238400" cy="99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picturecontent-pid-68a6-et-360a1d2"/>
          <p:cNvPicPr/>
          <p:nvPr/>
        </p:nvPicPr>
        <p:blipFill>
          <a:blip r:embed="rId1"/>
          <a:stretch/>
        </p:blipFill>
        <p:spPr>
          <a:xfrm>
            <a:off x="642960" y="642960"/>
            <a:ext cx="3489480" cy="49402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6"/>
          <p:cNvSpPr/>
          <p:nvPr/>
        </p:nvSpPr>
        <p:spPr>
          <a:xfrm>
            <a:off x="4991400" y="1844640"/>
            <a:ext cx="39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гостил у носорог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убей поел немно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8" descr="bird10"/>
          <p:cNvPicPr/>
          <p:nvPr/>
        </p:nvPicPr>
        <p:blipFill>
          <a:blip r:embed="rId2"/>
          <a:stretch/>
        </p:blipFill>
        <p:spPr>
          <a:xfrm>
            <a:off x="7740720" y="5589720"/>
            <a:ext cx="1238040" cy="99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6"/>
          <p:cNvSpPr/>
          <p:nvPr/>
        </p:nvSpPr>
        <p:spPr>
          <a:xfrm>
            <a:off x="508320" y="5724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 зубастый крокод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уть меня не проглотил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7" descr="bird10"/>
          <p:cNvPicPr/>
          <p:nvPr/>
        </p:nvPicPr>
        <p:blipFill>
          <a:blip r:embed="rId1"/>
          <a:stretch/>
        </p:blipFill>
        <p:spPr>
          <a:xfrm>
            <a:off x="7905600" y="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Documents and Settings\admin\Рабочий стол\крокодил.jpg"/>
          <p:cNvPicPr/>
          <p:nvPr/>
        </p:nvPicPr>
        <p:blipFill>
          <a:blip r:embed="rId2"/>
          <a:stretch/>
        </p:blipFill>
        <p:spPr>
          <a:xfrm>
            <a:off x="1857240" y="1857240"/>
            <a:ext cx="5376960" cy="4032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6"/>
          <p:cNvSpPr/>
          <p:nvPr/>
        </p:nvSpPr>
        <p:spPr>
          <a:xfrm>
            <a:off x="162720" y="620640"/>
            <a:ext cx="870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вут эти животные в Центральной Афри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рослый самец достигает роста пяти с полови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сти метров и весит целую тонну. Это очен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циозное животное.  Оно великолепно приспособ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ено, чтобы жить в самых засушливых райо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ираф облада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утким слухом 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личным зр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гает оч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ыстр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7" descr="3d20"/>
          <p:cNvPicPr/>
          <p:nvPr/>
        </p:nvPicPr>
        <p:blipFill>
          <a:blip r:embed="rId1"/>
          <a:stretch/>
        </p:blipFill>
        <p:spPr>
          <a:xfrm>
            <a:off x="324000" y="544356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2698560" y="18900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утешествуем по зоопар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6" descr="C:\Documents and Settings\admin\Рабочий стол\жираы.JPG"/>
          <p:cNvPicPr/>
          <p:nvPr/>
        </p:nvPicPr>
        <p:blipFill>
          <a:blip r:embed="rId2"/>
          <a:stretch/>
        </p:blipFill>
        <p:spPr>
          <a:xfrm>
            <a:off x="4929120" y="2571840"/>
            <a:ext cx="2705040" cy="409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6"/>
          <p:cNvSpPr/>
          <p:nvPr/>
        </p:nvSpPr>
        <p:spPr>
          <a:xfrm>
            <a:off x="1868040" y="603396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Picture 4" descr="C:\Documents and Settings\admin\Рабочий стол\слон.jpg"/>
          <p:cNvPicPr/>
          <p:nvPr/>
        </p:nvPicPr>
        <p:blipFill>
          <a:blip r:embed="rId1"/>
          <a:stretch/>
        </p:blipFill>
        <p:spPr>
          <a:xfrm>
            <a:off x="1785960" y="785880"/>
            <a:ext cx="5808600" cy="4402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6"/>
          <p:cNvSpPr/>
          <p:nvPr/>
        </p:nvSpPr>
        <p:spPr>
          <a:xfrm>
            <a:off x="322560" y="0"/>
            <a:ext cx="85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земле существует 15 миллионов верблюд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они крепкие и выносливые животные. У н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ного приспособлений, чтобы жить в пусты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ледние дикие верблюды живут в Монгол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устыне Гоб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C:\Documents and Settings\admin\Рабочий стол\верблюд.htm"/>
          <p:cNvPicPr/>
          <p:nvPr/>
        </p:nvPicPr>
        <p:blipFill>
          <a:blip r:embed="rId1"/>
          <a:stretch/>
        </p:blipFill>
        <p:spPr>
          <a:xfrm>
            <a:off x="2000160" y="2357280"/>
            <a:ext cx="5095800" cy="382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4:25:08Z</dcterms:created>
  <dc:creator>Берюхов</dc:creator>
  <dc:description/>
  <dc:language>en-US</dc:language>
  <cp:lastModifiedBy>kab_202</cp:lastModifiedBy>
  <dcterms:modified xsi:type="dcterms:W3CDTF">2011-02-01T08:02:08Z</dcterms:modified>
  <cp:revision>35</cp:revision>
  <dc:subject/>
  <dc:title>В  з о о п а р к е</dc:title>
</cp:coreProperties>
</file>