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5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6E7-96E9-424D-B310-CB895B9F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08A-779A-429E-B133-211887C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765-AE0E-49D6-A26E-0358EE63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EED-B447-43A5-AD2C-9E9D125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EB5-9122-40A6-B3C0-7E5DCF3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22E-2764-488D-9020-66F6955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C23-05B6-4DA9-98AD-377F879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F9B-E01A-4643-AA54-38163374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976-5226-4B15-890B-8964C5DE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F9B-9CFF-4B2B-B0BD-796D890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ED9-5537-451D-9BB8-79DBC2A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5DA-B881-4FCB-95E2-B280E1F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2AB-7CC2-4C4C-AEB4-805F66EE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gallery.imagemaster.ru/img34795.htm" TargetMode="External"/><Relationship Id="rId3" Type="http://schemas.openxmlformats.org/officeDocument/2006/relationships/hyperlink" Target="http://www.factnews.ru/" TargetMode="External"/><Relationship Id="rId4" Type="http://schemas.openxmlformats.org/officeDocument/2006/relationships/hyperlink" Target="http://www.ecorussia.info/" TargetMode="External"/><Relationship Id="rId5" Type="http://schemas.openxmlformats.org/officeDocument/2006/relationships/hyperlink" Target="http://www.rosfoto.ru/shop/photo/79734/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774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87280" y="5950080"/>
            <a:ext cx="576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: Соловьева Людмил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ель географ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рода Калинин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836640"/>
            <a:ext cx="854388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Климат Калининградской области 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904000" cy="311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24360" y="115920"/>
            <a:ext cx="17287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11080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2998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орским положением области и близостью ее к Атлантике объясняются многие опасные явления природы (шторма, туман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льные ветры со скоростью 15 м/с и более (штормовые) бывают в области осенью и зимой, в среднем до 5-10 раз в го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43280" y="3284640"/>
            <a:ext cx="42876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063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3164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ормовые ветры иногда достигают ураганной силы - до 25 - 40 м/с, нанося большой урон народному хозяйств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4753080" cy="2679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959120" y="479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орм на Бал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314960" y="4005360"/>
            <a:ext cx="4829040" cy="285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90000" y="40244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ининградское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llery.imagemaster.ru/img34795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actnews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corussia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rosfoto.ru/shop/photo/7973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9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6553440" cy="439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403280" y="692280"/>
            <a:ext cx="6769080" cy="299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355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74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имат области является переходным от морского к умеренно-континентально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525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42840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81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3809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ждь идет в среднем 185 дней в году, снег - 55 дней, 60 дней бывает пасмурно, 68 дней - солн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мосферные осадки в среднем колеблются от 650 до 940 мм в год, наибольшее их количество может достигать 1100 мм, наименьшее - 400 м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2603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3959280" cy="3440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16360" y="3730680"/>
            <a:ext cx="4032360" cy="3019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9640" y="69228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42840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03848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ая влажность днем приближается к 70%, утром и вечером до 84 -9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адки превышают испарение, что приводит к сезонному избыточному переувлажнению и требует мелиоративного благоустройства земель. Средняя температура воздуха в области +80С, самого холодного месяца (январь) -2...-40С, самого теплого (июль) +17...+180С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18900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1773360"/>
            <a:ext cx="42876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-847080"/>
            <a:ext cx="6694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ые фенологические сезоны не совпадают с астрономическими. Весна в области (прохладная и продолжительная) длится 96 дн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464000" cy="5135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42876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о умеренно теплое и дождливое, короче астрономического на 20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ень (во вторую половину ненастная) длиннее календарной на 28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788000" cy="38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28400" cy="43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36920" y="53928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шебный уголок Калинингр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к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4287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038480" cy="4526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има мягкая, с частыми оттепелями, короче астрономической на 12 дн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6093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ний Калининград. Кафедральны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287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-1171800"/>
            <a:ext cx="6765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321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территории области сложился своеобразный ветровой режим. Ветры различны по направлениям и скорости. Средняя скорость ветра на побережье достигает 5 - 6 м/с и 3,5 - 4 м/с в южных и восточных райо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464000" cy="4182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623480" y="5322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лтийское море в янв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42876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безветренную, штилевую погоду приходится всего лишь 9% от всех измеренных случаев. Преобладающими ветрами являются западные, юго-запа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470120" cy="30290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481640" y="4529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лтийск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93080" y="47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37:46Z</dcterms:created>
  <dc:creator>Luda</dc:creator>
  <dc:description/>
  <dc:language>en-US</dc:language>
  <cp:lastModifiedBy>Соловьёва</cp:lastModifiedBy>
  <dcterms:modified xsi:type="dcterms:W3CDTF">2011-02-02T17:19:35Z</dcterms:modified>
  <cp:revision>7</cp:revision>
  <dc:subject/>
  <dc:title>Климат Калининградской области </dc:title>
</cp:coreProperties>
</file>