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9B9-6FFD-4E0F-95D0-8BAFFCDF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F1D-410C-406B-B01A-D18D732F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8FC-1141-433E-BDE2-EEDC7E0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8CD-5C08-4720-9D6D-70DF8FA2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6F86-0732-4F14-AA8C-8F8B2313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BF88-7DE3-48BA-99CD-90FC0CA7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1961-988B-4581-98D8-BA04B41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CFA3-1EB0-414F-B502-C9177685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7B6-800E-48D4-811F-DE75E640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BF9-6671-4DEA-A5C1-C08A4604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E7A9-45B7-4BA7-8B13-C98B0153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CA4-65D0-4DB0-A5DD-4CED3C17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CCC-6280-4C91-89C0-5BADFE5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92D-CD92-476B-A252-72D9EA06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5F21-DF31-4090-88F9-CB2698DC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2E27-ABBC-4F4E-BA91-C36C8906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D531-17C1-486E-8C8C-F6E33651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0DB-55A6-48B6-8290-6CFFEB7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07A-B320-4F1E-8775-9569CED4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A82-A8DE-4DA5-9775-F22E15F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CC8-60BB-4BDD-849B-8B35ACDF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3EB-C7D7-4CF4-B765-CD02A38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F53-B083-4051-93FC-25EE82B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BE5-0F62-4257-9BED-536C19D6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9403-B2B1-4630-9274-AF4F4FD7B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9BC2-2B07-41D9-8897-77FECD70A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751640" cy="358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476360" y="90792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А УЧЕНИКА</a:t>
            </a:r>
            <a:endParaRPr b="1" i="1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403280" y="476280"/>
            <a:ext cx="6048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ы сиди за партой строй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веди себя достойн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3662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32000" y="4869000"/>
            <a:ext cx="612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и всегда в поряд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нижки, ручки и тетрад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43210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5640" y="1557360"/>
            <a:ext cx="7343640" cy="31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и правила просты,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ыстро их запомнишь ты!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5238720" cy="2667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24000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332000" y="4508640"/>
            <a:ext cx="66625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оснулся, так встав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 воли не дава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63640" y="692280"/>
            <a:ext cx="583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песток роса умыл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тебя умоет мыл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067280" y="3213000"/>
            <a:ext cx="48243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35280" y="476280"/>
            <a:ext cx="5472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нукания не жди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школу вовремя ид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403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332000" y="5084640"/>
            <a:ext cx="6697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жде, чем захлопнуть двер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ли взял с собой провер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332000" y="620640"/>
            <a:ext cx="60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 в одежде аккуратен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бегай и дыр, и пятен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96908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908000" y="4797360"/>
            <a:ext cx="540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не болтай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морский попуга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967280" cy="349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23814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476360" y="4869000"/>
            <a:ext cx="612288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етить хочешь - не шуми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только руку подним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673440" cy="3359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200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979640" y="5013360"/>
            <a:ext cx="550080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та - это не кроват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нельзя на ней лежат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284720" cy="2828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189000"/>
            <a:ext cx="4033800" cy="4103640"/>
          </a:xfrm>
          <a:prstGeom prst="noSmoking">
            <a:avLst>
              <a:gd name="adj" fmla="val 12500"/>
            </a:avLst>
          </a:prstGeom>
          <a:solidFill>
            <a:srgbClr val="ff00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1:39:36Z</dcterms:created>
  <dc:creator>Oleg</dc:creator>
  <dc:description/>
  <dc:language>en-US</dc:language>
  <cp:lastModifiedBy>Oleg</cp:lastModifiedBy>
  <dcterms:modified xsi:type="dcterms:W3CDTF">2009-08-13T12:31:12Z</dcterms:modified>
  <cp:revision>3</cp:revision>
  <dc:subject/>
  <dc:title>Слайд 1</dc:title>
</cp:coreProperties>
</file>