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9249-19E0-42F2-9904-97202285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E567-D0D9-476A-9D83-75BADB81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FEB9-51BA-43B8-BB04-84B2395E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F328-848A-47BA-929C-61996E26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221-358C-4E9E-B575-9F64B2DD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8E3-3894-4C81-8DBA-C0BEC97A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0AB-D223-47EE-BD1E-D8565CC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86D-F9C9-4EAC-B731-771EBA9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4575-39FE-40D8-A9F0-3C47692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614B-8E78-4239-A36D-4F96BB80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D33-DFD3-4910-A0A8-DBCA2E0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896D-2FA8-414E-8E5F-D107749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F711-289A-4DEE-95E8-B48DB4D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224-6DE4-40D7-85FC-59983CF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43BE-A63C-42D0-A9EA-1B22CD0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102-F56C-4296-A19A-08A1B170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A1D1-112B-485C-B2DB-1824ABB8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3668-C983-440C-9FFA-F9501E3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A1C8-846E-4BAC-B92F-3DC1546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B302-6873-450F-A613-BD5ADE37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7AB0-C5AE-431B-9DA1-83A85D49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F2EA-B2AA-4B99-9D16-22902A4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1497-11C3-4F26-B252-998FBAA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D192-1B29-4D1E-B6E0-635152B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9BD-F7E1-4E40-9B34-50855D59947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53B4-C614-47F6-972E-1BCBC996AF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ект: «Молодёжь за здоровый образ жизни»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800" y="2500200"/>
            <a:ext cx="7215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чики проекта: Заслуженный учитель РФ Сорокоумова Валентина Алексеевна, учитель биологии МОУ «СОШ №162». Учащиеся 11 класса МОУ «СОШ №162» Демидков Михаил и Панюшкин Антон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14280" y="585792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166e"/>
                </a:solidFill>
                <a:latin typeface="Calibri"/>
              </a:rPr>
              <a:t>Номинация «Мир без опасности»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Нормативно-правовые ресурс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Проект, описанный документально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Законы об образовании, касающиеся профилактики наркомании и алкоголизма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Концепция профилактики злоупотребления психоактивными веществами в образовательной среде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Закон «О наркотических средствах и психотропных веществах». 199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Критерии продуктивности проекта:</a:t>
            </a:r>
            <a:endParaRPr b="1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Активность каждого участника проекта в соответствии с его индивидуальными возможностями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Реалистичность, практикоориентированность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Характер общения и взаимопомощи участников проекта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Умение аргументировать свои заключения, выводы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Коллективный характер принимаемых решений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Эстетика оформления результатов выполняемого проекта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Умение отвечать на вопросы оппонентов, аргументированность ответов каждой группы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жидаемые результаты проект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Получение необходимых знаний о правовых нормах, регламентирующих ответственность за правонарушения, связанные с применением наркотиков и алкоголя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Позитивная социализация личности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Знание последствий употребления наркотиков и формирования наркозависимости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Информированность о детских и молодёжных организациях, о волонтёрских движениях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Совместная деятельность педагогов, школьников, родителей по пропаганде здорового образа жизни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cd81"/>
                </a:solidFill>
                <a:latin typeface="Verdana"/>
              </a:rPr>
              <a:t>Творческое развитие участников проекта.</a:t>
            </a: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зможные проблем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Непонимание идеи проекта и даже отторжение его учениками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Дефицит ресурсов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Частичное невыполнение мероприятий ответственными лицами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Основная идея проект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5bcd81"/>
                </a:solidFill>
                <a:latin typeface="Verdana"/>
              </a:rPr>
              <a:t>Создание доступной психолого-педагогической помощи школьникам, направленной на профилактику злоупотребления психоактивными веществами в образовательной среде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Проблема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Практически во всех регионах России растёт число подростков и молодёжи, употребляющей наркотически</a:t>
            </a:r>
            <a:r>
              <a:rPr b="1" lang="ru-RU" sz="2800" spc="-1" strike="noStrike">
                <a:solidFill>
                  <a:srgbClr val="5bcd81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и психоактивные вещества. Прослеживается устойчивая взаимосвязь между ростом числа случаев наркомании среди несовершеннолетних и ростом числа противоправных деяний, совершённых детьми и подростками из-за злоупотребления психоактивных веществ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Содействие включению обучающихся в решение сознательно значимых проблем в формировании гражданского общества, содействие сбережению здоровья школьников, пропаганда здорового образа жизни, создание молодёжного волонтёрского движения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Рассмотреть и проанализировать литературу в контексте данного проекта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Выявить условия реализации данного проекта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Привлечь педагогов, психолога, школьников, заинтересованных в реализации проекта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Разработать программу волонтёрского движения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Оказать содействие реализации и пропаганде государственной политики противодействия распространению наркотических средств, объединение учителей, родителей, школьников в борьбе с наркоманией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4" descr=""/>
          <p:cNvPicPr/>
          <p:nvPr/>
        </p:nvPicPr>
        <p:blipFill>
          <a:blip r:embed="rId1"/>
          <a:stretch/>
        </p:blipFill>
        <p:spPr>
          <a:xfrm>
            <a:off x="268200" y="1390680"/>
            <a:ext cx="8680680" cy="5199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28760" y="285840"/>
            <a:ext cx="84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166e"/>
                </a:solidFill>
                <a:latin typeface="Calibri"/>
              </a:rPr>
              <a:t>Основные понятия, лежащие в основе проекта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Ресурсы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cd81"/>
                </a:solidFill>
                <a:latin typeface="Verdana"/>
              </a:rPr>
              <a:t>Материальная база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cd81"/>
                </a:solidFill>
                <a:latin typeface="Verdana"/>
              </a:rPr>
              <a:t>Технические средства обучения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cd81"/>
                </a:solidFill>
                <a:latin typeface="Verdana"/>
              </a:rPr>
              <a:t>Кадровые ресурсы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cd81"/>
                </a:solidFill>
                <a:latin typeface="Verdana"/>
              </a:rPr>
              <a:t>Нормативно-правовые ресурсы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551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Кадровые ресурс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cd81"/>
                </a:solidFill>
                <a:latin typeface="Verdana"/>
              </a:rPr>
              <a:t>Педагоги школы</a:t>
            </a:r>
            <a:endParaRPr b="1" lang="en-US" sz="4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cd81"/>
                </a:solidFill>
                <a:latin typeface="Verdana"/>
              </a:rPr>
              <a:t>Учащиеся 9-11 класса</a:t>
            </a:r>
            <a:endParaRPr b="1" lang="en-US" sz="4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cd81"/>
                </a:solidFill>
                <a:latin typeface="Verdana"/>
              </a:rPr>
              <a:t>Психолог</a:t>
            </a:r>
            <a:endParaRPr b="1" lang="en-US" sz="44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4:24:30Z</dcterms:created>
  <dc:creator>Панюшкина Елена</dc:creator>
  <dc:description/>
  <dc:language>en-US</dc:language>
  <cp:lastModifiedBy>Пользователь</cp:lastModifiedBy>
  <dcterms:modified xsi:type="dcterms:W3CDTF">2010-12-24T03:06:00Z</dcterms:modified>
  <cp:revision>28</cp:revision>
  <dc:subject/>
  <dc:title>Проект: «Молодёжь за здоровый образ жизни» </dc:title>
</cp:coreProperties>
</file>