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sting.wav" ContentType="audio/x-wav"/>
  <Override PartName="/ppt/media/drumroll.wav" ContentType="audio/x-wav"/>
  <Override PartName="/ppt/media/09.%20Who%20Correct.wav" ContentType="audio/x-wav"/>
  <Override PartName="/ppt/media/Tarda.wav" ContentType="audio/x-wav"/>
  <Override PartName="/ppt/media/cashreg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9F9F-4C8C-4A64-B103-0DF64EBE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717-88FC-4313-84CC-D31CAE29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E42-718A-41B0-B25A-0B28ABCB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800-5AD5-458F-96A4-7FDB7686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301B-3621-4162-98C2-A4333F6D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593F-6DEF-4EB1-90AB-B08476B3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C573-9AC2-4C4F-9A75-2743BB29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FD28-62EE-41AA-AFBC-8A09EEB5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E993-A889-4986-8451-2B34DF51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5A28-2420-48FC-9F9D-BE8E1423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AEC9-B558-4029-A5F9-9D541A18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7E01-C814-4B7C-975E-EB2F4C9C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C7F4-0777-40E2-A2C2-755DD69E8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sting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0" y="4149720"/>
            <a:ext cx="43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Ravie"/>
              </a:rPr>
              <a:t>Географическое положение и природа Омской обла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274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267920"/>
            <a:ext cx="87631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6600"/>
                </a:solidFill>
                <a:latin typeface="Monotype Corsiva"/>
              </a:rPr>
              <a:t>Кто хочет стать миллионером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3" name="stin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знак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drumroll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мская область расположена между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28951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54-58</a:t>
            </a:r>
            <a:r>
              <a:rPr b="0" lang="ru-RU" sz="4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с.ш. 61-66</a:t>
            </a:r>
            <a:r>
              <a:rPr b="0" lang="ru-RU" sz="4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в.д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53-59</a:t>
            </a:r>
            <a:r>
              <a:rPr b="0" lang="ru-RU" sz="4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с.ш. 70-76</a:t>
            </a:r>
            <a:r>
              <a:rPr b="0" lang="ru-RU" sz="4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в.д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54-58</a:t>
            </a:r>
            <a:r>
              <a:rPr b="0" lang="ru-RU" sz="4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с.ш. 71-76</a:t>
            </a:r>
            <a:r>
              <a:rPr b="0" lang="ru-RU" sz="4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в.д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64-68</a:t>
            </a:r>
            <a:r>
              <a:rPr b="0" lang="ru-RU" sz="4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с.ш. 71-79</a:t>
            </a:r>
            <a:r>
              <a:rPr b="0" lang="ru-RU" sz="4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в.д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мская область расположена между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8951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54-58</a:t>
            </a:r>
            <a:r>
              <a:rPr b="0" lang="ru-RU" sz="4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с.ш. 61-66</a:t>
            </a:r>
            <a:r>
              <a:rPr b="0" lang="ru-RU" sz="4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в.д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53-59</a:t>
            </a:r>
            <a:r>
              <a:rPr b="0" lang="ru-RU" sz="4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с.ш. 70-76</a:t>
            </a:r>
            <a:r>
              <a:rPr b="0" lang="ru-RU" sz="4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в.д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54-58</a:t>
            </a:r>
            <a:r>
              <a:rPr b="0" lang="ru-RU" sz="4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с.ш. 71-76</a:t>
            </a:r>
            <a:r>
              <a:rPr b="0" lang="ru-RU" sz="4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в.д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64-68</a:t>
            </a:r>
            <a:r>
              <a:rPr b="0" lang="ru-RU" sz="4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с.ш. 71-79</a:t>
            </a:r>
            <a:r>
              <a:rPr b="0" lang="ru-RU" sz="4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в.д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знак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drumroll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современных границах Омская область сформировалась в году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71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9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6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93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5759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189000"/>
            <a:ext cx="8001000" cy="2361960"/>
          </a:xfrm>
          <a:prstGeom prst="hexagon">
            <a:avLst>
              <a:gd name="adj" fmla="val 828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современных границах Омская область сформировалась в году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71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9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6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93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знак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</a:rPr>
              <a:t>Правила и условия игр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чая на вопросы, вы показываете себя знатоком географии Омской области и получаете «знаки» - единицы измерения зн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ша задача – ответить правильно на 15 вопросов игры и получить «1 000 000 знаков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отличии от телевизионной игры, в нашей версии не предусмотрены подсказки. На все вопросы каждый отвечает самостоятель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Желаем успеха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каком районе расположен географический центр Омской област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Омск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юкалинск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олосовск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азываевск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каком районе расположен географический центр Омской област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Омск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юкалинск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олосовск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азываевск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знак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shreg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drumroll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26028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основании Омской области расположен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6560" y="27079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древняя платформ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олодая складчатос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древняя складчатос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олодая платформ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5759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основании Омской области располож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древняя платформ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олодая складчатос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древняя складчатос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олодая платформ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знак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drumroll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ва высота самой высокой точки Омской област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6 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0 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32 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5 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278136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ва высота самой высокой точки Омской област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6 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0 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32 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5 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drumroll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знак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shreg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drumroll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рельефе Омской области наибольшую площадь занимает равнин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Барабинска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</a:t>
            </a:r>
            <a:r>
              <a:rPr b="1" lang="ru-RU" sz="5400" spc="-1" strike="noStrike" baseline="10000">
                <a:solidFill>
                  <a:srgbClr val="ff9900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шимская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Васюганска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ара-Туйска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рельефе Омской области наибольшую площадь занимает равнин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Барабинска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</a:t>
            </a:r>
            <a:r>
              <a:rPr b="1" lang="ru-RU" sz="5400" spc="-1" strike="noStrike" baseline="10000">
                <a:solidFill>
                  <a:srgbClr val="ff9900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шимская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Васюганска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ара-Туйска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знак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shreg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drumroll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лезные ископаемые какого происхождения распространены в област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метаморфическог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обломочног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магматическог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осадочного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3520" y="5759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лезные ископаемые какого происхождения распространены в област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метаморфическог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обломочног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магматическог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осадочног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395280" y="2514600"/>
            <a:ext cx="8353440" cy="1905120"/>
          </a:xfrm>
          <a:prstGeom prst="hexagon">
            <a:avLst>
              <a:gd name="adj" fmla="val 10718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281916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знак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0" y="3500280"/>
            <a:ext cx="395280" cy="50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8748720" y="3500280"/>
            <a:ext cx="395280" cy="50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shreg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кова площадь Омской области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852640"/>
            <a:ext cx="79819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30,3 млн.кв.к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70,2 тыс.кв.к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39,7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ыс.кв.к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40 тыс.кв.к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лимат Омской области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26560" y="2895120"/>
            <a:ext cx="7837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орской умеренны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нтинентальный умеренны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езко континентальны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меренно-континентальны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лимат Омской обла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55280" y="2707920"/>
            <a:ext cx="7837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орской умеренны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нтинентальный умеренны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езко континентальны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меренно-континентальны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468360" y="2514600"/>
            <a:ext cx="8351640" cy="1905120"/>
          </a:xfrm>
          <a:prstGeom prst="hexagon">
            <a:avLst>
              <a:gd name="adj" fmla="val 1071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4360" y="281916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знак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-360" y="3500280"/>
            <a:ext cx="468360" cy="50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8820000" y="3500280"/>
            <a:ext cx="324000" cy="50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shreg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drumroll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еки Омской области относятся к бассейну океа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26560" y="28951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ихог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тлантическог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еверного Ледовитог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Индийског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еки Омской области относятся к бассейну океа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99640" y="28951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ихог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тлантическог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еверного Ледовитог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Индийског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9640" y="2514600"/>
            <a:ext cx="8209080" cy="1905120"/>
          </a:xfrm>
          <a:prstGeom prst="hexagon">
            <a:avLst>
              <a:gd name="adj" fmla="val 10533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280" y="28522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64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знак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-360" y="3500280"/>
            <a:ext cx="539640" cy="50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8748720" y="3500280"/>
            <a:ext cx="395280" cy="50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shreg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drumroll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ая река не протекает по территории Омской област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26560" y="2852640"/>
            <a:ext cx="7620120" cy="36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рты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Иши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б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м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ая река не протекает по территории Омской област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7720" y="2852280"/>
            <a:ext cx="76215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рты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Иши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б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м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кова площадь Омской области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30,3 млн.кв.к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70,2 тыс.кв.к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39,7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ыс.кв.к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40 тыс.кв.к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24000" y="2514600"/>
            <a:ext cx="8640720" cy="1905120"/>
          </a:xfrm>
          <a:prstGeom prst="hexagon">
            <a:avLst>
              <a:gd name="adj" fmla="val 1108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95280" y="28191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125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знак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0" y="3500280"/>
            <a:ext cx="324000" cy="50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8964720" y="3500280"/>
            <a:ext cx="179280" cy="50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shreg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drumroll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ие почвы занимают наибольшую площадь в пределах област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ернозем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олонц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Луговы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одзолисты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33520" y="5759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ие почвы занимают наибольшую площадь в пределах област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ернозем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олонц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Луговы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одзолисты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24000" y="2514600"/>
            <a:ext cx="8640720" cy="1905120"/>
          </a:xfrm>
          <a:prstGeom prst="hexagon">
            <a:avLst>
              <a:gd name="adj" fmla="val 1108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24000" y="28191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25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знак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0" y="3500280"/>
            <a:ext cx="324000" cy="50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8964720" y="3500280"/>
            <a:ext cx="179280" cy="50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shreg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drumroll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ое растение внесено в Красную книгу и находится под угрозой исчезновения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26560" y="28951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увшинка чистобела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юльпан поникающи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ерёмуха обыкновеннна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олын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11280" y="26028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ое растение внесено в Красную книгу и находится под угрозой исчезновения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26560" y="28951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увшинка чистобела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юльпан поникающи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ерёмуха обыкновеннна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олын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250920" y="2514600"/>
            <a:ext cx="8642160" cy="1905120"/>
          </a:xfrm>
          <a:prstGeom prst="hexagon">
            <a:avLst>
              <a:gd name="adj" fmla="val 1108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79280" y="28191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знак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-360" y="3500280"/>
            <a:ext cx="250920" cy="50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8892720" y="3500280"/>
            <a:ext cx="250920" cy="50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shreg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знак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shreg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ой природно-хозяйственной зоны нет в пределах област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26560" y="28951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унд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теп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айг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есостеп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3520" y="278136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ой природно-хозяйственной зоны нет в пределах област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26560" y="2852280"/>
            <a:ext cx="762012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унд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теп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айг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есостеп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179280" y="2514600"/>
            <a:ext cx="8713800" cy="1905120"/>
          </a:xfrm>
          <a:prstGeom prst="hexagon">
            <a:avLst>
              <a:gd name="adj" fmla="val 11181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50920" y="28191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«знаков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0" y="3500280"/>
            <a:ext cx="179280" cy="50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8892720" y="3500280"/>
            <a:ext cx="250920" cy="50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shreg.wav"/>
      </p:stSnd>
    </p:sndAc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0" y="3789360"/>
            <a:ext cx="91440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 прошли все уровни, ответив на 15 вопросов и показав себя настоящим знатоком природы Омской обла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1619280" y="907920"/>
            <a:ext cx="6265800" cy="21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здравляем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2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 какой областью России у Омской области самая протяженная границ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овосибирска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омска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юменска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урганска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 какой областью России у Омской области самая протяженная границ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овосибирска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омска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юменска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урганска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3:35:24Z</dcterms:created>
  <dc:creator>STNG11</dc:creator>
  <dc:description/>
  <dc:language>en-US</dc:language>
  <cp:lastModifiedBy>Happy User</cp:lastModifiedBy>
  <dcterms:modified xsi:type="dcterms:W3CDTF">2009-07-04T11:41:40Z</dcterms:modified>
  <cp:revision>44</cp:revision>
  <dc:subject/>
  <dc:title>Who Wants To Be A Millionaire?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31514827</vt:r8>
  </property>
  <property fmtid="{D5CDD505-2E9C-101B-9397-08002B2CF9AE}" pid="3" name="_AuthorEmail">
    <vt:lpwstr>LRBastone@educ.somerset.gov.uk</vt:lpwstr>
  </property>
  <property fmtid="{D5CDD505-2E9C-101B-9397-08002B2CF9AE}" pid="4" name="_AuthorEmailDisplayName">
    <vt:lpwstr>Lorraine.Bastone - SCH.284</vt:lpwstr>
  </property>
  <property fmtid="{D5CDD505-2E9C-101B-9397-08002B2CF9AE}" pid="5" name="_EmailSubject">
    <vt:lpwstr>Contribution</vt:lpwstr>
  </property>
  <property fmtid="{D5CDD505-2E9C-101B-9397-08002B2CF9AE}" pid="6" name="_ReviewingToolsShownOnce">
    <vt:lpwstr/>
  </property>
</Properties>
</file>