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4361-1FE4-47A8-A23B-21BDE1DC5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FC07-0ACE-47D0-BFFF-6E317B620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854-8995-4340-A0A5-40FB1F5C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139-13FF-4C80-8A1B-5D7E4A4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271-6765-4C38-8ECA-F09E3527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6CA-5BA0-43C2-9B79-6AACC41F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47D8-61FF-4C58-ADBF-157EE8CB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AA26-23CF-44EF-9CD5-FB61D91C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973A-4886-4E48-A9FE-FD6F5254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0548-71D4-4979-8BF0-D76D91A8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6131-8E30-4B6F-8F4B-FB224064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3FAD-6186-4DD8-BCF0-3C9A347E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8EB2-B135-45B9-A1A6-C4E52BC6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251-2C7A-4BC6-871C-3F772942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C6D6-51FE-4E7E-91F2-73D78682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1D1D-4BD0-4C5D-8E48-ED840EF9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ED2E-AEFF-4580-8948-71DE1403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DA03-7C60-479E-95FF-CCC0D83D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0750-4E30-4630-940F-63E033EA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07A-8369-4947-BE1D-50EE7982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EFD-5A6C-4E47-A4AC-D71E0B41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6A9-D28B-4A5C-95B9-7F80C1E3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A5A-308A-434F-B660-193CB313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3C2-0533-434F-83BF-771E716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2C9-5D43-4A47-82CF-F557E8A3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D69-F9F4-4A86-A718-6CFD3C4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CBDF-6548-4B5E-9A9C-282889DC6D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14E7-08A3-405E-9B7C-71E3654CFF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57720" y="4285800"/>
            <a:ext cx="70005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Белоусова С. В.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моу сош №7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14680" y="785880"/>
            <a:ext cx="62863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Методы решения экстремальных зада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онспект занят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нятие 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Экстремальные задачи. Использование свойств квадратичной функции при решении задач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ть условия, при которых школьники установят, какие свойства квадратичной функции могут быть использованы при решении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агностируемые цел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714320"/>
            <a:ext cx="74772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учени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на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ремальной задач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я экстремаль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методов решения задачи, а именно – использование свойств квадратичной функ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агностируемые цел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85920" y="1752480"/>
            <a:ext cx="740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учени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меет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ходить наибольшее или наименьшее значение квадратичной функции (используя теорему о наибольшем (наименьшем) значении квадратичной функци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Методы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обучения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источнику передачи и характеру восприятия информации – словесные (эвристическая беседа), а также практические (поиск наибольшего или наименьшего значения квадратичной функции по готовым чертежам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характеру познавательной деятельности учащихся – частично-поискова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тепени управления учебной деятельностью – под руководством учителя через систему целесообразно подобранных задач и вопрос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тод мотивации – практическая необходим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Ход занят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752480"/>
            <a:ext cx="790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оске написана цита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…особенную важность имеют те науки, которые позволяют решать задачу, общую для всей практической деятельности человека: как располагать своими средствами для достижения наибольшей выгод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. Л. Чебышев (1821-189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6"/>
          <p:cNvSpPr/>
          <p:nvPr/>
        </p:nvSpPr>
        <p:spPr>
          <a:xfrm>
            <a:off x="0" y="358128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284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244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549360"/>
            <a:ext cx="76820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249"/>
              </a:spcBef>
              <a:buNone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300"/>
              </a:spcBef>
              <a:buNone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49"/>
              </a:spcBef>
              <a:buNone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700"/>
              </a:spcBef>
              <a:buNone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курса восьмого класса вам известно, что любую квадратичную функцию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=ах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вх+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помощью выделения полного квадрата можно записать в вид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у=ах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вх+с=а ( х+в/2а)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(4ас-в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/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сновные возможности квадратичной функции, в плане решения оптимизационных задач, связаны именно с таким её представлением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у =а (х-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у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жите, какие координаты имеет тогда вершина парабол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000080" y="428760"/>
            <a:ext cx="785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квадратичная функция принимает своё наименьшее или наибольшее значение в вершине параболы, то для нахождения наименьшего или наибольшего значения достаточно найти координаты верш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Ход занятия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1720" y="785520"/>
            <a:ext cx="76197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алее, учитывая знак числа а, то есть направление ветвей параболы, можно без труда найти наименьшее или наибольшее значение квадратичной функции . Чему оно будет равно? Теперь сформулируем теорему о наибольшем (наименьшем) значении квадратичной функции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Ученики (записывают в тетрадь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орема о наибольшем (наименьшем) значении квадратичной функции. Если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то функц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=ах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вх+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 = -в /2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нимает наименьшее (наибольшее) значение, равно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ас-в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4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619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56800" y="1000080"/>
            <a:ext cx="790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ител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чнём работу с решения задачи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висимость между размером используемой площади полей и валовым доходом из расчета на 100 га сельскохозяйственных угодий лесостепной зоны Львовской области выражена функцией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=9+9х-1,5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лощадь сельскохозяйственных угодий (в тыс. га)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валовой доход на 100 га сельскохозяйственных угодий (в млн. руб.). При какой площади хозяйство будет иметь наибольший доход? Каков будет этот доход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 доске и в тетрадях учеников появляются  запис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дача 1. Функция у =9+9х-1,5х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принимает наибольшее значение при х=-9/2(-1,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х=3 (тыс. га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наиб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4(-1,5)9-9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4(-1,5) , у=22,5(млн. руб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вет: хозяйство будет иметь наибольший доход на 100 га сельск. угодий, равный приблизительно22,5  млн. руб., при площади 3 тыс. 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224000" y="509760"/>
            <a:ext cx="7620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214280" y="500040"/>
            <a:ext cx="7620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143000" y="500040"/>
            <a:ext cx="7620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143000" y="357120"/>
            <a:ext cx="76201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и ее реш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хема решения задач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ая экстремальная задача  может быть решена по следующей схеме, состоящей из пяти этап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в условие задачи, определяют, наибольшее или наименьшее значение какой величины следует найти (часто говорят: какую величину следует оптимизировать?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у из неизвестных величин принимают за независимую переменную и обозначают её бук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пределяют границы 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0" y="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6"/>
          <p:cNvSpPr/>
          <p:nvPr/>
        </p:nvSpPr>
        <p:spPr>
          <a:xfrm>
            <a:off x="4436640" y="-10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0" y="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9"/>
          <p:cNvSpPr/>
          <p:nvPr/>
        </p:nvSpPr>
        <p:spPr>
          <a:xfrm>
            <a:off x="4436640" y="-10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1720" y="17146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я из условия задачи величину, наибольшее или наименьшее значение которой требуется найти, выражают через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 известные величины (чаще всего зависимость выражается с помощью функц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=f(х)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ят средствами математики наибольшее или наименьшее значение на промежутке 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претируют результат для рассматриваемой задачи. Записываю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571680"/>
            <a:ext cx="7219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Актуальность тем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1720" y="1785960"/>
            <a:ext cx="77911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экстремальных задач способствует углублению и обогащению математических знаний. Возникает необходимость знакомить учащихся с различными методами их решения, так как в 11 классе решаются задачи только с помощью дифференциального исчис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№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85520" y="142848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плоскости даны три точ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е лежащие на одной прямой. Из точ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ущен перпендикуляр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 чё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Д=а,ВД=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Д=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. На отрезк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мечена точ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, чтобы значение суммы квадратов расстояний о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ло наименьшим. Найти это зна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шение. 1 этап. Оптимизируемая величина: АМ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ВМ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СМ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. 2этап. Независимая переменная: МД=х , о&lt;х&lt;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 этап. 1) ∆АДМ- прямоугольный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этому по теореме Пифаг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М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=МД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АД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=х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; 2) ВМ=(в-х)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) СМ=(с+х)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;4) у=3х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2(с-в)х+а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в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с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4 этап. у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наи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=а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2/3(в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вс+с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) 5 эта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вет: наим. значение суммы квадра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стояний а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2/3(в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вс+с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) равно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6143760" y="4500720"/>
            <a:ext cx="2643120" cy="1785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№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28800" y="17859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резок длиной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елить на две части так, чтобы сумма площадей квадратов, построенных на его частях, была наименьше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Учител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ую величин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ет оптимизировать? Чему равна площад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драт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F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BNM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й вид прим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тимизируемая величина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умайте, какую из величин следует принять за независимую переменную? Теперь определите границы измен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разим оптимизируемую величину через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йдем наименьшее значение функции и интерпретируем результат задачи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вет: следует разделить отрезок попол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6786720" y="2571840"/>
            <a:ext cx="1881000" cy="14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4240" y="164268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доске и в тетрадях учеников появляются следующие запис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дача 3. 1 этап. Оптимизируемая величина: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DF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BN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 этап. Независимая переменная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=x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&lt;x&lt;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 этап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DF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BN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AD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D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(a-x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2ax+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2ax+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 этап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(x)=2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2ax+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a|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 этап. Ответ: следует разделить отрезок попол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 этап. Ответ: следует разделить отрезок попол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4240" y="1752480"/>
            <a:ext cx="797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на уроке вы узнали много нового. Дома вы решите задачу 4, используя рассмотренную на уроке схем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учебном полигоне произведён выстрел из зенитного орудия в вертикальном направлении неразрывающимся снарядом. Требуется определить наибольшую высоту подъёма снаряда, если начальная скорость снаряд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300 m/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но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тя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ита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 m/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тивлением воздух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небреч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9720" y="18572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ирнова И., Смирнов В. Экстремальные задачи по геометрии. — М.: Чистые пруды, 2007. — 32 с.: и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ебра: Учеб. для 10 – 11 кл. общеобразоват. Учреждений / Ш. А. Алимов, Ю. М. Колягин, Ю. В. Сидоров и др. — М.: Просвещение,2002. —384с.: и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ебра: Учеб. для 8 кл. сред. шк. / Ш. А. Алимов, Ю. М. Колягин, Ю. В. Сидоров и др. — М.: Просвещение, 1991. — 239 с.: и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ебра: Учеб. для 9 кл. сред. шк. / Ш. А. Алимов, Ю. М. Колягин, Ю. В. Сидоров и др. — М.: Просвещение, 1991. — 239 с.: и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ленкин Н.Я. Алгебра для 9 кл. с угл. изуч. математики. М.: «Посвещение».-2005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Литерату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Rectangle 42"/>
          <p:cNvSpPr/>
          <p:nvPr/>
        </p:nvSpPr>
        <p:spPr>
          <a:xfrm>
            <a:off x="857160" y="178596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5"/>
          <p:cNvSpPr/>
          <p:nvPr/>
        </p:nvSpPr>
        <p:spPr>
          <a:xfrm>
            <a:off x="285840" y="3143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1143000" y="1643040"/>
            <a:ext cx="7572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214280" y="1522080"/>
            <a:ext cx="7572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ибин Ф. Ф. Экстремумы. – М.: Просвещение, 1966. – 119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кович А. Г. Алгебра и начала анализа. 10-11 кл.: Методическое пособие для учителя. – М.: Мнемозина, 2000. – 144с.: 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льберберг Н. И. Алгебра и начала анализа. Для углубленного изучения в 10 классе. – Псков,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хождение наибольшего и наименьшего значения функции// Математика.- 2007.- №7.- С.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ение прикладных задач по теме «Наибольшее и наименьшее значения функции»// Математика.- 2007.- №7.- С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оговое повторение по теме «Наибольшее и наименьшее значения функции»// Математика.- 2007.- №7.- С.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оретические основы обучения математике в средней школе: Учебное пособие/ Т.А Иванова, Е.Н. Перевощикова, Т.П. Григорьева, Л.И. Кузнецова; Под ред. Проф. Т.А. Ивановой.- Н.Новгород: НГПУ,2003, 320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зучения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ть у школьников представление о том, что экстремальная  задача — математическая модель процессов реальной действительности; формировать у учащихся умения решать оптимизационные задачи методами, характерными для данного класса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7200" y="928800"/>
            <a:ext cx="7143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агностируемые цели:</a:t>
            </a:r>
            <a:br>
              <a:rPr sz="60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771552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проведения занятий по теме  учени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нает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ремаль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ремальных зада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методы решения экстремальных задач: метод опорных функций; метод, основанный на применении некоторых теор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ирование занятий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785600"/>
            <a:ext cx="7620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ема 1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«Использование свойств квадратичной функции при решении задач»  (1 час)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Тема 2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«Использование понятия синуса и косинуса угла при решении задач»  (2 час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ема 3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«Решение экстремальных задач с применением некоторых теорем» (2 час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ема 4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«Решение прикладных задач» (1 час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ема 5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«Решение древнейших задач с помощью производной» (1 час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ема 6.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тоговое занятие (2 час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держание заняти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5520" y="1571760"/>
            <a:ext cx="769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формировать представление учащихся о понятии экстремальной задачи, об алгоритме её решения; Выделить свойства квадратичной функции, которые могут быть использованы при решении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висимость между размером используемой площади полей и валовым доходом из расчета на 100 га угодий лесостепной зоны Львовской области выражена функ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 =9+9х-1,5х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лощадь сельскохозяйственных угодий (в тыс. га), у – валовой доход на 100 га сельскохозяйственных угодий (в тыс. руб.). При какой площади хозяйство будет иметь наибольший доход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нятия 2,3,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5717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здать условия, при которых школьники установят, каким образом понятия синуса и косинуса угла могут быть использованы при решении задач. Повторяются теоретические положения.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крепить изученный материал решением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: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еть применимость некоторых теорем при решении 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нятия 5, 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ссмотреть применимость некоторых теорем при решении экстремальных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ссмотреть методы решения прикладных экстремальных задач различными способ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занятиях решаются задачи на закрепление изученного материала по данной те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нятия 7,8,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717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ссмотреть применимость производной к решению древнейших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а Герона, задача Кеплера о вписанном цилиндре, задача Тартальи, задача Евклида о параллелограмме наибольшей площади, вписанном в треугольник. Перевод задач на математический язык, их решение основным метод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истематизировать и обобщить основные теоретические факты, полученные при изучении занят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истематизировать и обобщить основные теоретические факты, получить обратную связь от учащихся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2:00:29Z</dcterms:created>
  <dc:creator>1</dc:creator>
  <dc:description/>
  <dc:language>en-US</dc:language>
  <cp:lastModifiedBy>Admin</cp:lastModifiedBy>
  <dcterms:modified xsi:type="dcterms:W3CDTF">2010-01-25T21:00:27Z</dcterms:modified>
  <cp:revision>149</cp:revision>
  <dc:subject/>
  <dc:title>Тема урока: </dc:title>
</cp:coreProperties>
</file>