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8AB-1E88-4F7E-897A-B6613CE1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186-F88D-4FF4-9A76-482D8866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9A8-9001-4CC9-A9BD-3FE2AD8D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36C-038A-482C-A880-84501BB6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105-5CCA-4351-BF6D-F906F66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008-922B-4BF2-ABD6-22051B28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B70-50EF-4F57-990A-207215BC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34A-FEFA-4352-B80B-F2472F6E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5EE-F5A5-4A9E-A064-3D555DB7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9A5-2495-4392-BDFC-3B7584E9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96D-44E3-49B1-A56A-22B061A3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B53-89EA-4714-8469-0CB00C8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A35C-7A32-402D-9898-4F35CB6855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640" y="692280"/>
            <a:ext cx="546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Arial"/>
              </a:rPr>
              <a:t>Квиллинг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000" y="3645000"/>
            <a:ext cx="4895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 подготовлен учителем технологии МОУ СОШ №2 Темновой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237672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352908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9640" y="2421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игинальные поделки из бума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Вернисаж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5184720" cy="64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ЦЕЛЬ МАСТЕР-КЛАСС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ЗНАКОМИТЬ СЛУШАТЕЛЕЙ С ОПЫТОМ РАБОТЫ ПУТЕМ ПРЯМОГО И КОММЕНТИРОВАННОГО ПОКАЗА ПОСЛЕДОВАТЕЛЬНОСТИ ДЕЙСТВИЙ, МЕТОДОВ, ПРИЕМОВ, ФОРМ ПЕДАГОГ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ПЛАН ЗАНЯТИЯ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ОРЕТИЧЕСКОЕ ОБОСН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СТОРИЧЕСКАЯ СПРАВ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СНОВНАЯ ТЕХНИКА КВИЛЛИНГ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СПОЛЬЗУЕМЫЕ МАТЕРИАЛ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МАЛЕНЬКИЕ ХИТР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ОРУД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ВЕРНИСА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1640" y="260280"/>
            <a:ext cx="41259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402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умажная филигрань – старинная техника обработки бумаги, распространенная и в наше время во многих европейских странах, в Соединенных штатах, где и получила название «квиллинг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3744720" cy="3311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80000" y="1125000"/>
            <a:ext cx="35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хника квиллинга заключается в накручивании и моделировании с помощью маленького инструмента, называемого «катушка», бумажных полосок шириной в несколько миллиметров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5184720" cy="604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Основная техника. Форм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67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секреты и приемы получения самых разнообразных форм, используемых в квиллинге, от фантазийных до геометрических, почти всегда начинаются с простых круговых фор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5076720" cy="5543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*БУМАГА ДЛЯ КВИЛЛИНГА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ХОРОШЕГО КАЧАСТВА НЕ ДОЛЖНА БЫТЬ НИ СЛИШКОМ ЛЕГКОЙ, НИ СЛИШКОМ ТЯЖЕЛОЙ, ДОЛЖНА ХОРОШО НАКРУЧИВАТЬСЯ И ПОТОМ РАВНОМЕРНО ПРИОТКРЫВАТЬСЯ И СОХРАНЯТЬ ЗАДАННУЮ ФОРМУ.</a:t>
            </a:r>
            <a:br>
              <a:rPr sz="1800"/>
            </a:b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* МОЖНО ПОКРЫВАТЬ БУМАГУ ДЛЯ КВИЛЛИНГА ЛАКАМИ, ЗОЛОТИСТЫМИ ИЛИ СЕРЕБРИСТЫМИ АЭРОЗОЛЯМИ</a:t>
            </a: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280360" cy="4508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Arial"/>
              </a:rPr>
              <a:t>МАЛЕНЬКИЕ ХИТРОСТ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1560" y="1197000"/>
            <a:ext cx="4151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жно обращаться с полосками бумаги аккуратно, так, чтобы не создать складок, которые могут испортить раб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дпочтительнее обрывать край полосок пальцами, а не обрезать ножницами, так как клей схватывается более равномерно на легких неровностях оборванного края, чем на ровном крае, обрезанном ножниц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таскивая полоску бумаги из пачки, следует ее брать за оба конца. Хранить их лучше всего в коробках соответствующих размеров. Желательно чтобы емкость была снабжена перегородкой, которые позволят разделить ц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319640" cy="5373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борудование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инце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лав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ейки, карандаши, каль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убочис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04000" y="1413000"/>
            <a:ext cx="234000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2087640" cy="201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5:40:19Z</dcterms:created>
  <dc:creator>лгш</dc:creator>
  <dc:description/>
  <dc:language>en-US</dc:language>
  <cp:lastModifiedBy>лгш</cp:lastModifiedBy>
  <dcterms:modified xsi:type="dcterms:W3CDTF">2010-10-15T13:40:52Z</dcterms:modified>
  <cp:revision>7</cp:revision>
  <dc:subject/>
  <dc:title>Диетическое питание</dc:title>
</cp:coreProperties>
</file>