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7957-F8FD-4170-9677-B5746431D5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07D2-030B-4D6E-B027-E05207EB54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BA0-1CB7-4E9F-9EC3-484535D4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49B-283E-45E5-8370-1A9D4724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B0E-7DBD-4411-A05E-DFFB8AB8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2DC-6659-4B21-94B5-3B0BFC54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F3DB-A918-455F-9744-0E2C1E90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3182-CAA3-40E9-8720-0298038E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8F2C-CE86-42B1-8D78-717E877F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BD09-F551-4966-9DBA-5597F417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D38F-77CD-41DE-BF92-60C1DE61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8FB9-082C-4337-9484-476C703D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69E7-A514-4FC6-A4A0-B05CD883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4E5-3318-4F76-9D1B-9D387C5C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D597-876E-44BB-9600-7CE2E8F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64FD-0A52-4DC8-AABB-8483B05E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ACE3-5DFD-46BF-8474-4D5FA4B6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62EE-698A-4F61-B7AC-4E1E1139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399C-E7A2-4F96-A90D-3441FA2A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D3FF-F493-4E5F-AA6D-8864E828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40AE-23CE-45F0-A584-F27C46A4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B4BC-D912-438C-9D55-667F2931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EA8F-6D17-4BEF-A6C4-1E13FA5F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0F5C-833C-4F3A-A7E2-6AB45F49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E8F-7E0C-4295-831B-7EB02212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CABD-B226-44EE-AC80-9EE7B393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5E5B-EC21-4F7F-A832-F544B34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CAE4-E62A-4DF4-A934-1D09C19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D4E8-4380-4105-8379-238E735B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6B59-7A7F-4BB5-A972-BB6A2E4D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2329-692A-474E-9A75-045D536C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A44AB-103A-4573-8201-20595B9E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C89A-0B64-48DD-A1BD-38F06575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B3321-4758-4193-A1F1-7EEB8330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02724-D30F-4FC0-9CDB-8DF27304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836-AA3D-4E5E-93F6-60EDD21D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53F6-170E-4A25-8E42-28C6E6A4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7DC2-F2CF-4510-AD9F-F2D1BA68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94D1-F7FE-4F70-90BF-4AF744A8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BF413-3A27-4015-820F-AA739961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FBCB-F8A6-45AB-93BF-E1F84982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0306-634C-47E8-B340-4CB2168D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E41D4-0BD3-4A7F-95B5-22F10BDF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2E46-AF4E-4E64-A658-1ADB35A9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2C06E-5DA0-4B8F-8968-5F3C0B59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90CA7-0763-4921-A5AC-F00E8110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410-6197-4562-A996-C90AE177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357E1-2255-4D44-AD9D-4A61E1A4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9E0A-54B8-4C48-8A0E-14FFB91A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919E5-9D79-4F3F-BA21-04A66337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F459E-A036-4947-93E7-5A760FCC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50082-C5B7-4302-BBD6-8978764B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1D174-9F8B-42AD-9807-195943BE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D0BCF-934C-4155-A348-0E320857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AAF6F-5EE7-470E-989F-E18A798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4916-995B-4829-B5AF-95935519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8B19-DEC8-47FF-869F-70E6B618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15B-034A-4D7C-A24B-23CD572C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4BB47-4248-4BE6-8D68-E8508D8A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DA9-20B8-40A9-AC08-DAD4E27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00C-D600-45F7-A180-0D422F12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EF5-923E-440B-BCB3-B25ABAAE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F332-1C7E-4145-9F33-E657809CB5A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EEE8-56C7-475E-83AA-BD2F9C92A00C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5C94-1A1E-4EF9-8171-FC732170DDE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0851-829B-465A-AA19-400F594FE301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862F-854E-4ADC-8616-8B5FDBC023E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706920" y="3067200"/>
            <a:ext cx="5254560" cy="2876400"/>
          </a:xfrm>
          <a:prstGeom prst="rect">
            <a:avLst/>
          </a:prstGeom>
          <a:ln w="0">
            <a:noFill/>
          </a:ln>
        </p:spPr>
      </p:pic>
      <p:pic>
        <p:nvPicPr>
          <p:cNvPr id="228" name="Подзаголовок 2" descr=""/>
          <p:cNvPicPr/>
          <p:nvPr/>
        </p:nvPicPr>
        <p:blipFill>
          <a:blip r:embed="rId2"/>
          <a:stretch/>
        </p:blipFill>
        <p:spPr>
          <a:xfrm>
            <a:off x="3419640" y="1060560"/>
            <a:ext cx="5133960" cy="1420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1236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F:\пифагор стр учебн.jpg"/>
          <p:cNvPicPr/>
          <p:nvPr/>
        </p:nvPicPr>
        <p:blipFill>
          <a:blip r:embed="rId2"/>
          <a:stretch/>
        </p:blipFill>
        <p:spPr>
          <a:xfrm>
            <a:off x="357120" y="2428920"/>
            <a:ext cx="2460600" cy="3706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F:\теорема пиф.jpg"/>
          <p:cNvPicPr/>
          <p:nvPr/>
        </p:nvPicPr>
        <p:blipFill>
          <a:blip r:embed="rId3"/>
          <a:stretch/>
        </p:blipFill>
        <p:spPr>
          <a:xfrm>
            <a:off x="3429000" y="2786040"/>
            <a:ext cx="41194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3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1236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ифагор Самосский(570-490гг до н. э.) – древнегреческий философ и математик, создатель религиозно-оккультной школы пифагорейцев. Не оставил письменных трудов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Знаменит сочинениями по геометрии (т. Пифагора), теории чисел, астрономии, определение основных музыкальных интервалов и т. д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" descr="F:\пифагор.jpeg"/>
          <p:cNvPicPr/>
          <p:nvPr/>
        </p:nvPicPr>
        <p:blipFill>
          <a:blip r:embed="rId2"/>
          <a:stretch/>
        </p:blipFill>
        <p:spPr>
          <a:xfrm>
            <a:off x="642960" y="2071800"/>
            <a:ext cx="277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9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401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2357280"/>
            <a:ext cx="723888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уществует около 500 способов доказательства данной теоремы(геометрическое, алгебраическое, механическое и другие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3" descr="F:\квадрат пиф.jpeg"/>
          <p:cNvPicPr/>
          <p:nvPr/>
        </p:nvPicPr>
        <p:blipFill>
          <a:blip r:embed="rId2"/>
          <a:stretch/>
        </p:blipFill>
        <p:spPr>
          <a:xfrm>
            <a:off x="5929200" y="4214880"/>
            <a:ext cx="1778040" cy="1722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F:\алг доказ.jpg"/>
          <p:cNvPicPr/>
          <p:nvPr/>
        </p:nvPicPr>
        <p:blipFill>
          <a:blip r:embed="rId3"/>
          <a:stretch/>
        </p:blipFill>
        <p:spPr>
          <a:xfrm>
            <a:off x="3214800" y="4344840"/>
            <a:ext cx="2197080" cy="179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F:\геом док.jpg"/>
          <p:cNvPicPr/>
          <p:nvPr/>
        </p:nvPicPr>
        <p:blipFill>
          <a:blip r:embed="rId4"/>
          <a:stretch/>
        </p:blipFill>
        <p:spPr>
          <a:xfrm>
            <a:off x="928800" y="4254480"/>
            <a:ext cx="1357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5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212320" cy="11826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бор исторического материала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ссмотреть несколько доказательств т. Пифагор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анализировать применение т. Пифагора к решению задач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едставить результаты своей работы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2" descr=""/>
          <p:cNvPicPr/>
          <p:nvPr/>
        </p:nvPicPr>
        <p:blipFill>
          <a:blip r:embed="rId1"/>
          <a:stretch/>
        </p:blipFill>
        <p:spPr>
          <a:xfrm>
            <a:off x="5492880" y="353880"/>
            <a:ext cx="3443040" cy="1425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Историки будут заниматься поиском исторических сведений о Пифагоре и теореме Пифагора</a:t>
            </a:r>
            <a:r>
              <a:rPr b="0" lang="ru-RU" sz="3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5" name="Picture 2" descr="F:\пифагор стр учебн.jpg"/>
          <p:cNvPicPr/>
          <p:nvPr/>
        </p:nvPicPr>
        <p:blipFill>
          <a:blip r:embed="rId2"/>
          <a:stretch/>
        </p:blipFill>
        <p:spPr>
          <a:xfrm>
            <a:off x="987480" y="701640"/>
            <a:ext cx="337176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5310360" y="-6480"/>
            <a:ext cx="3625560" cy="20732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Математики находят различные доказательства теоремы Пифагора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8" name="Picture 2" descr="F:\квадрат пиф.jpg"/>
          <p:cNvPicPr/>
          <p:nvPr/>
        </p:nvPicPr>
        <p:blipFill>
          <a:blip r:embed="rId2"/>
          <a:stretch/>
        </p:blipFill>
        <p:spPr>
          <a:xfrm>
            <a:off x="438120" y="927000"/>
            <a:ext cx="4415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5022720" y="-6480"/>
            <a:ext cx="3730680" cy="20732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Исследователи будут заниматься решением задач с применением теоремы Пифагор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1" name="Picture 2" descr="F:\реш зад.gif"/>
          <p:cNvPicPr/>
          <p:nvPr/>
        </p:nvPicPr>
        <p:blipFill>
          <a:blip r:embed="rId2"/>
          <a:stretch/>
        </p:blipFill>
        <p:spPr>
          <a:xfrm>
            <a:off x="92160" y="1023840"/>
            <a:ext cx="5357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5913720" cy="1182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презентации использованы рисунки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ttp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://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mages.google.r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8:37:46Z</dcterms:created>
  <dc:creator>Admin</dc:creator>
  <dc:description/>
  <dc:language>en-US</dc:language>
  <cp:lastModifiedBy>Admin</cp:lastModifiedBy>
  <dcterms:modified xsi:type="dcterms:W3CDTF">2010-03-04T05:53:54Z</dcterms:modified>
  <cp:revision>38</cp:revision>
  <dc:subject/>
  <dc:title> </dc:title>
</cp:coreProperties>
</file>