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C41-C281-46FD-B1FD-14149921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38A-22EE-41AA-9732-C92C2380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7B4-6674-4D80-AC07-45A38060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85E-453A-469D-A56D-FD094F1A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51E-677C-474A-AFF6-9843E1C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94D-628D-4377-8745-0BA0275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989-1F93-4F2E-9DF3-977DB86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615-EA08-41B5-B2C3-FC223E9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FFC-4EBA-4472-8998-9372675C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807-EEFB-4A3F-B2DE-128AB2D4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36F-F15F-4024-8DA8-66C2A5C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45A-5265-4AC7-9C0A-D283535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F97-91D3-4DB3-ADBC-3234300E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allpaperauthorCharly12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842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имн – торжественная песня, принятая как символ государственного или социального еди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Рисунок 21"/>
          <p:cNvPicPr/>
          <p:nvPr/>
        </p:nvPicPr>
        <p:blipFill>
          <a:blip r:embed="rId1"/>
          <a:stretch/>
        </p:blipFill>
        <p:spPr>
          <a:xfrm>
            <a:off x="0" y="0"/>
            <a:ext cx="4357800" cy="421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Рисунок 22"/>
          <p:cNvPicPr/>
          <p:nvPr/>
        </p:nvPicPr>
        <p:blipFill>
          <a:blip r:embed="rId2"/>
          <a:stretch/>
        </p:blipFill>
        <p:spPr>
          <a:xfrm>
            <a:off x="4929120" y="1690560"/>
            <a:ext cx="4214880" cy="516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0560" y="63972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В.Михал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640" y="44560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В.Алексан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95520"/>
            <a:ext cx="9144000" cy="526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66760" y="103320"/>
            <a:ext cx="700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Москва - стол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341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*Кто в Москве не бывал – красоты не вида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*Москвой - столицей – весь мир горди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*Москва - всем городам м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19800" y="4508640"/>
            <a:ext cx="1924200" cy="234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53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Берёзы зим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292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Флаг – прикреплённое к древку или шнуру полотнище определённого цвета или нескольких цветов, часто с эмблемой, официальный символ государственной власти, который олицетворяет суверенитет государства. Описание флага, как правило, фиксируется в конституци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Рисунок 17"/>
          <p:cNvPicPr/>
          <p:nvPr/>
        </p:nvPicPr>
        <p:blipFill>
          <a:blip r:embed="rId2"/>
          <a:stretch/>
        </p:blipFill>
        <p:spPr>
          <a:xfrm>
            <a:off x="2843280" y="404640"/>
            <a:ext cx="29970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6920" cy="654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3862440"/>
            <a:ext cx="4500720" cy="29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0:23:48Z</dcterms:created>
  <dc:creator>Паутов</dc:creator>
  <dc:description/>
  <dc:language>en-US</dc:language>
  <cp:lastModifiedBy>сергей</cp:lastModifiedBy>
  <dcterms:modified xsi:type="dcterms:W3CDTF">2011-02-09T18:44:33Z</dcterms:modified>
  <cp:revision>7</cp:revision>
  <dc:subject/>
  <dc:title>Слайд 1</dc:title>
</cp:coreProperties>
</file>