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5A7-CF37-43F3-AE88-80119874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8FE-AE2C-442F-8BE2-98B206F1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497-2FE3-4339-9F26-B68BDC2D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22A-9C6B-44C4-9C6D-C00742B3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DB65-DB0E-461F-8A48-027AF152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BC00-3C44-47D8-99D4-E4E97BC3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4ED0-095A-401C-B9EE-09306F2E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022E-8BB7-41B6-82EE-DB3114AF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7F9F-2306-4784-BDCD-F23CC5FF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95EC-AC25-4342-8122-202DB11C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3E5A-F92E-48EB-B418-5C58D38E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AD9A-FAFB-4A98-B9D9-A1E1DA5F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3954-A974-4B80-ADFB-66C93B91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2E0C-1229-49C7-86F4-6C23BE5E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786B-AFEE-40C5-926D-CA99A111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4DA9-F07F-46A9-A45E-C7717665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94A4-77C7-477E-9E25-33B764FB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98D-70E4-48FE-837B-4442E84C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158-D0FE-45F2-973D-BF5F6A9A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13E-25E0-434A-92C1-28163EBF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D38-EC30-431C-94B3-2EEF868A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86A4-BC32-4668-A573-06BB764B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2A5-780A-44C3-A36B-22CBA754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3DD2-56CC-41FC-B9DA-4DACB1D7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E340-FFEB-46A1-85FC-9A731A9831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D893-D5CF-4B9E-B685-E4759BC32B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257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66"/>
                </a:solidFill>
                <a:latin typeface="Arial Narrow"/>
              </a:rPr>
              <a:t>Габдулла Тукай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4" descr="imgB"/>
          <p:cNvPicPr/>
          <p:nvPr/>
        </p:nvPicPr>
        <p:blipFill>
          <a:blip r:embed="rId1"/>
          <a:stretch/>
        </p:blipFill>
        <p:spPr>
          <a:xfrm>
            <a:off x="2590920" y="1676520"/>
            <a:ext cx="3490920" cy="4881600"/>
          </a:xfrm>
          <a:prstGeom prst="rect">
            <a:avLst/>
          </a:prstGeom>
          <a:ln w="0">
            <a:noFill/>
          </a:ln>
        </p:spPr>
      </p:pic>
      <p:pic>
        <p:nvPicPr>
          <p:cNvPr id="100" name="%A2атарская_музыка-Күн_авылы_көе.mp3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2971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5400" spc="-1" strike="noStrike">
                <a:solidFill>
                  <a:srgbClr val="b9d9fd"/>
                </a:solidFill>
                <a:latin typeface="Monotype Corsiva"/>
              </a:rPr>
              <a:t>Пар ат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5" descr="0_853f_48589a32_XL"/>
          <p:cNvPicPr/>
          <p:nvPr/>
        </p:nvPicPr>
        <p:blipFill>
          <a:blip r:embed="rId1"/>
          <a:srcRect l="0" t="4479" r="12001" b="0"/>
          <a:stretch/>
        </p:blipFill>
        <p:spPr>
          <a:xfrm>
            <a:off x="1143000" y="1447920"/>
            <a:ext cx="67057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D_7746i"/>
          <p:cNvPicPr/>
          <p:nvPr/>
        </p:nvPicPr>
        <p:blipFill>
          <a:blip r:embed="rId1"/>
          <a:srcRect l="0" t="0" r="0" b="100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6817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0a2080561a78fb4862e786c87b052766.jpg"/>
          <p:cNvPicPr/>
          <p:nvPr/>
        </p:nvPicPr>
        <p:blipFill>
          <a:blip r:embed="rId1"/>
          <a:stretch/>
        </p:blipFill>
        <p:spPr>
          <a:xfrm>
            <a:off x="358920" y="533520"/>
            <a:ext cx="8540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17e1bbcaf1baee5bf43dc40a4b4c2994.jpg"/>
          <p:cNvPicPr/>
          <p:nvPr/>
        </p:nvPicPr>
        <p:blipFill>
          <a:blip r:embed="rId1"/>
          <a:stretch/>
        </p:blipFill>
        <p:spPr>
          <a:xfrm>
            <a:off x="533520" y="399960"/>
            <a:ext cx="810252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Сохранить0018"/>
          <p:cNvPicPr/>
          <p:nvPr/>
        </p:nvPicPr>
        <p:blipFill>
          <a:blip r:embed="rId1"/>
          <a:stretch/>
        </p:blipFill>
        <p:spPr>
          <a:xfrm>
            <a:off x="1523880" y="0"/>
            <a:ext cx="603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Сохранить0043"/>
          <p:cNvPicPr/>
          <p:nvPr/>
        </p:nvPicPr>
        <p:blipFill>
          <a:blip r:embed="rId1"/>
          <a:stretch/>
        </p:blipFill>
        <p:spPr>
          <a:xfrm>
            <a:off x="83808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82"/>
          <p:cNvPicPr/>
          <p:nvPr/>
        </p:nvPicPr>
        <p:blipFill>
          <a:blip r:embed="rId1"/>
          <a:stretch/>
        </p:blipFill>
        <p:spPr>
          <a:xfrm>
            <a:off x="0" y="0"/>
            <a:ext cx="44989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4952880" y="1295280"/>
            <a:ext cx="36576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Кем уйлады икән – ятим б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Якты йолдыз булып калкыр ди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Мәңге, мәңге халык йөрәгендә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Халык күңелендә балкыр ди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2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96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4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</cp:lastModifiedBy>
  <dcterms:modified xsi:type="dcterms:W3CDTF">2011-01-26T06:03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