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E4B-147E-4B54-A5C8-81F4F580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6FC-643B-498D-A747-09400EE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C4B-58DB-4196-A712-D7609470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1AB-5A6A-4252-BEC6-59645E6B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3F2-887E-4081-B720-54E1861C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B4C-2B2A-4962-96AC-EBDADFE0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A06-06E6-4073-B05A-7F7801D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F90-59DB-4E20-B3CF-37FFBF24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055-7996-47C9-9CFE-2A46EB8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C06-C5DD-4EB9-94B0-FA6FD74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0F1-DB7C-4915-87A2-D3B5191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D22-C3A2-40AD-BE9A-0C6674E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5099-B839-4BEA-B6EC-739CFFFDB1BC}" type="slidenum">
              <a:rPr b="0" lang="ru-RU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hyperlink" Target="http://www.sch425.edusite.ru/p10aa1.html" TargetMode="External"/><Relationship Id="rId12" Type="http://schemas.openxmlformats.org/officeDocument/2006/relationships/hyperlink" Target="http://standart.edu.ru/" TargetMode="External"/><Relationship Id="rId13" Type="http://schemas.openxmlformats.org/officeDocument/2006/relationships/hyperlink" Target="http://www.sch425.edusite.ru/p11aa1.html" TargetMode="External"/><Relationship Id="rId14" Type="http://schemas.openxmlformats.org/officeDocument/2006/relationships/hyperlink" Target="http://www.sch425.edusite.ru/p12aa1.html" TargetMode="External"/><Relationship Id="rId15" Type="http://schemas.openxmlformats.org/officeDocument/2006/relationships/hyperlink" Target="http://www.sch425.edusite.ru/p13aa1.html" TargetMode="Externa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3.jpeg"/><Relationship Id="rId12" Type="http://schemas.openxmlformats.org/officeDocument/2006/relationships/hyperlink" Target="http://deti.dobryeludi.ru/node/655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241128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AutoShape 7">
            <a:hlinkClick r:id="rId1" action="ppaction://hlinksldjump"/>
          </p:cNvPr>
          <p:cNvSpPr/>
          <p:nvPr/>
        </p:nvSpPr>
        <p:spPr>
          <a:xfrm>
            <a:off x="0" y="33336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Титул портфоли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AutoShape 8">
            <a:hlinkClick r:id="rId2" action="ppaction://hlinksldjump"/>
          </p:cNvPr>
          <p:cNvSpPr/>
          <p:nvPr/>
        </p:nvSpPr>
        <p:spPr>
          <a:xfrm>
            <a:off x="0" y="1197000"/>
            <a:ext cx="2268360" cy="7905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Общие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AutoShape 9">
            <a:hlinkClick r:id="rId3" action="ppaction://hlinksldjump"/>
          </p:cNvPr>
          <p:cNvSpPr/>
          <p:nvPr/>
        </p:nvSpPr>
        <p:spPr>
          <a:xfrm>
            <a:off x="0" y="2205000"/>
            <a:ext cx="2268360" cy="792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AutoShape 10">
            <a:hlinkClick r:id="rId4" action="ppaction://hlinksldjump"/>
          </p:cNvPr>
          <p:cNvSpPr/>
          <p:nvPr/>
        </p:nvSpPr>
        <p:spPr>
          <a:xfrm>
            <a:off x="0" y="3141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AutoShape 11">
            <a:hlinkClick r:id="rId5" action="ppaction://hlinksldjump"/>
          </p:cNvPr>
          <p:cNvSpPr/>
          <p:nvPr/>
        </p:nvSpPr>
        <p:spPr>
          <a:xfrm>
            <a:off x="0" y="4149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AutoShape 16">
            <a:hlinkClick r:id="rId6" action="ppaction://hlinksldjump"/>
          </p:cNvPr>
          <p:cNvSpPr/>
          <p:nvPr/>
        </p:nvSpPr>
        <p:spPr>
          <a:xfrm>
            <a:off x="0" y="508464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Педагогическое кред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28600" y="1928520"/>
            <a:ext cx="570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222268"/>
                </a:solidFill>
                <a:latin typeface="Georgia"/>
              </a:rPr>
              <a:t>Портфолио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директора школы </a:t>
            </a:r>
            <a:br>
              <a:rPr sz="3200"/>
            </a:br>
            <a:br>
              <a:rPr sz="800"/>
            </a:br>
            <a:r>
              <a:rPr b="1" lang="ru-RU" sz="800" spc="-1" strike="noStrike">
                <a:solidFill>
                  <a:srgbClr val="222268"/>
                </a:solidFill>
                <a:latin typeface="Georgia"/>
              </a:rPr>
              <a:t>        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М. Н. Аксёново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7"/>
          <a:stretch/>
        </p:blipFill>
        <p:spPr>
          <a:xfrm rot="2365800">
            <a:off x="6449760" y="4924080"/>
            <a:ext cx="2539800" cy="1836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0">
            <a:hlinkClick r:id="rId8" action="ppaction://hlinksldjump"/>
          </p:cNvPr>
          <p:cNvSpPr/>
          <p:nvPr/>
        </p:nvSpPr>
        <p:spPr>
          <a:xfrm>
            <a:off x="0" y="5950080"/>
            <a:ext cx="2268360" cy="7189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2484360" y="476280"/>
            <a:ext cx="627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средняя общеобразовательная школа № </a:t>
            </a: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425</a:t>
            </a:r>
            <a:br>
              <a:rPr sz="4400"/>
            </a:b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3786120" y="6000840"/>
            <a:ext cx="2722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       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Москва, 2011 год</a:t>
            </a:r>
            <a:br>
              <a:rPr sz="4400"/>
            </a:b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Молния 15"/>
          <p:cNvSpPr/>
          <p:nvPr/>
        </p:nvSpPr>
        <p:spPr>
          <a:xfrm>
            <a:off x="11917440" y="3573360"/>
            <a:ext cx="71280" cy="46080"/>
          </a:xfrm>
          <a:prstGeom prst="lightningBol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>
            <a:hlinkClick r:id="rId2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AutoShape 3">
            <a:hlinkClick r:id="rId3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AutoShape 3">
            <a:hlinkClick r:id="rId4" action="ppaction://hlinksldjump"/>
          </p:cNvPr>
          <p:cNvSpPr/>
          <p:nvPr/>
        </p:nvSpPr>
        <p:spPr>
          <a:xfrm>
            <a:off x="428760" y="1643040"/>
            <a:ext cx="183492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3">
            <a:hlinkClick r:id="rId5" action="ppaction://hlinksldjump"/>
          </p:cNvPr>
          <p:cNvSpPr/>
          <p:nvPr/>
        </p:nvSpPr>
        <p:spPr>
          <a:xfrm>
            <a:off x="0" y="2428920"/>
            <a:ext cx="18352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AutoShape 3">
            <a:hlinkClick r:id="rId6" action="ppaction://hlinksldjump"/>
          </p:cNvPr>
          <p:cNvSpPr/>
          <p:nvPr/>
        </p:nvSpPr>
        <p:spPr>
          <a:xfrm>
            <a:off x="0" y="314316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AutoShape 3">
            <a:hlinkClick r:id="rId7" action="ppaction://hlinksldjump"/>
          </p:cNvPr>
          <p:cNvSpPr/>
          <p:nvPr/>
        </p:nvSpPr>
        <p:spPr>
          <a:xfrm>
            <a:off x="0" y="39290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материальная 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AutoShape 3">
            <a:hlinkClick r:id="rId9" action="ppaction://hlinksldjump"/>
          </p:cNvPr>
          <p:cNvSpPr/>
          <p:nvPr/>
        </p:nvSpPr>
        <p:spPr>
          <a:xfrm>
            <a:off x="0" y="621504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AutoShape 3">
            <a:hlinkClick r:id="rId10" action="ppaction://hlinksldjump"/>
          </p:cNvPr>
          <p:cNvSpPr/>
          <p:nvPr/>
        </p:nvSpPr>
        <p:spPr>
          <a:xfrm>
            <a:off x="0" y="4786200"/>
            <a:ext cx="1835280" cy="5637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714400" y="1071720"/>
            <a:ext cx="5800680" cy="49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sch425.edusite.ru/p10aa1.html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Устав школы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2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tandart.edu.ru/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Образовательный стандарт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sch425.edusite.ru/p11aa1.html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ограмма развития , программы школы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sch425.edusite.ru/p12aa1.html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авила внутреннего распорядка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авила школьной жизни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sch425.edusite.ru/p13aa1.html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ланы рабо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57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70036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Нормативные документы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6" name="Picture 14" descr=""/>
          <p:cNvPicPr/>
          <p:nvPr/>
        </p:nvPicPr>
        <p:blipFill>
          <a:blip r:embed="rId1"/>
          <a:stretch/>
        </p:blipFill>
        <p:spPr>
          <a:xfrm rot="409200">
            <a:off x="8135640" y="5848200"/>
            <a:ext cx="1106280" cy="1125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">
            <a:hlinkClick r:id="rId2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AutoShape 3">
            <a:hlinkClick r:id="rId3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AutoShape 3">
            <a:hlinkClick r:id="rId4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AutoShape 3">
            <a:hlinkClick r:id="rId5" action="ppaction://hlinksldjump"/>
          </p:cNvPr>
          <p:cNvSpPr/>
          <p:nvPr/>
        </p:nvSpPr>
        <p:spPr>
          <a:xfrm>
            <a:off x="428760" y="235728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AutoShape 3">
            <a:hlinkClick r:id="rId7" action="ppaction://hlinksldjump"/>
          </p:cNvPr>
          <p:cNvSpPr/>
          <p:nvPr/>
        </p:nvSpPr>
        <p:spPr>
          <a:xfrm>
            <a:off x="0" y="46432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AutoShape 3">
            <a:hlinkClick r:id="rId9" action="ppaction://hlinksldjump"/>
          </p:cNvPr>
          <p:cNvSpPr/>
          <p:nvPr/>
        </p:nvSpPr>
        <p:spPr>
          <a:xfrm>
            <a:off x="0" y="614376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AutoShape 3">
            <a:hlinkClick r:id="rId10" action="ppaction://hlinksldjump"/>
          </p:cNvPr>
          <p:cNvSpPr/>
          <p:nvPr/>
        </p:nvSpPr>
        <p:spPr>
          <a:xfrm>
            <a:off x="0" y="385776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428560" y="213840"/>
            <a:ext cx="4357800" cy="8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Повышение квалификации за последние 5 лет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Подзаголовок 2"/>
          <p:cNvSpPr/>
          <p:nvPr/>
        </p:nvSpPr>
        <p:spPr>
          <a:xfrm>
            <a:off x="2571840" y="1071720"/>
            <a:ext cx="3929040" cy="22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06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Менеджмент ОУ в контексте современных требований и инноваций»,  216 час., МИЭПиП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07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Теория и практика управления образовательным учреждением в условиях перехода на самостоятельную деятельность», 72 часа - МИОО.   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0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Современный образовательный менеджмент», 72 часа - МИОО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9" name="Picture 20" descr="C:\Users\Дом\Pictures\мои грамоты и документы\курсы 2010.jpg"/>
          <p:cNvPicPr/>
          <p:nvPr/>
        </p:nvPicPr>
        <p:blipFill>
          <a:blip r:embed="rId11"/>
          <a:stretch/>
        </p:blipFill>
        <p:spPr>
          <a:xfrm rot="359400">
            <a:off x="2786040" y="3428640"/>
            <a:ext cx="2286000" cy="314172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  <p:pic>
        <p:nvPicPr>
          <p:cNvPr id="220" name="Picture 21" descr=""/>
          <p:cNvPicPr/>
          <p:nvPr/>
        </p:nvPicPr>
        <p:blipFill>
          <a:blip r:embed="rId12"/>
          <a:stretch/>
        </p:blipFill>
        <p:spPr>
          <a:xfrm>
            <a:off x="5857920" y="3429000"/>
            <a:ext cx="2271600" cy="314964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  <p:pic>
        <p:nvPicPr>
          <p:cNvPr id="221" name="Picture 22" descr="C:\Users\Дом\Pictures\курсы2010-2.jpg"/>
          <p:cNvPicPr/>
          <p:nvPr/>
        </p:nvPicPr>
        <p:blipFill>
          <a:blip r:embed="rId13"/>
          <a:stretch/>
        </p:blipFill>
        <p:spPr>
          <a:xfrm rot="362400">
            <a:off x="6854760" y="379440"/>
            <a:ext cx="1938240" cy="2741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1"/>
          <a:stretch/>
        </p:blipFill>
        <p:spPr>
          <a:xfrm rot="498600">
            <a:off x="7961040" y="5789160"/>
            <a:ext cx="1106280" cy="11257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3">
            <a:hlinkClick r:id="rId2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AutoShape 3">
            <a:hlinkClick r:id="rId3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AutoShape 3">
            <a:hlinkClick r:id="rId4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AutoShape 3">
            <a:hlinkClick r:id="rId5" action="ppaction://hlinksldjump"/>
          </p:cNvPr>
          <p:cNvSpPr/>
          <p:nvPr/>
        </p:nvSpPr>
        <p:spPr>
          <a:xfrm>
            <a:off x="428760" y="228600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AutoShape 3">
            <a:hlinkClick r:id="rId7" action="ppaction://hlinksldjump"/>
          </p:cNvPr>
          <p:cNvSpPr/>
          <p:nvPr/>
        </p:nvSpPr>
        <p:spPr>
          <a:xfrm>
            <a:off x="0" y="46432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AutoShape 3">
            <a:hlinkClick r:id="rId9" action="ppaction://hlinksldjump"/>
          </p:cNvPr>
          <p:cNvSpPr/>
          <p:nvPr/>
        </p:nvSpPr>
        <p:spPr>
          <a:xfrm>
            <a:off x="0" y="614376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AutoShape 3">
            <a:hlinkClick r:id="rId10" action="ppaction://hlinksldjump"/>
          </p:cNvPr>
          <p:cNvSpPr/>
          <p:nvPr/>
        </p:nvSpPr>
        <p:spPr>
          <a:xfrm>
            <a:off x="0" y="385776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285640" y="-360"/>
            <a:ext cx="67150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Аттестация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6" name="Picture 21" descr="C:\Users\Дом\Pictures\мои грамоты и документы\высшая категория руководителя2008.jpg"/>
          <p:cNvPicPr/>
          <p:nvPr/>
        </p:nvPicPr>
        <p:blipFill>
          <a:blip r:embed="rId11"/>
          <a:stretch/>
        </p:blipFill>
        <p:spPr>
          <a:xfrm>
            <a:off x="6072120" y="2071800"/>
            <a:ext cx="2610000" cy="371448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  <p:pic>
        <p:nvPicPr>
          <p:cNvPr id="237" name="Picture 22" descr="C:\Users\Дом\Pictures\мои грамоты и документы\высшая категория учителя 2010.jpg"/>
          <p:cNvPicPr/>
          <p:nvPr/>
        </p:nvPicPr>
        <p:blipFill>
          <a:blip r:embed="rId12"/>
          <a:stretch/>
        </p:blipFill>
        <p:spPr>
          <a:xfrm>
            <a:off x="2786040" y="2500200"/>
            <a:ext cx="2700360" cy="384336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  <p:sp>
        <p:nvSpPr>
          <p:cNvPr id="238" name="Подзаголовок 2"/>
          <p:cNvSpPr/>
          <p:nvPr/>
        </p:nvSpPr>
        <p:spPr>
          <a:xfrm>
            <a:off x="2571840" y="642960"/>
            <a:ext cx="64292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ысшая категори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(16 разряд) по должности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«руководитель»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22.04.2008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ысша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категори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(14разряд) по должности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«учитель»,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26.10.2010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3">
            <a:hlinkClick r:id="rId2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AutoShape 3">
            <a:hlinkClick r:id="rId3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AutoShape 3">
            <a:hlinkClick r:id="rId4" action="ppaction://hlinksldjump"/>
          </p:cNvPr>
          <p:cNvSpPr/>
          <p:nvPr/>
        </p:nvSpPr>
        <p:spPr>
          <a:xfrm>
            <a:off x="0" y="1643040"/>
            <a:ext cx="18352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AutoShape 3">
            <a:hlinkClick r:id="rId5" action="ppaction://hlinksldjump"/>
          </p:cNvPr>
          <p:cNvSpPr/>
          <p:nvPr/>
        </p:nvSpPr>
        <p:spPr>
          <a:xfrm>
            <a:off x="0" y="2357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AutoShape 3">
            <a:hlinkClick r:id="rId6" action="ppaction://hlinksldjump"/>
          </p:cNvPr>
          <p:cNvSpPr/>
          <p:nvPr/>
        </p:nvSpPr>
        <p:spPr>
          <a:xfrm>
            <a:off x="500040" y="307188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650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593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AutoShape 3">
            <a:hlinkClick r:id="rId9" action="ppaction://hlinksldjump"/>
          </p:cNvPr>
          <p:cNvSpPr/>
          <p:nvPr/>
        </p:nvSpPr>
        <p:spPr>
          <a:xfrm>
            <a:off x="0" y="614376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AutoShape 3">
            <a:hlinkClick r:id="rId10" action="ppaction://hlinksldjump"/>
          </p:cNvPr>
          <p:cNvSpPr/>
          <p:nvPr/>
        </p:nvSpPr>
        <p:spPr>
          <a:xfrm>
            <a:off x="0" y="4643280"/>
            <a:ext cx="1835280" cy="635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928600" y="1571400"/>
            <a:ext cx="5545080" cy="35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а базе школы открыты 3 городские  экспериментальные площадки: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ГЭП «Библиотека - медиацентр в проектной деятельности школы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ГЭП «Шестиклассная начальная школа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ГЭП «Компетентностный подход в формировании образовательной среды начальной школы» 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Активно используются  современные образовательные технологии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, в том числе и информационно-коммуникационных, технологий обучения и воспитания детей с проблемами развит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484360" y="40464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5040" indent="-180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Научно – методическая   деятельность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>
            <a:hlinkClick r:id="rId2" action="ppaction://hlinksldjump"/>
          </p:cNvPr>
          <p:cNvSpPr/>
          <p:nvPr/>
        </p:nvSpPr>
        <p:spPr>
          <a:xfrm>
            <a:off x="0" y="260280"/>
            <a:ext cx="1835280" cy="596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AutoShape 3">
            <a:hlinkClick r:id="rId3" action="ppaction://hlinksldjump"/>
          </p:cNvPr>
          <p:cNvSpPr/>
          <p:nvPr/>
        </p:nvSpPr>
        <p:spPr>
          <a:xfrm>
            <a:off x="0" y="10000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AutoShape 3">
            <a:hlinkClick r:id="rId4" action="ppaction://hlinksldjump"/>
          </p:cNvPr>
          <p:cNvSpPr/>
          <p:nvPr/>
        </p:nvSpPr>
        <p:spPr>
          <a:xfrm>
            <a:off x="0" y="1714680"/>
            <a:ext cx="1835280" cy="574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AutoShape 3">
            <a:hlinkClick r:id="rId5" action="ppaction://hlinksldjump"/>
          </p:cNvPr>
          <p:cNvSpPr/>
          <p:nvPr/>
        </p:nvSpPr>
        <p:spPr>
          <a:xfrm>
            <a:off x="0" y="2428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AutoShape 3">
            <a:hlinkClick r:id="rId6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AutoShape 3">
            <a:hlinkClick r:id="rId7" action="ppaction://hlinksldjump"/>
          </p:cNvPr>
          <p:cNvSpPr/>
          <p:nvPr/>
        </p:nvSpPr>
        <p:spPr>
          <a:xfrm>
            <a:off x="428760" y="3929040"/>
            <a:ext cx="183492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93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AutoShape 3">
            <a:hlinkClick r:id="rId9" action="ppaction://hlinksldjump"/>
          </p:cNvPr>
          <p:cNvSpPr/>
          <p:nvPr/>
        </p:nvSpPr>
        <p:spPr>
          <a:xfrm>
            <a:off x="0" y="621504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AutoShape 3">
            <a:hlinkClick r:id="rId10" action="ppaction://hlinksldjump"/>
          </p:cNvPr>
          <p:cNvSpPr/>
          <p:nvPr/>
        </p:nvSpPr>
        <p:spPr>
          <a:xfrm>
            <a:off x="0" y="4786200"/>
            <a:ext cx="1835280" cy="5637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987640" y="999720"/>
            <a:ext cx="5184720" cy="535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 школе имеется 32 кабинета, оснащённых всем необходимым оборудованием, актовый и спортивный залы, кабинет психолога, логопеда, медицинский блок ( кабинет для приёма больных, процедурная, стоматологический), буфет на 66 посадочных мест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Имеются и активно применяются  в процессе обучения технические средства обучения: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75 компьютеров, из них 40 используются в учебных целях, 7 мультимедийных проекторов, экраны, телевизоры, видеомагнитофоны, музыкальные центры и другие ТС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071880" y="3571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Учебно-материальная баз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71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>
            <a:hlinkClick r:id="rId2" action="ppaction://hlinksldjump"/>
          </p:cNvPr>
          <p:cNvSpPr/>
          <p:nvPr/>
        </p:nvSpPr>
        <p:spPr>
          <a:xfrm>
            <a:off x="0" y="260280"/>
            <a:ext cx="19288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AutoShape 3">
            <a:hlinkClick r:id="rId3" action="ppaction://hlinksldjump"/>
          </p:cNvPr>
          <p:cNvSpPr/>
          <p:nvPr/>
        </p:nvSpPr>
        <p:spPr>
          <a:xfrm>
            <a:off x="0" y="907920"/>
            <a:ext cx="19288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AutoShape 3">
            <a:hlinkClick r:id="rId4" action="ppaction://hlinksldjump"/>
          </p:cNvPr>
          <p:cNvSpPr/>
          <p:nvPr/>
        </p:nvSpPr>
        <p:spPr>
          <a:xfrm>
            <a:off x="0" y="1643040"/>
            <a:ext cx="19288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Нормативные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документ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AutoShape 3">
            <a:hlinkClick r:id="rId5" action="ppaction://hlinksldjump"/>
          </p:cNvPr>
          <p:cNvSpPr/>
          <p:nvPr/>
        </p:nvSpPr>
        <p:spPr>
          <a:xfrm>
            <a:off x="0" y="2428920"/>
            <a:ext cx="19288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Повышение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AutoShape 3">
            <a:hlinkClick r:id="rId6" action="ppaction://hlinksldjump"/>
          </p:cNvPr>
          <p:cNvSpPr/>
          <p:nvPr/>
        </p:nvSpPr>
        <p:spPr>
          <a:xfrm>
            <a:off x="0" y="3143160"/>
            <a:ext cx="19288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AutoShape 3">
            <a:hlinkClick r:id="rId7" action="ppaction://hlinksldjump"/>
          </p:cNvPr>
          <p:cNvSpPr/>
          <p:nvPr/>
        </p:nvSpPr>
        <p:spPr>
          <a:xfrm>
            <a:off x="0" y="4000680"/>
            <a:ext cx="200016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материальная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AutoShape 3">
            <a:hlinkClick r:id="rId8" action="ppaction://hlinksldjump"/>
          </p:cNvPr>
          <p:cNvSpPr/>
          <p:nvPr/>
        </p:nvSpPr>
        <p:spPr>
          <a:xfrm>
            <a:off x="0" y="5500800"/>
            <a:ext cx="200016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AutoShape 3">
            <a:hlinkClick r:id="rId9" action="ppaction://hlinksldjump"/>
          </p:cNvPr>
          <p:cNvSpPr/>
          <p:nvPr/>
        </p:nvSpPr>
        <p:spPr>
          <a:xfrm>
            <a:off x="357120" y="6143760"/>
            <a:ext cx="190656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AutoShape 3">
            <a:hlinkClick r:id="rId10" action="ppaction://hlinksldjump"/>
          </p:cNvPr>
          <p:cNvSpPr/>
          <p:nvPr/>
        </p:nvSpPr>
        <p:spPr>
          <a:xfrm>
            <a:off x="0" y="4857840"/>
            <a:ext cx="19288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571840" y="2142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тзывы и рекоменд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3" name="Picture 17" descr="C:\Users\Дом\Pictures\мои грамоты и документы\2000 Комитет образования.jpg"/>
          <p:cNvPicPr/>
          <p:nvPr/>
        </p:nvPicPr>
        <p:blipFill>
          <a:blip r:embed="rId11"/>
          <a:stretch/>
        </p:blipFill>
        <p:spPr>
          <a:xfrm rot="20907000">
            <a:off x="2657160" y="2967120"/>
            <a:ext cx="2133720" cy="321444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284" name="Picture 2" descr="C:\Users\Дом\Pictures\мои грамоты и документы\2010 Пушкинский институт.jpg"/>
          <p:cNvPicPr/>
          <p:nvPr/>
        </p:nvPicPr>
        <p:blipFill>
          <a:blip r:embed="rId12"/>
          <a:stretch/>
        </p:blipFill>
        <p:spPr>
          <a:xfrm rot="625200">
            <a:off x="6593040" y="2610000"/>
            <a:ext cx="2286000" cy="3146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Дом\Pictures\мои грамоты и документы\приказ министра о благодарности.jpg"/>
          <p:cNvPicPr/>
          <p:nvPr/>
        </p:nvPicPr>
        <p:blipFill>
          <a:blip r:embed="rId13"/>
          <a:stretch/>
        </p:blipFill>
        <p:spPr>
          <a:xfrm>
            <a:off x="4500720" y="857160"/>
            <a:ext cx="2097000" cy="30942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>
            <a:hlinkClick r:id="rId2" action="ppaction://hlinksldjump"/>
          </p:cNvPr>
          <p:cNvSpPr/>
          <p:nvPr/>
        </p:nvSpPr>
        <p:spPr>
          <a:xfrm>
            <a:off x="0" y="26028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AutoShape 3">
            <a:hlinkClick r:id="rId3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AutoShape 3">
            <a:hlinkClick r:id="rId4" action="ppaction://hlinksldjump"/>
          </p:cNvPr>
          <p:cNvSpPr/>
          <p:nvPr/>
        </p:nvSpPr>
        <p:spPr>
          <a:xfrm>
            <a:off x="0" y="1643040"/>
            <a:ext cx="18352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Нормативные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документ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AutoShape 3">
            <a:hlinkClick r:id="rId5" action="ppaction://hlinksldjump"/>
          </p:cNvPr>
          <p:cNvSpPr/>
          <p:nvPr/>
        </p:nvSpPr>
        <p:spPr>
          <a:xfrm>
            <a:off x="0" y="2357280"/>
            <a:ext cx="18352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Повышение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AutoShape 3">
            <a:hlinkClick r:id="rId6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AutoShape 3">
            <a:hlinkClick r:id="rId7" action="ppaction://hlinksldjump"/>
          </p:cNvPr>
          <p:cNvSpPr/>
          <p:nvPr/>
        </p:nvSpPr>
        <p:spPr>
          <a:xfrm>
            <a:off x="0" y="39290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материаль-ная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AutoShape 3">
            <a:hlinkClick r:id="rId8" action="ppaction://hlinksldjump"/>
          </p:cNvPr>
          <p:cNvSpPr/>
          <p:nvPr/>
        </p:nvSpPr>
        <p:spPr>
          <a:xfrm>
            <a:off x="0" y="5500800"/>
            <a:ext cx="19288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AutoShape 3">
            <a:hlinkClick r:id="rId9" action="ppaction://hlinksldjump"/>
          </p:cNvPr>
          <p:cNvSpPr/>
          <p:nvPr/>
        </p:nvSpPr>
        <p:spPr>
          <a:xfrm>
            <a:off x="500040" y="61437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7" name="AutoShape 3">
            <a:hlinkClick r:id="rId10" action="ppaction://hlinksldjump"/>
          </p:cNvPr>
          <p:cNvSpPr/>
          <p:nvPr/>
        </p:nvSpPr>
        <p:spPr>
          <a:xfrm>
            <a:off x="0" y="4786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2571840" y="2142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тзывы и рекоменд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00" name="Picture 17" descr="C:\Users\Дом\Pictures\мои грамоты и документы\2000 Комитет образования.jpg"/>
          <p:cNvPicPr/>
          <p:nvPr/>
        </p:nvPicPr>
        <p:blipFill>
          <a:blip r:embed="rId11"/>
          <a:stretch/>
        </p:blipFill>
        <p:spPr>
          <a:xfrm>
            <a:off x="-12644280" y="25766640"/>
            <a:ext cx="2428560" cy="3660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20"/>
          <p:cNvSpPr/>
          <p:nvPr/>
        </p:nvSpPr>
        <p:spPr>
          <a:xfrm>
            <a:off x="2786040" y="100008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Подзаголовок 2"/>
          <p:cNvSpPr/>
          <p:nvPr/>
        </p:nvSpPr>
        <p:spPr>
          <a:xfrm>
            <a:off x="2714760" y="1071720"/>
            <a:ext cx="5786280" cy="4857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deti.dobryeludi.ru/node/655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- сайт международного общественного движения «Добрые  дети мира»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ttp://www.nsportal.ru/zhabreva-tatyana-leonidovna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социальная сеть работников образования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ttp://schools.dnevnik.ru/school.aspx?school=22506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– социальная сеть Дневник.ру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ttp://www.spr.ru/hovrino/shkola-425.html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 сайт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PR.ru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ttp://1065.mosuzedu.ru/index.php?option=com_content&amp;task=view&amp;id=392&amp;Itemid=187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айт школы 106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 rot="588600">
            <a:off x="7950240" y="5800320"/>
            <a:ext cx="1106280" cy="112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>
            <a:hlinkClick r:id="rId2" action="ppaction://hlinksldjump"/>
          </p:cNvPr>
          <p:cNvSpPr/>
          <p:nvPr/>
        </p:nvSpPr>
        <p:spPr>
          <a:xfrm>
            <a:off x="500040" y="14292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AutoShape 3">
            <a:hlinkClick r:id="rId3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AutoShape 3">
            <a:hlinkClick r:id="rId4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AutoShape 3">
            <a:hlinkClick r:id="rId5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AutoShape 3">
            <a:hlinkClick r:id="rId6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AutoShape 3">
            <a:hlinkClick r:id="rId7" action="ppaction://hlinksldjump"/>
          </p:cNvPr>
          <p:cNvSpPr/>
          <p:nvPr/>
        </p:nvSpPr>
        <p:spPr>
          <a:xfrm>
            <a:off x="0" y="392904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AutoShape 3">
            <a:hlinkClick r:id="rId9" action="ppaction://hlinksldjump"/>
          </p:cNvPr>
          <p:cNvSpPr/>
          <p:nvPr/>
        </p:nvSpPr>
        <p:spPr>
          <a:xfrm>
            <a:off x="0" y="614376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AutoShape 3">
            <a:hlinkClick r:id="rId10" action="ppaction://hlinksldjump"/>
          </p:cNvPr>
          <p:cNvSpPr/>
          <p:nvPr/>
        </p:nvSpPr>
        <p:spPr>
          <a:xfrm>
            <a:off x="0" y="471492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2500200" y="1000080"/>
            <a:ext cx="3500640" cy="5572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бразование –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высшее,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кончила 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овосибирский государственный педагогический институт,  1989 год;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специальность –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учитель начальных классов,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валификация –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педагогика и методика начального обуче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Трудовой стаж  -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24 года,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едагогический стаж -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24 года,  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стаж работы в данной школе -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12 лет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Должность -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директор школы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с 11.01.2006 год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валификационная категория: руководителя -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высшая,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 – 16, </a:t>
            </a:r>
            <a:r>
              <a:rPr b="0" i="1" lang="ru-RU" sz="1400" spc="-1" strike="noStrike">
                <a:solidFill>
                  <a:srgbClr val="003300"/>
                </a:solidFill>
                <a:latin typeface="Arial"/>
              </a:rPr>
              <a:t>учителя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– высшая,  </a:t>
            </a:r>
            <a:r>
              <a:rPr b="0" i="1" lang="ru-RU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 14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облема педагогического  исследования:                           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«Школа как социальная система и объект управления»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Аксёнова </a:t>
            </a:r>
            <a:br>
              <a:rPr sz="2400"/>
            </a:b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C:\Users\Дом\Pictures\мои грамоты и документы\диплом Марина.jpg"/>
          <p:cNvPicPr/>
          <p:nvPr/>
        </p:nvPicPr>
        <p:blipFill>
          <a:blip r:embed="rId11"/>
          <a:stretch/>
        </p:blipFill>
        <p:spPr>
          <a:xfrm rot="20280000">
            <a:off x="6029280" y="3674880"/>
            <a:ext cx="2844720" cy="19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C:\Users\Дом\Pictures\мои грамоты и документы\диплом Марина 2.jpg"/>
          <p:cNvPicPr/>
          <p:nvPr/>
        </p:nvPicPr>
        <p:blipFill>
          <a:blip r:embed="rId12"/>
          <a:stretch/>
        </p:blipFill>
        <p:spPr>
          <a:xfrm>
            <a:off x="7286760" y="2786040"/>
            <a:ext cx="1665000" cy="241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C:\Users\Дом\Pictures\Аксёнова МН.jpg"/>
          <p:cNvPicPr/>
          <p:nvPr/>
        </p:nvPicPr>
        <p:blipFill>
          <a:blip r:embed="rId13"/>
          <a:stretch/>
        </p:blipFill>
        <p:spPr>
          <a:xfrm>
            <a:off x="6786720" y="357120"/>
            <a:ext cx="150012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>
            <a:hlinkClick r:id="rId2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AutoShape 3">
            <a:hlinkClick r:id="rId3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AutoShape 3">
            <a:hlinkClick r:id="rId4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AutoShape 3">
            <a:hlinkClick r:id="rId5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AutoShape 3">
            <a:hlinkClick r:id="rId6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AutoShape 3">
            <a:hlinkClick r:id="rId7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760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AutoShape 3">
            <a:hlinkClick r:id="rId9" action="ppaction://hlinksldjump"/>
          </p:cNvPr>
          <p:cNvSpPr/>
          <p:nvPr/>
        </p:nvSpPr>
        <p:spPr>
          <a:xfrm>
            <a:off x="0" y="6215040"/>
            <a:ext cx="1835280" cy="500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AutoShape 3">
            <a:hlinkClick r:id="rId10" action="ppaction://hlinksldjump"/>
          </p:cNvPr>
          <p:cNvSpPr/>
          <p:nvPr/>
        </p:nvSpPr>
        <p:spPr>
          <a:xfrm>
            <a:off x="0" y="4786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42840" y="142560"/>
            <a:ext cx="351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Звания, наг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7"/>
          <p:cNvSpPr/>
          <p:nvPr/>
        </p:nvSpPr>
        <p:spPr>
          <a:xfrm>
            <a:off x="2643120" y="1000080"/>
            <a:ext cx="2286000" cy="261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Член-корреспондент международной Академии общественных наук,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член Совета директоров СНГ,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аграждена орденом «За вклад в науку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степени»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7" name="Picture 20" descr="G:\мои грамоты\фото140.jpg"/>
          <p:cNvPicPr/>
          <p:nvPr/>
        </p:nvPicPr>
        <p:blipFill>
          <a:blip r:embed="rId11"/>
          <a:stretch/>
        </p:blipFill>
        <p:spPr>
          <a:xfrm>
            <a:off x="6072120" y="714240"/>
            <a:ext cx="2786040" cy="184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G:\мои грамоты\фото139.jpg"/>
          <p:cNvPicPr/>
          <p:nvPr/>
        </p:nvPicPr>
        <p:blipFill>
          <a:blip r:embed="rId12"/>
          <a:stretch/>
        </p:blipFill>
        <p:spPr>
          <a:xfrm>
            <a:off x="5143680" y="1714680"/>
            <a:ext cx="3139920" cy="207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G:\мои грамоты\фото141.jpg"/>
          <p:cNvPicPr/>
          <p:nvPr/>
        </p:nvPicPr>
        <p:blipFill>
          <a:blip r:embed="rId13"/>
          <a:stretch/>
        </p:blipFill>
        <p:spPr>
          <a:xfrm>
            <a:off x="2500200" y="4143240"/>
            <a:ext cx="3571920" cy="2462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:\мои грамоты\DSC_0929.JPG"/>
          <p:cNvPicPr/>
          <p:nvPr/>
        </p:nvPicPr>
        <p:blipFill>
          <a:blip r:embed="rId14"/>
          <a:stretch/>
        </p:blipFill>
        <p:spPr>
          <a:xfrm>
            <a:off x="6643800" y="4214880"/>
            <a:ext cx="15001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>
            <a:hlinkClick r:id="rId2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AutoShape 3">
            <a:hlinkClick r:id="rId3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AutoShape 3">
            <a:hlinkClick r:id="rId4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AutoShape 3">
            <a:hlinkClick r:id="rId5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AutoShape 3">
            <a:hlinkClick r:id="rId6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AutoShape 3">
            <a:hlinkClick r:id="rId7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AutoShape 3">
            <a:hlinkClick r:id="rId8" action="ppaction://hlinksldjump"/>
          </p:cNvPr>
          <p:cNvSpPr/>
          <p:nvPr/>
        </p:nvSpPr>
        <p:spPr>
          <a:xfrm>
            <a:off x="0" y="5500800"/>
            <a:ext cx="1835280" cy="593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AutoShape 3">
            <a:hlinkClick r:id="rId9" action="ppaction://hlinksldjump"/>
          </p:cNvPr>
          <p:cNvSpPr/>
          <p:nvPr/>
        </p:nvSpPr>
        <p:spPr>
          <a:xfrm>
            <a:off x="0" y="621504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AutoShape 3">
            <a:hlinkClick r:id="rId10" action="ppaction://hlinksldjump"/>
          </p:cNvPr>
          <p:cNvSpPr/>
          <p:nvPr/>
        </p:nvSpPr>
        <p:spPr>
          <a:xfrm>
            <a:off x="0" y="4786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</a:t>
            </a:r>
            <a:r>
              <a:rPr b="1" lang="ru-RU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6500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зультаты личного участия в конференциях, конкурсах , смотрах, фестиваля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G:\мои грамоты\2009 Школа-территория здоровья.jpg"/>
          <p:cNvPicPr/>
          <p:nvPr/>
        </p:nvPicPr>
        <p:blipFill>
          <a:blip r:embed="rId11"/>
          <a:stretch/>
        </p:blipFill>
        <p:spPr>
          <a:xfrm>
            <a:off x="6964200" y="1857240"/>
            <a:ext cx="2179800" cy="300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G:\мои грамоты\2007 Венок талантов.jpg"/>
          <p:cNvPicPr/>
          <p:nvPr/>
        </p:nvPicPr>
        <p:blipFill>
          <a:blip r:embed="rId12"/>
          <a:stretch/>
        </p:blipFill>
        <p:spPr>
          <a:xfrm>
            <a:off x="4643280" y="1143000"/>
            <a:ext cx="2179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G:\ГРАМОТЫ\2009\фестиваль метод служб 2009.jpg"/>
          <p:cNvPicPr/>
          <p:nvPr/>
        </p:nvPicPr>
        <p:blipFill>
          <a:blip r:embed="rId13"/>
          <a:stretch/>
        </p:blipFill>
        <p:spPr>
          <a:xfrm>
            <a:off x="2357280" y="1428840"/>
            <a:ext cx="2021040" cy="289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G:\ГРАМОТЫ\2010\фото143.jpg"/>
          <p:cNvPicPr/>
          <p:nvPr/>
        </p:nvPicPr>
        <p:blipFill>
          <a:blip r:embed="rId14"/>
          <a:stretch/>
        </p:blipFill>
        <p:spPr>
          <a:xfrm>
            <a:off x="3500280" y="4429080"/>
            <a:ext cx="321480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AutoShape 3">
            <a:hlinkClick r:id="rId2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AutoShape 3">
            <a:hlinkClick r:id="rId3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AutoShape 3">
            <a:hlinkClick r:id="rId4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AutoShape 3">
            <a:hlinkClick r:id="rId7" action="ppaction://hlinksldjump"/>
          </p:cNvPr>
          <p:cNvSpPr/>
          <p:nvPr/>
        </p:nvSpPr>
        <p:spPr>
          <a:xfrm>
            <a:off x="0" y="5429160"/>
            <a:ext cx="1835280" cy="505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AutoShape 3">
            <a:hlinkClick r:id="rId8" action="ppaction://hlinksldjump"/>
          </p:cNvPr>
          <p:cNvSpPr/>
          <p:nvPr/>
        </p:nvSpPr>
        <p:spPr>
          <a:xfrm>
            <a:off x="0" y="60721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AutoShape 3">
            <a:hlinkClick r:id="rId9" action="ppaction://hlinksldjump"/>
          </p:cNvPr>
          <p:cNvSpPr/>
          <p:nvPr/>
        </p:nvSpPr>
        <p:spPr>
          <a:xfrm>
            <a:off x="0" y="471492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499840" y="928800"/>
            <a:ext cx="2643480" cy="400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06 год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оведён выборочный капитальный ремонт школы с  элементами  реконструкции   на 2-5 этаж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становлена новая АПС, реконструкция тревожной кнопк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охождение процедур аттестации, аккредитации и лицензирова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ие гимназических классов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ачало издания школьной газеты «Большая перемена»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286000" y="260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Подзаголовок 19"/>
          <p:cNvSpPr/>
          <p:nvPr/>
        </p:nvSpPr>
        <p:spPr>
          <a:xfrm>
            <a:off x="5286240" y="714240"/>
            <a:ext cx="3429000" cy="592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07 год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оведён выборочный капитальный ремонт на первом цокольном этажах, цоколя и фасада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оведена локальная сеть, выход в интернет из всех кабинетов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борудована телефонная мини-станция для внутренней связи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 второй компьютерный кабинет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бновлено оборудование для гардероба и спортивных раздевалок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Частично обновлена мебель в учебных кабинет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бновлены все стенд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Школа вступает в экспериментальную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азвивается проект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асширяется дополнительное образование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становлены связи межрегионального и международного сотрудничества в области  воспитания и образования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0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>
            <a:hlinkClick r:id="rId2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AutoShape 3">
            <a:hlinkClick r:id="rId3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3">
            <a:hlinkClick r:id="rId4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AutoShape 3">
            <a:hlinkClick r:id="rId5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505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AutoShape 3">
            <a:hlinkClick r:id="rId9" action="ppaction://hlinksldjump"/>
          </p:cNvPr>
          <p:cNvSpPr/>
          <p:nvPr/>
        </p:nvSpPr>
        <p:spPr>
          <a:xfrm>
            <a:off x="0" y="60721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AutoShape 3">
            <a:hlinkClick r:id="rId10" action="ppaction://hlinksldjump"/>
          </p:cNvPr>
          <p:cNvSpPr/>
          <p:nvPr/>
        </p:nvSpPr>
        <p:spPr>
          <a:xfrm>
            <a:off x="0" y="471492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071880" y="214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Подзаголовок 19"/>
          <p:cNvSpPr/>
          <p:nvPr/>
        </p:nvSpPr>
        <p:spPr>
          <a:xfrm>
            <a:off x="2428920" y="714240"/>
            <a:ext cx="3286080" cy="557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08 год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бновлено компьютерное оборудование в кабинете информатик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становлена автоматизированная система доступа в школу и система многоканальной громкой связи оповеще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ы профильные класс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веден второй иностранный (французский языка)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а музейная экспозиция народного творчества и русского быта.</a:t>
            </a: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ы выставки-галереи  «Герои России», «Битва под Москвой»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Школа – участник международного движения «Добрые дети мира»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Школе вручен орден Мира третьей степени и диплом за развитие творческих способностей и социальной активности подрастающего поколения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Подзаголовок 19"/>
          <p:cNvSpPr/>
          <p:nvPr/>
        </p:nvSpPr>
        <p:spPr>
          <a:xfrm>
            <a:off x="5929200" y="714240"/>
            <a:ext cx="2928960" cy="500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09 год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оведён частичный ремонт ограждения территории 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иобретены мультимедийные проекторы, компьютеризированы рабочие места учителей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Открыт третий компьютерный класс на  для начальной школы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ткрыта музейная экспозиция «Мы памяти вашей верны!»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асширены социальные взаимосвяз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Школа - лауреат конкурса инновационных социальных технологий в области сохранения  нравственности и физического здоровья наци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Школьная библиотека преобразована в библиотеку-медиатеку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>
            <a:hlinkClick r:id="rId2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AutoShape 3">
            <a:hlinkClick r:id="rId3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AutoShape 3">
            <a:hlinkClick r:id="rId4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AutoShape 3">
            <a:hlinkClick r:id="rId5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505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AutoShape 3">
            <a:hlinkClick r:id="rId9" action="ppaction://hlinksldjump"/>
          </p:cNvPr>
          <p:cNvSpPr/>
          <p:nvPr/>
        </p:nvSpPr>
        <p:spPr>
          <a:xfrm>
            <a:off x="0" y="60721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AutoShape 3">
            <a:hlinkClick r:id="rId10" action="ppaction://hlinksldjump"/>
          </p:cNvPr>
          <p:cNvSpPr/>
          <p:nvPr/>
        </p:nvSpPr>
        <p:spPr>
          <a:xfrm>
            <a:off x="0" y="471492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928960" y="2858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Подзаголовок 19"/>
          <p:cNvSpPr/>
          <p:nvPr/>
        </p:nvSpPr>
        <p:spPr>
          <a:xfrm>
            <a:off x="2500200" y="1071720"/>
            <a:ext cx="6286680" cy="36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10 год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Получено Лего - оборудование и развивающая среда для начальной школы, современное оборудование в кабинет физики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Проведен косметический ремонт в рекреациях и лестничных пролётах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Обновлена мебель в двух кабинетах начальной школы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ткрыта выставка-галерея  «Города - герои»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Прохождение процедуры аккредитации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Расширены направленности дополнительного образования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Активное внедрение новых стандартов обучения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недрение электронных дневников и журналов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Школа – участник Парада на Красной площади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Подзаголовок 19"/>
          <p:cNvSpPr/>
          <p:nvPr/>
        </p:nvSpPr>
        <p:spPr>
          <a:xfrm>
            <a:off x="2428920" y="5357880"/>
            <a:ext cx="5643360" cy="107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2011 год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Получен мобильный класс для начальной школы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Прохождение процедуры лицензирования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8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">
            <a:hlinkClick r:id="rId2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AutoShape 3">
            <a:hlinkClick r:id="rId3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AutoShape 3">
            <a:hlinkClick r:id="rId4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AutoShape 3">
            <a:hlinkClick r:id="rId5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505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AutoShape 3">
            <a:hlinkClick r:id="rId9" action="ppaction://hlinksldjump"/>
          </p:cNvPr>
          <p:cNvSpPr/>
          <p:nvPr/>
        </p:nvSpPr>
        <p:spPr>
          <a:xfrm>
            <a:off x="0" y="60721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AutoShape 3">
            <a:hlinkClick r:id="rId10" action="ppaction://hlinksldjump"/>
          </p:cNvPr>
          <p:cNvSpPr/>
          <p:nvPr/>
        </p:nvSpPr>
        <p:spPr>
          <a:xfrm>
            <a:off x="0" y="471492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28560" y="1071360"/>
            <a:ext cx="6429240" cy="48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marL="187200"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Усовершенствована структура управленческой систем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00200" y="260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1" name="Рисунок 20" descr=""/>
          <p:cNvPicPr/>
          <p:nvPr/>
        </p:nvPicPr>
        <p:blipFill>
          <a:blip r:embed="rId11"/>
          <a:stretch/>
        </p:blipFill>
        <p:spPr>
          <a:xfrm>
            <a:off x="2571840" y="1571760"/>
            <a:ext cx="628632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1"/>
          <a:stretch/>
        </p:blipFill>
        <p:spPr>
          <a:xfrm>
            <a:off x="8037360" y="5732640"/>
            <a:ext cx="1106640" cy="11253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>
            <a:hlinkClick r:id="rId2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3">
            <a:hlinkClick r:id="rId4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AutoShape 3">
            <a:hlinkClick r:id="rId5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AutoShape 3">
            <a:hlinkClick r:id="rId6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AutoShape 3">
            <a:hlinkClick r:id="rId8" action="ppaction://hlinksldjump"/>
          </p:cNvPr>
          <p:cNvSpPr/>
          <p:nvPr/>
        </p:nvSpPr>
        <p:spPr>
          <a:xfrm>
            <a:off x="0" y="5429160"/>
            <a:ext cx="1835280" cy="505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22268"/>
                </a:solidFill>
                <a:latin typeface="Georgia"/>
              </a:rPr>
              <a:t>Педагогическое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кред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AutoShape 3">
            <a:hlinkClick r:id="rId9" action="ppaction://hlinksldjump"/>
          </p:cNvPr>
          <p:cNvSpPr/>
          <p:nvPr/>
        </p:nvSpPr>
        <p:spPr>
          <a:xfrm>
            <a:off x="0" y="60721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3">
            <a:hlinkClick r:id="rId10" action="ppaction://hlinksldjump"/>
          </p:cNvPr>
          <p:cNvSpPr/>
          <p:nvPr/>
        </p:nvSpPr>
        <p:spPr>
          <a:xfrm>
            <a:off x="0" y="471492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Georgia"/>
              </a:rPr>
              <a:t>Внеурочн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714760" y="857160"/>
            <a:ext cx="5643360" cy="557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дним из результатов образовательной деятельности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школы является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подготовка медалистов школы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За последние  пять лет - 14 выпускников окончили школу с медалью, из них 6 человек   получили золотую медаль и 8 человек – серебряную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Динамика поступления в вуз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2357280" y="2858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857680" y="2357280"/>
          <a:ext cx="5429160" cy="1113120"/>
        </p:xfrm>
        <a:graphic>
          <a:graphicData uri="http://schemas.openxmlformats.org/drawingml/2006/table">
            <a:tbl>
              <a:tblPr/>
              <a:tblGrid>
                <a:gridCol w="981000"/>
                <a:gridCol w="828720"/>
                <a:gridCol w="904680"/>
                <a:gridCol w="905040"/>
                <a:gridCol w="904680"/>
                <a:gridCol w="905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золото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еребро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786040" y="4143240"/>
          <a:ext cx="5500800" cy="2027520"/>
        </p:xfrm>
        <a:graphic>
          <a:graphicData uri="http://schemas.openxmlformats.org/drawingml/2006/table">
            <a:tbl>
              <a:tblPr/>
              <a:tblGrid>
                <a:gridCol w="1374840"/>
                <a:gridCol w="1376280"/>
                <a:gridCol w="1374840"/>
                <a:gridCol w="137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7ffff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щее количество выпускников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оступили в вузы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 поступления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4%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1:04:27Z</dcterms:created>
  <dc:creator>Alex</dc:creator>
  <dc:description/>
  <dc:language>en-US</dc:language>
  <cp:lastModifiedBy>Дом</cp:lastModifiedBy>
  <dcterms:modified xsi:type="dcterms:W3CDTF">2011-02-13T15:50:59Z</dcterms:modified>
  <cp:revision>221</cp:revision>
  <dc:subject/>
  <dc:title>Слайд 1</dc:title>
</cp:coreProperties>
</file>