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gif" ContentType="image/gif"/>
  <Override PartName="/ppt/media/image22.png" ContentType="image/png"/>
  <Override PartName="/ppt/media/image21.png" ContentType="image/png"/>
  <Override PartName="/ppt/media/image2.gif" ContentType="image/gif"/>
  <Override PartName="/ppt/media/image13.wmf" ContentType="image/x-wmf"/>
  <Override PartName="/ppt/media/image10.gif" ContentType="image/gif"/>
  <Override PartName="/ppt/media/image4.gif" ContentType="image/gif"/>
  <Override PartName="/ppt/media/image7.png" ContentType="image/png"/>
  <Override PartName="/ppt/media/image27.gif" ContentType="image/gif"/>
  <Override PartName="/ppt/media/image9.gif" ContentType="image/gif"/>
  <Override PartName="/ppt/media/image11.gif" ContentType="image/gif"/>
  <Override PartName="/ppt/media/image3.jpeg" ContentType="image/jpeg"/>
  <Override PartName="/ppt/media/image12.gif" ContentType="image/gif"/>
  <Override PartName="/ppt/media/image8.gif" ContentType="image/gif"/>
  <Override PartName="/ppt/media/image29.png" ContentType="image/png"/>
  <Override PartName="/ppt/media/image26.gif" ContentType="image/gif"/>
  <Override PartName="/ppt/media/image30.gif" ContentType="image/gif"/>
  <Override PartName="/ppt/media/image5.gif" ContentType="image/gif"/>
  <Override PartName="/ppt/media/image16.wmf" ContentType="image/x-wmf"/>
  <Override PartName="/ppt/media/image28.gif" ContentType="image/gif"/>
  <Override PartName="/ppt/media/image25.gif" ContentType="image/gif"/>
  <Override PartName="/ppt/media/image6.jpeg" ContentType="image/jpeg"/>
  <Override PartName="/ppt/media/image17.wmf" ContentType="image/x-wmf"/>
  <Override PartName="/ppt/media/image31.gif" ContentType="image/gif"/>
  <Override PartName="/ppt/media/image1.gif" ContentType="image/gif"/>
  <Override PartName="/ppt/media/image24.gif" ContentType="image/gif"/>
  <Override PartName="/ppt/media/image15.gif" ContentType="image/gif"/>
  <Override PartName="/ppt/media/image14.wmf" ContentType="image/x-wmf"/>
  <Override PartName="/ppt/media/image18.gif" ContentType="image/gif"/>
  <Override PartName="/ppt/media/image20.gif" ContentType="image/gif"/>
  <Override PartName="/ppt/media/image19.gif" ContentType="image/gif"/>
  <Override PartName="/ppt/media/TIKTAK05.wav" ContentType="audio/x-wav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2274-3791-4FC1-8002-00EAA310D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2EFF-C79C-4687-81AC-A913DBC58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38CB-1889-4830-8D1E-1ED1A6747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8B3D-8810-49E3-BECE-DA3413726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D487-2CAA-41DF-BFA1-9793C5CDE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1CE3-121A-4F88-B194-637AC8139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15F1-693F-4946-97EA-AD1E96E94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1B2E-8375-43A6-8B89-786E3474A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24E9-4CD8-47FF-A0D0-807F9F382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BCF4-6877-44B7-8FF5-2A53269AC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D30C-B9E5-4FF4-A533-F006DF92D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5322-206B-4930-9810-FBF533CD6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B2339-6C56-4714-A2AF-FE4D6D8634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audio" Target="../media/TIKTAK05.wav"/><Relationship Id="rId4" Type="http://schemas.openxmlformats.org/officeDocument/2006/relationships/audio" Target="../media/TIKTAK05.wav"/><Relationship Id="rId5" Type="http://schemas.openxmlformats.org/officeDocument/2006/relationships/audio" Target="../media/TIKTAK05.wav"/><Relationship Id="rId6" Type="http://schemas.openxmlformats.org/officeDocument/2006/relationships/audio" Target="../media/TIKTAK05.wav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30.gif"/><Relationship Id="rId8" Type="http://schemas.openxmlformats.org/officeDocument/2006/relationships/image" Target="../media/image31.gi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image" Target="../media/image15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47920" y="457200"/>
            <a:ext cx="5616360" cy="49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8 способов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ешения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вадратного уравнени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1905120" cy="18367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629400" y="5029200"/>
            <a:ext cx="1600200" cy="14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48a04"/>
                </a:solidFill>
                <a:latin typeface="Arial"/>
              </a:rPr>
              <a:t>Работа в группах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172200" y="4038480"/>
            <a:ext cx="2427120" cy="23972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066680" y="2133720"/>
            <a:ext cx="302436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57200" y="609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Предупредительный сигнал об окончании рабо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3352680"/>
            <a:ext cx="2743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44724"/>
                </a:solidFill>
                <a:latin typeface="Comic Sans MS"/>
              </a:rPr>
              <a:t>1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90920" y="2133720"/>
            <a:ext cx="396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44724"/>
                </a:solidFill>
                <a:latin typeface="Comic Sans MS"/>
              </a:rPr>
              <a:t>Осталос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48120" y="4495680"/>
            <a:ext cx="342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Comic Sans MS"/>
              </a:rPr>
              <a:t>секунд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858000" y="1600200"/>
            <a:ext cx="1981080" cy="14335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33520" y="4267080"/>
            <a:ext cx="2043000" cy="226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IKTAK05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2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IKTAK05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2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31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IKTAK05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3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Способ №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«Разложение левой части уравнения на множители способом группировки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019920" y="4648320"/>
            <a:ext cx="251460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95280" y="260280"/>
            <a:ext cx="8424720" cy="52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9999"/>
                </a:solidFill>
                <a:latin typeface="Georgia"/>
              </a:rPr>
              <a:t>Приёмы устного решения квадратных уравнен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ahoma"/>
              </a:rPr>
              <a:t>a x </a:t>
            </a:r>
            <a:r>
              <a:rPr b="1" lang="en-US" sz="3600" spc="-1" strike="noStrike" baseline="30000">
                <a:solidFill>
                  <a:srgbClr val="800000"/>
                </a:solidFill>
                <a:latin typeface="Tahoma"/>
              </a:rPr>
              <a:t>2</a:t>
            </a:r>
            <a:r>
              <a:rPr b="1" lang="en-US" sz="3600" spc="-1" strike="noStrike">
                <a:solidFill>
                  <a:srgbClr val="800000"/>
                </a:solidFill>
                <a:latin typeface="Tahoma"/>
              </a:rPr>
              <a:t> + b x + c = 0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1.Если </a:t>
            </a: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a + b + c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 = 0, </a:t>
            </a: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= </a:t>
            </a:r>
            <a:r>
              <a:rPr b="1" lang="ru-RU" sz="3200" spc="-1" strike="noStrike">
                <a:solidFill>
                  <a:srgbClr val="009999"/>
                </a:solidFill>
                <a:latin typeface="Georgia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2.Если </a:t>
            </a: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a - b + c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 = 0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x 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= </a:t>
            </a:r>
            <a:r>
              <a:rPr b="1" lang="en-US" sz="3200" spc="-1" strike="noStrike">
                <a:solidFill>
                  <a:srgbClr val="009999"/>
                </a:solidFill>
                <a:latin typeface="Georgia"/>
              </a:rPr>
              <a:t>- 1</a:t>
            </a: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7391520" y="2057400"/>
                <a:ext cx="44748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с</m:t>
                        </m:r>
                      </m:num>
                      <m:den>
                        <m:r>
                          <m:t xml:space="preserve">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3657600" y="4114800"/>
                <a:ext cx="64764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с</m:t>
                        </m:r>
                      </m:num>
                      <m:den>
                        <m:r>
                          <m:t xml:space="preserve">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410080" y="3886200"/>
            <a:ext cx="3048120" cy="23781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5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8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71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74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971440" y="915480"/>
            <a:ext cx="57913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олландский математик родил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1540 году. Получив юридическое образование он занимался адвокатской практикой. Главной страстью Виета была математ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орема ( обратная теореме Виета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сли сумма двух чисел равна второму коэффициенту приведённого квадратного уравнения, взятому с противоположным знаком, а их произведение равно свободному члену, то эти числа являются корнями приведённого квадратного уравн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2385720" cy="32482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1471680" y="228600"/>
            <a:ext cx="60897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99ffcc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рансуа Виет</a:t>
            </a:r>
            <a:endParaRPr b="1" i="1" lang="en-US" sz="1800" spc="1" strike="noStrike">
              <a:ln w="0">
                <a:noFill/>
              </a:ln>
              <a:solidFill>
                <a:srgbClr val="99ffcc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500"/>
                            </p:stCondLst>
                            <p:childTnLst>
                              <p:par>
                                <p:cTn id="3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2000"/>
                            </p:stCondLst>
                            <p:childTnLst>
                              <p:par>
                                <p:cTn id="3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2500"/>
                            </p:stCondLst>
                            <p:childTnLst>
                              <p:par>
                                <p:cTn id="3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Формулы сокращенного умно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99840" y="3047760"/>
            <a:ext cx="480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+2ab+b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=(a+b)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b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=(a-b)(a+b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324480" y="4952880"/>
            <a:ext cx="2057400" cy="15051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685800" y="1523880"/>
            <a:ext cx="124776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азложение квадратного трехчлена на множите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квадратное уравн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x 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+ b x + c = 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имеет корни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о выполняется тождество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x 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+ b x + c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(x-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(x-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58000" y="4343400"/>
            <a:ext cx="172260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000"/>
                            </p:stCondLst>
                            <p:childTnLst>
                              <p:par>
                                <p:cTn id="43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4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732120" y="797040"/>
            <a:ext cx="2158920" cy="3851280"/>
          </a:xfrm>
          <a:custGeom>
            <a:avLst/>
            <a:gdLst/>
            <a:ahLst/>
            <a:rect l="l" t="t" r="r" b="b"/>
            <a:pathLst>
              <a:path w="1360" h="2426">
                <a:moveTo>
                  <a:pt x="0" y="47"/>
                </a:moveTo>
                <a:cubicBezTo>
                  <a:pt x="113" y="442"/>
                  <a:pt x="449" y="2426"/>
                  <a:pt x="676" y="2418"/>
                </a:cubicBezTo>
                <a:cubicBezTo>
                  <a:pt x="903" y="2410"/>
                  <a:pt x="1217" y="504"/>
                  <a:pt x="1360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962520" y="1905120"/>
            <a:ext cx="0" cy="27432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029200" y="42670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3276720" y="609120"/>
            <a:ext cx="3504960" cy="4572360"/>
            <a:chOff x="3276720" y="609120"/>
            <a:chExt cx="3504960" cy="4572360"/>
          </a:xfrm>
        </p:grpSpPr>
        <p:sp>
          <p:nvSpPr>
            <p:cNvPr id="147" name=""/>
            <p:cNvSpPr/>
            <p:nvPr/>
          </p:nvSpPr>
          <p:spPr>
            <a:xfrm flipV="1">
              <a:off x="4800600" y="609480"/>
              <a:ext cx="0" cy="4572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76720" y="4648320"/>
              <a:ext cx="3504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16200000">
              <a:off x="4914720" y="1866240"/>
              <a:ext cx="228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724280" y="373392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724280" y="289548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724280" y="198108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962520" y="4572000"/>
              <a:ext cx="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638680" y="4572000"/>
              <a:ext cx="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724280" y="403848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724280" y="434340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5029200" y="457164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5334120" y="457164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16200000">
              <a:off x="4914720" y="2780640"/>
              <a:ext cx="228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16200000">
              <a:off x="4914720" y="3618720"/>
              <a:ext cx="228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16200000">
              <a:off x="4914720" y="646920"/>
              <a:ext cx="228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16200000">
              <a:off x="6514920" y="4380840"/>
              <a:ext cx="228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16200000">
              <a:off x="5524560" y="4762080"/>
              <a:ext cx="22860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16200000">
              <a:off x="4762440" y="4686120"/>
              <a:ext cx="22860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16200000">
              <a:off x="3771720" y="4761720"/>
              <a:ext cx="228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6" name=""/>
                <p:cNvSpPr txBox="1"/>
                <p:nvPr/>
              </p:nvSpPr>
              <p:spPr>
                <a:xfrm>
                  <a:off x="4952880" y="4724280"/>
                  <a:ext cx="139680" cy="393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67" name=""/>
          <p:cNvSpPr/>
          <p:nvPr/>
        </p:nvSpPr>
        <p:spPr>
          <a:xfrm>
            <a:off x="3505320" y="990720"/>
            <a:ext cx="2057400" cy="4343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3886200" y="1752120"/>
            <a:ext cx="304920" cy="228600"/>
            <a:chOff x="3886200" y="1752120"/>
            <a:chExt cx="304920" cy="228600"/>
          </a:xfrm>
        </p:grpSpPr>
        <p:sp>
          <p:nvSpPr>
            <p:cNvPr id="169" name=""/>
            <p:cNvSpPr/>
            <p:nvPr/>
          </p:nvSpPr>
          <p:spPr>
            <a:xfrm rot="16200000">
              <a:off x="3848040" y="1790280"/>
              <a:ext cx="22860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16200000">
              <a:off x="4000320" y="1789920"/>
              <a:ext cx="228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952880" y="4038120"/>
            <a:ext cx="304920" cy="304920"/>
            <a:chOff x="4952880" y="4038120"/>
            <a:chExt cx="304920" cy="304920"/>
          </a:xfrm>
        </p:grpSpPr>
        <p:sp>
          <p:nvSpPr>
            <p:cNvPr id="172" name=""/>
            <p:cNvSpPr/>
            <p:nvPr/>
          </p:nvSpPr>
          <p:spPr>
            <a:xfrm rot="16200000">
              <a:off x="4952880" y="4038120"/>
              <a:ext cx="228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6200000">
              <a:off x="5067360" y="4152600"/>
              <a:ext cx="22860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762120" y="0"/>
            <a:ext cx="62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пособ №8: Графиче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486400" y="51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-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791320" y="1447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=3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80880" y="3886200"/>
            <a:ext cx="2409840" cy="25909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762120" y="1143000"/>
            <a:ext cx="2133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-2x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1600200"/>
            <a:ext cx="198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=3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057400"/>
            <a:ext cx="213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=-2x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5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838080" y="3733920"/>
            <a:ext cx="2374920" cy="16635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 txBox="1"/>
          <p:nvPr/>
        </p:nvSpPr>
        <p:spPr>
          <a:xfrm>
            <a:off x="1143000" y="533520"/>
            <a:ext cx="741672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ffcc"/>
                  </a:solidFill>
                  <a:miter/>
                </a:ln>
                <a:solidFill>
                  <a:srgbClr val="99cc00"/>
                </a:solidFill>
                <a:latin typeface="Times New Roman"/>
              </a:rPr>
              <a:t>Оцени свою работу</a:t>
            </a:r>
            <a:endParaRPr b="0" lang="en-US" sz="1800" spc="1" strike="noStrike">
              <a:ln w="9360">
                <a:solidFill>
                  <a:srgbClr val="99ffcc"/>
                </a:solidFill>
                <a:miter/>
              </a:ln>
              <a:solidFill>
                <a:srgbClr val="99cc00"/>
              </a:solidFill>
              <a:latin typeface="Times New Roman"/>
              <a:ea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791320" y="3124080"/>
            <a:ext cx="203652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539640" y="1628640"/>
            <a:ext cx="792000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 </a:t>
            </a:r>
            <a:r>
              <a:rPr b="1" i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Научился сам -</a:t>
            </a:r>
            <a:endParaRPr b="1" i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 </a:t>
            </a:r>
            <a:r>
              <a:rPr b="1" i="1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научи другого.</a:t>
            </a:r>
            <a:endParaRPr b="1" i="1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7"/>
          <a:stretch/>
        </p:blipFill>
        <p:spPr>
          <a:xfrm>
            <a:off x="7086600" y="228600"/>
            <a:ext cx="1579680" cy="16002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8"/>
          <a:stretch/>
        </p:blipFill>
        <p:spPr>
          <a:xfrm>
            <a:off x="380880" y="4419720"/>
            <a:ext cx="2362320" cy="21621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0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0" dur="3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209320" y="4571640"/>
            <a:ext cx="63248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не Декар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французский математик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956120" y="838080"/>
            <a:ext cx="3998880" cy="47530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52280" y="304920"/>
            <a:ext cx="50292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ce Script MT"/>
              </a:rPr>
              <a:t>«Для разыскан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ce Script MT"/>
              </a:rPr>
              <a:t>истины веще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ce Script MT"/>
              </a:rPr>
              <a:t>необходим метод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-118800"/>
            <a:ext cx="7859880" cy="7034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Bernard MT Condense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66520" y="2666880"/>
            <a:ext cx="57006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стематизировать знани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мения, навыки реш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ных квадратных уравнений различными способ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292720" y="5129280"/>
            <a:ext cx="1152360" cy="1728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914400" y="609480"/>
            <a:ext cx="7238880" cy="184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44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99ffcc"/>
                </a:solidFill>
                <a:latin typeface="Impact"/>
              </a:rPr>
              <a:t>Ц Е Л Ь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99ffcc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99ffcc"/>
                </a:solidFill>
                <a:latin typeface="Impact"/>
              </a:rPr>
              <a:t>урока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99ffcc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2255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1676520" y="4618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142640" y="304560"/>
            <a:ext cx="33526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2x-5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7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14x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5x+4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4x+4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4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11x+5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2x=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791320" y="1371600"/>
            <a:ext cx="1066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867280" y="3276720"/>
            <a:ext cx="10670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91320" y="152280"/>
            <a:ext cx="1066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791320" y="2057400"/>
            <a:ext cx="1066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867280" y="2666880"/>
            <a:ext cx="10670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867280" y="3962520"/>
            <a:ext cx="10670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791320" y="685800"/>
            <a:ext cx="1066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905520" y="4419720"/>
            <a:ext cx="19335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46 0.03889 C -0.01615 0.05718 -0.02535 0.07454 -0.03629 0.0875 C -0.04202 0.09422 -0.04896 0.09861 -0.05504 0.10486 C -0.0599 0.10972 -0.06094 0.11343 -0.06684 0.11574 C -0.08004 0.1294 -0.10122 0.14607 -0.10677 0.16759 C -0.10729 0.19908 -0.1007 0.23912 -0.11511 0.26806 C -0.11754 0.28264 -0.13073 0.29375 -0.14098 0.29769 C -0.14914 0.30903 -0.14809 0.33611 -0.13854 0.34491 C -0.13473 0.35347 -0.13125 0.36227 -0.12674 0.36991 C -0.12466 0.39537 -0.12865 0.41898 -0.14792 0.42801 C -0.1507 0.43866 -0.16216 0.43588 -0.1691 0.44051 C -0.17344 0.44352 -0.17691 0.44792 -0.18091 0.45162 C -0.18212 0.45278 -0.18438 0.45463 -0.18438 0.45486 C -0.18785 0.46134 -0.19045 0.46829 -0.19393 0.475 C -0.19636 0.48611 -0.19653 0.50093 -0.20087 0.51111 C -0.20799 0.52778 -0.23507 0.54699 -0.24914 0.55347 C -0.27066 0.55139 -0.29271 0.55301 -0.31389 0.54722 C -0.3257 0.54398 -0.33716 0.53982 -0.34914 0.53773 C -0.37535 0.53889 -0.4007 0.54213 -0.42674 0.54398 C -0.43039 0.54491 -0.43368 0.54653 -0.43733 0.54722 C -0.44479 0.54861 -0.45973 0.55023 -0.45973 0.55047 C -0.46407 0.55324 -0.4691 0.55533 -0.47275 0.55972 C -0.47518 0.56273 -0.47726 0.56597 -0.47969 0.56922 C -0.48091 0.57084 -0.48334 0.57384 -0.48334 0.57408 C -0.4816 0.59051 -0.48334 0.58218 -0.475 0.58959 C -0.47292 0.59722 -0.47466 0.60533 -0.47622 0.61297 C -0.47848 0.62338 -0.47622 0.62246 -0.48091 0.62246 E">
                                      <p:cBhvr>
                                        <p:cTn id="147" dur="5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.02222 C -0.00573 0.02431 -0.00833 0.03102 -0.01319 0.03542 C -0.02795 0.04908 -0.04306 0.06597 -0.06024 0.07222 C -0.07691 0.0882 -0.09306 0.10463 -0.10868 0.12245 C -0.1151 0.12963 -0.11667 0.13333 -0.12153 0.14421 C -0.1224 0.14607 -0.12396 0.14954 -0.12396 0.14977 C -0.12535 0.16528 -0.1283 0.18056 -0.12986 0.1963 C -0.13108 0.20718 -0.13333 0.22292 -0.13819 0.23148 C -0.13906 0.2331 -0.14062 0.23333 -0.14167 0.23472 C -0.14861 0.24468 -0.15625 0.25533 -0.16181 0.26667 C -0.16319 0.2875 -0.16545 0.30116 -0.17465 0.3169 C -0.17882 0.32408 -0.17483 0.32107 -0.18056 0.32361 C -0.18472 0.32963 -0.18785 0.33171 -0.19358 0.3338 C -0.20243 0.34236 -0.21111 0.3412 -0.22187 0.34213 C -0.23785 0.34977 -0.25677 0.34653 -0.27274 0.34699 C -0.27951 0.34884 -0.28594 0.35139 -0.29271 0.3537 C -0.29531 0.35579 -0.29844 0.35648 -0.30087 0.35903 C -0.30417 0.36227 -0.30694 0.36713 -0.31024 0.3706 C -0.31597 0.38264 -0.32917 0.39722 -0.3375 0.40579 C -0.34097 0.40926 -0.34931 0.4125 -0.34931 0.41273 C -0.36354 0.41158 -0.37587 0.40833 -0.38924 0.41088 C -0.38958 0.41296 -0.39045 0.41528 -0.39045 0.41759 C -0.39045 0.42014 -0.38715 0.42778 -0.39167 0.42778 E">
                                      <p:cBhvr>
                                        <p:cTn id="150" dur="5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8 -4.44444E-006 C -0.00851 0.00417 -0.01459 0.01412 -0.02136 0.02176 C -0.02518 0.02616 -0.03091 0.02987 -0.0342 0.03496 C -0.03872 0.04213 -0.0441 0.05186 -0.04844 0.05973 C -0.04966 0.06945 -0.05348 0.07709 -0.05539 0.08635 C -0.05434 0.09723 -0.05469 0.10139 -0.04723 0.10463 C -0.0375 0.11899 -0.02361 0.13195 -0.01198 0.14283 C -0.01042 0.14445 -0.0099 0.14769 -0.00834 0.14954 C -0.004 0.15463 0.00191 0.15579 0.00694 0.1595 L 0.00694 0.15973 C 0.01284 0.16783 0.01718 0.17246 0.02448 0.17801 C 0.03611 0.19723 0.05416 0.21135 0.06805 0.22778 C 0.07343 0.23403 0.08073 0.23704 0.08576 0.24445 C 0.09444 0.25695 0.09809 0.27061 0.1033 0.28588 C 0.10486 0.29885 0.10868 0.322 0.1033 0.33403 C 0.10191 0.33727 0.0993 0.33936 0.09757 0.34237 C 0.09305 0.34954 0.09774 0.34607 0.09166 0.34862 C 0.0842 0.35973 0.07343 0.36204 0.06336 0.36551 C 0.046 0.36459 0.02986 0.3625 0.01284 0.35903 C 0.00347 0.35371 -0.00556 0.35232 -0.01545 0.35047 C -0.02934 0.34514 -0.04358 0.34121 -0.05782 0.33912 C -0.0757 0.34028 -0.0842 0.33704 -0.09775 0.34723 C -0.10087 0.34954 -0.10486 0.35047 -0.10729 0.35371 C -0.11164 0.36019 -0.11441 0.36667 -0.11789 0.37362 C -0.11962 0.3882 -0.12049 0.40463 -0.11424 0.41713 C -0.11007 0.4345 -0.09705 0.44075 -0.08611 0.447 C -0.08056 0.45024 -0.06962 0.45695 -0.06962 0.45718 C -0.06771 0.45973 -0.06598 0.46297 -0.06372 0.46528 C -0.06233 0.4669 -0.06042 0.46713 -0.05903 0.46852 C -0.04914 0.4801 -0.06563 0.4676 -0.05191 0.47686 C -0.04931 0.48565 -0.04375 0.49537 -0.03889 0.50186 C -0.03629 0.51482 -0.03368 0.52709 -0.02848 0.53843 C -0.02934 0.56575 -0.02414 0.57477 -0.04011 0.57963 C -0.05643 0.59445 -0.04584 0.58797 -0.07431 0.59005 C -0.08837 0.59792 -0.06979 0.58797 -0.09184 0.59491 C -0.09601 0.59607 -0.09792 0.60047 -0.10139 0.60325 C -0.1165 0.61505 -0.12084 0.61945 -0.12952 0.63959 C -0.13195 0.65903 -0.13889 0.66945 -0.14723 0.68473 C -0.16528 0.71783 -0.18316 0.73774 -0.21077 0.75278 C -0.22049 0.75232 -0.23039 0.75232 -0.24011 0.75116 C -0.24723 0.75 -0.25573 0.74121 -0.2625 0.73774 C -0.2665 0.73843 -0.27049 0.73774 -0.27431 0.73959 C -0.279 0.74121 -0.28368 0.74838 -0.28837 0.75116 C -0.29861 0.75718 -0.30764 0.7595 -0.31424 0.77269 C -0.31545 0.78334 -0.31302 0.78241 -0.31667 0.78241 E">
                                      <p:cBhvr>
                                        <p:cTn id="153" dur="5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0.05205 C 0.00694 0.05413 0.01423 0.05483 0.02118 0.05691 C 0.02517 0.05807 0.02882 0.06061 0.03281 0.06154 C 0.04097 0.06339 0.05764 0.06616 0.05764 0.06639 C 0.06267 0.07079 0.06545 0.07125 0.0717 0.07241 C 0.07743 0.07773 0.08125 0.08027 0.08819 0.08189 C 0.09843 0.0886 0.10885 0.09461 0.11875 0.10225 C 0.12343 0.10595 0.1276 0.11173 0.13177 0.11636 C 0.13836 0.12353 0.14201 0.13486 0.14809 0.14296 C 0.15069 0.1536 0.14722 0.1418 0.15295 0.15244 C 0.15399 0.15429 0.15416 0.15684 0.15521 0.15869 C 0.15764 0.16262 0.16336 0.16956 0.16336 0.16979 C 0.16614 0.18043 0.16215 0.16794 0.16927 0.17905 C 0.17152 0.18275 0.1743 0.19454 0.17639 0.1994 C 0.17604 0.21189 0.17586 0.22462 0.17517 0.23711 C 0.17396 0.25862 0.15902 0.28522 0.14809 0.2998 C 0.14218 0.31622 0.12361 0.32848 0.11163 0.33588 C 0.1 0.34305 0.08784 0.3486 0.07639 0.35624 C 0.07326 0.35832 0.07031 0.36133 0.06701 0.36248 C 0.05295 0.36734 0.03698 0.37451 0.02222 0.37659 C -0.01893 0.38215 0.02343 0.37521 -0.00365 0.37983 C -0.01389 0.384 -0.03542 0.38446 -0.03542 0.38469 C -0.04098 0.38631 -0.05191 0.3907 -0.05191 0.39094 C -0.05573 0.39441 -0.05938 0.39417 -0.06354 0.39695 C -0.07535 0.40505 -0.0882 0.41384 -0.10122 0.41731 C -0.12396 0.43743 -0.15816 0.43489 -0.18368 0.43604 C -0.1849 0.43651 -0.18611 0.43697 -0.18716 0.43766 C -0.18837 0.43859 -0.18941 0.44021 -0.19063 0.4409 C -0.19323 0.44252 -0.19618 0.44275 -0.19896 0.44391 C -0.20313 0.44784 -0.20729 0.44761 -0.21181 0.45015 C -0.22066 0.45524 -0.23229 0.46172 -0.24011 0.46912 C -0.24532 0.48346 -0.24358 0.48416 -0.24358 0.50521 E">
                                      <p:cBhvr>
                                        <p:cTn id="156" dur="5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.06435 C -0.02066 0.05718 -0.04132 0.05509 -0.06233 0.05023 C -0.0717 0.04815 -0.08125 0.04606 -0.09062 0.04398 C -0.09878 0.04213 -0.11528 0.04074 -0.11528 0.04097 C -0.12465 0.04097 -0.18663 0.04144 -0.21059 0.04398 C -0.22413 0.04537 -0.23715 0.04977 -0.25069 0.05185 C -0.27587 0.05995 -0.30243 0.06435 -0.3283 0.06736 C -0.34028 0.07106 -0.35243 0.07315 -0.36476 0.07523 C -0.37378 0.07894 -0.38247 0.08009 -0.39184 0.08148 C -0.40608 0.08889 -0.42101 0.09398 -0.43542 0.10046 C -0.44635 0.10532 -0.45608 0.11412 -0.46701 0.11921 C -0.47569 0.12778 -0.48056 0.13565 -0.48819 0.14583 C -0.48785 0.15046 -0.48819 0.15532 -0.48715 0.15995 C -0.48611 0.16458 -0.48125 0.16829 -0.47882 0.17106 C -0.47049 0.18079 -0.46024 0.18519 -0.44948 0.18819 C -0.43142 0.20023 -0.41302 0.20648 -0.39306 0.20856 C -0.37917 0.2125 -0.36476 0.21551 -0.35069 0.21806 C -0.33142 0.225 -0.31163 0.22708 -0.29184 0.23056 C -0.25104 0.25023 -0.19514 0.24097 -0.15764 0.24167 C -0.15972 0.24699 -0.16111 0.25208 -0.16354 0.25718 C -0.16528 0.2662 -0.16823 0.27523 -0.17413 0.28079 C -0.17708 0.28657 -0.18281 0.29375 -0.18472 0.29954 C -0.18802 0.30926 -0.18819 0.3169 -0.18819 0.32778 E">
                                      <p:cBhvr>
                                        <p:cTn id="159" dur="5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500"/>
                            </p:stCondLst>
                            <p:childTnLst>
                              <p:par>
                                <p:cTn id="16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.08981 C -0.01545 0.09144 -0.03038 0.09444 -0.04583 0.09606 C -0.0533 0.09954 -0.06076 0.10231 -0.06823 0.10556 C -0.07135 0.10972 -0.07448 0.11389 -0.0776 0.11806 C -0.08316 0.12546 -0.07917 0.11644 -0.08472 0.12593 C -0.08646 0.12894 -0.08941 0.13542 -0.08941 0.13565 C -0.08576 0.14954 -0.08802 0.14907 -0.07517 0.15093 C -0.06285 0.14954 -0.05208 0.14491 -0.03993 0.14167 C -0.03802 0.1412 -0.03594 0.14074 -0.03403 0.14005 C -0.0316 0.13912 -0.02708 0.13681 -0.02708 0.13704 C -0.01441 0.13796 -0.01076 0.13565 -0.00226 0.14329 C -0.00087 0.14699 0.00226 0.15 0.00243 0.15417 C 0.0033 0.16921 -0.00139 0.17917 -0.01163 0.18403 C -0.02517 0.19699 -0.01267 0.18704 -0.04705 0.18704 C -0.0717 0.18704 -0.09826 0.17616 -0.12118 0.18866 C -0.13021 0.19352 -0.12118 0.21481 -0.12118 0.22778 E">
                                      <p:cBhvr>
                                        <p:cTn id="162" dur="5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3000"/>
                            </p:stCondLst>
                            <p:childTnLst>
                              <p:par>
                                <p:cTn id="1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0.05926 C -0.01823 0.06435 -0.03698 0.06667 -0.05539 0.07037 C -0.05955 0.07222 -0.06407 0.07315 -0.06823 0.075 C -0.07674 0.07871 -0.08455 0.08519 -0.09289 0.08912 C -0.09809 0.09468 -0.10139 0.10093 -0.10712 0.10486 C -0.1092 0.1132 -0.1132 0.11922 -0.1165 0.12662 C -0.11979 0.1338 -0.12118 0.14213 -0.1224 0.15023 C -0.12205 0.1581 -0.1224 0.16621 -0.12118 0.17384 C -0.11997 0.18102 -0.1125 0.18634 -0.10834 0.18959 C -0.09271 0.20255 -0.09236 0.20324 -0.0717 0.20509 C -0.05608 0.20463 -0.04028 0.20486 -0.02466 0.20371 C -0.01493 0.20301 -0.00695 0.19954 0.00225 0.19722 C 0.02413 0.19167 0.046 0.18519 0.06823 0.1831 C 0.06979 0.18264 0.07135 0.18218 0.07291 0.18172 C 0.07534 0.18102 0.0776 0.18079 0.08003 0.18009 C 0.08316 0.17917 0.08941 0.17685 0.08941 0.17709 C 0.12465 0.17778 0.19861 0.16204 0.21527 0.22547 C 0.21458 0.2581 0.21875 0.2875 0.2059 0.31505 C 0.20156 0.33472 0.19479 0.3669 0.18472 0.38241 C 0.1809 0.38843 0.17673 0.39375 0.17291 0.39977 C 0.16857 0.40672 0.16666 0.4132 0.16111 0.41852 C 0.15798 0.425 0.1533 0.42709 0.14826 0.43102 C 0.14288 0.44121 0.13125 0.4463 0.12239 0.44977 C 0.11423 0.45695 0.10104 0.45787 0.09166 0.45926 C 0.08541 0.46134 0.07916 0.46343 0.07291 0.46551 C 0.07048 0.46875 0.06771 0.4713 0.0658 0.475 C 0.06423 0.47801 0.06111 0.48426 0.06111 0.48449 C 0.05868 0.49676 0.05902 0.51134 0.06475 0.52199 C 0.0651 0.52408 0.0651 0.52639 0.0658 0.52824 C 0.06701 0.53172 0.07048 0.53773 0.07048 0.53797 C 0.06961 0.55209 0.06805 0.56134 0.06354 0.57384 C 0.06198 0.58334 0.06024 0.59398 0.05416 0.60047 C 0.05086 0.60394 0.04375 0.60394 0.03993 0.60509 C 0.03576 0.60648 0.03246 0.61088 0.0283 0.61134 C 0.02396 0.61181 -0.01337 0.61435 -0.0165 0.61459 C -0.02761 0.61968 -0.03316 0.63264 -0.04011 0.64445 C -0.04236 0.65255 -0.04532 0.65996 -0.04827 0.66783 C -0.05122 0.69398 -0.05052 0.68125 -0.05052 0.70556 E">
                                      <p:cBhvr>
                                        <p:cTn id="165" dur="5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иофант Александрийский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около 3 в.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56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ревнегреческий математик. В основном труде «Арифметика» (сохранились 6 книг из 13), дал решение задач, приводящихся к диофантовым уравнениям, и впервые ввел буквенную символику в алгеб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562720" y="1828800"/>
            <a:ext cx="3332160" cy="403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51920" y="533160"/>
            <a:ext cx="853452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Bookman Old Style"/>
              </a:rPr>
              <a:t>Способы решен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Bookman Old Style"/>
              </a:rPr>
              <a:t>квадратного уравн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+bx+c=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553080" y="4343400"/>
            <a:ext cx="2057400" cy="2043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7162920" y="304920"/>
            <a:ext cx="1338120" cy="163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304920" y="304920"/>
            <a:ext cx="99036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лгоритм решения квадратного уравне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3995640" y="5661000"/>
                <a:ext cx="136836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в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6084720" y="5734080"/>
                <a:ext cx="11512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alignl</m:t>
                    </m:r>
                    <m:sSub>
                      <m:e>
                        <m:eqArr>
                          <m:e>
                            <m:r>
                              <m:t xml:space="preserve">1,2</m:t>
                            </m:r>
                          </m:e>
                        </m:eqArr>
                      </m:e>
                      <m:sub/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в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D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3733920" y="1752480"/>
            <a:ext cx="1558800" cy="452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+вх+с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352680" y="2362320"/>
            <a:ext cx="2362320" cy="563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эффициенты а,в,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0920" y="4076640"/>
            <a:ext cx="136872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&lt;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00400" y="3124080"/>
            <a:ext cx="2819520" cy="59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числить дискримин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-4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24360" y="4076640"/>
            <a:ext cx="136836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940360" y="5734080"/>
            <a:ext cx="1527120" cy="59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940360" y="4941720"/>
            <a:ext cx="136836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кор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867280" y="4076640"/>
            <a:ext cx="136872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&gt;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95640" y="5805360"/>
            <a:ext cx="136836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95640" y="4941720"/>
            <a:ext cx="136836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кор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447920" y="4952880"/>
            <a:ext cx="2057400" cy="493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йствитель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рней 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43280" y="220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3280" y="2924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328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700000" y="3716280"/>
            <a:ext cx="1942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643280" y="3716280"/>
            <a:ext cx="1944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43280" y="45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00360" y="45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588000" y="45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43280" y="5445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88000" y="5445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6084720" y="5734080"/>
                <a:ext cx="115128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в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D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3995640" y="5805360"/>
                <a:ext cx="129708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в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238880" y="1143000"/>
            <a:ext cx="1447920" cy="12636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ЗАБА"/>
          <p:cNvPicPr/>
          <p:nvPr/>
        </p:nvPicPr>
        <p:blipFill>
          <a:blip r:embed="rId2"/>
          <a:stretch/>
        </p:blipFill>
        <p:spPr>
          <a:xfrm>
            <a:off x="228600" y="5029200"/>
            <a:ext cx="1297080" cy="162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2666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_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3;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-1;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3; -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447920" y="1523880"/>
            <a:ext cx="304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23880" y="2057400"/>
            <a:ext cx="30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05120" y="1447920"/>
            <a:ext cx="304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752480" y="4038480"/>
            <a:ext cx="30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52480" y="4572000"/>
            <a:ext cx="30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2280" y="228600"/>
            <a:ext cx="88394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вый способ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По общей формуле корней квадратного уравне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410080" y="2438280"/>
            <a:ext cx="21463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0099"/>
                </a:solidFill>
                <a:latin typeface="Times New Roman"/>
              </a:rPr>
              <a:t>Формула корней квадратного уравнения </a:t>
            </a:r>
            <a:br>
              <a:rPr sz="3600"/>
            </a:br>
            <a:r>
              <a:rPr b="0" i="1" lang="en-US" sz="3600" spc="-1" strike="noStrike">
                <a:solidFill>
                  <a:srgbClr val="cc0099"/>
                </a:solidFill>
                <a:latin typeface="Times New Roman"/>
              </a:rPr>
              <a:t>с четным вторым коэффициент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58840" y="4114800"/>
                <a:ext cx="42051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4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3059280" y="1844640"/>
          <a:ext cx="2520720" cy="82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1844640"/>
                    <a:ext cx="2520720" cy="8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895480" y="2895480"/>
          <a:ext cx="259236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95480" y="2895480"/>
                    <a:ext cx="2592360" cy="914400"/>
                  </a:xfrm>
                  <a:prstGeom prst="rect">
                    <a:avLst/>
                  </a:prstGeom>
                  <a:ln w="7632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79280" y="5029200"/>
                <a:ext cx="421344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4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6705720" y="4191120"/>
            <a:ext cx="179676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500"/>
                            </p:stCondLst>
                            <p:childTnLst>
                              <p:par>
                                <p:cTn id="29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икулина С.Ю. МБОУ КСОШ№1</dc:creator>
  <dc:description/>
  <dc:language>en-US</dc:language>
  <cp:lastModifiedBy>Иван</cp:lastModifiedBy>
  <dcterms:modified xsi:type="dcterms:W3CDTF">2009-03-12T13:07:13Z</dcterms:modified>
  <cp:revision>26</cp:revision>
  <dc:subject>Способы решения квадратных уравнений</dc:subject>
  <dc:title>Урок Алгебра-8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