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11.gif" ContentType="image/gif"/>
  <Override PartName="/ppt/media/image7.jpeg" ContentType="image/jpeg"/>
  <Override PartName="/ppt/media/image12.jpeg" ContentType="image/jpeg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7F2E-2406-4749-B50B-E1C98545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4FA-A328-406A-8755-2161811A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56C-1813-4567-A051-4454B727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B274-5646-4912-B0D4-CA1E9026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423-AA09-4167-81BD-FE2B3921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DF88-9DBC-4B19-9ED9-8BBD1D9C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3C4-DA21-4291-9A7B-051CBFD0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5BC-907B-4FED-A0F6-20284FB2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65E9-C7E5-4065-83AE-1D6E2982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CBE5-2CA2-4F75-B8AE-0CBD9EF5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609-33E6-4B3F-B404-3EAC7028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70B-F19A-48FC-A120-5672D30E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49BE-0FB6-4CC7-9239-CF53D15ED5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следний школьный 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1\Desktop\анимашки\анимации\звонок"/>
          <p:cNvPicPr/>
          <p:nvPr/>
        </p:nvPicPr>
        <p:blipFill>
          <a:blip r:embed="rId1"/>
          <a:stretch/>
        </p:blipFill>
        <p:spPr>
          <a:xfrm>
            <a:off x="1357200" y="1522440"/>
            <a:ext cx="650088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68000" y="3933360"/>
            <a:ext cx="82868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какой сказке речь идёт о некоем спортсмене, который, не имея достаточной физической подготовки, отправляется на соревнование по бегу с препятствиями? Хитрость и незаурядная выдержка позволили всё же подойти ему к самому финишу. Но финал трагичен: проявив преступную самонадеянность и грубо нарушив правила техники безопасности, он погибает (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олоб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928760" y="21420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какой сказке лицо, имеющее весьма дурную репутацию, под вывеской милой и обаятельной личности совершило покушение на семерых несовершеннолетних, но было разоблачено и жестоко наказано (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Волк и семеро козля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7" descr="скрудж"/>
          <p:cNvPicPr/>
          <p:nvPr/>
        </p:nvPicPr>
        <p:blipFill>
          <a:blip r:embed="rId1"/>
          <a:stretch/>
        </p:blipFill>
        <p:spPr>
          <a:xfrm>
            <a:off x="1143000" y="214200"/>
            <a:ext cx="307188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3008520" cy="6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Словарь иностранных сл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чехлить лапшемет – начать говорить взд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сива – докуме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но – неуют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йтануться – переночева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усоваться – встретить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рячь – произвести неприятное впечат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ъехала крыша – сойти с у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ожить многопартийным, наехат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ажать – обруга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ун – гор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омить кайф – испортить торже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аковать – связа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винарить – поби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олетово – безразлич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тегнуть - отда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естерка – человек, находящийся в подчинении у кого-либ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3008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алабуз – предпринимате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тяжка – удовольств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угор – влиятельный челов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фигенный – значительн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унгало – д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естрематься – ужаснуть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юндель – гол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ласт сделать – упа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гасить – успокои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гнать понтяру – выдавать заведом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ожную информаци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готовка – но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двалить – прийти, приеха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марцефанить – удари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дмахнуть – подписа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идала – охранни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лавру – хорошо, отлич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чум – бездейств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кумент № 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643200" y="356760"/>
            <a:ext cx="51120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ЧЕТ ОБ ЭКСПЕРИМЕНТЕ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результате обследования, проведенного в период с 1998 по 2009 год, было установлено наличие в михайловской средней школе органической формы жизни в виде 11 класс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ерия экспериментов, проведенных учителями школы, показала высокую жизнеспособность и приспособляемость упомянутого сообщества организмов. Положительные рефлексы и реакции на внешние раздражители позволяют утверждать, что данный вид пригоден для существования во внешней среде и может быть выпущен на свободу в течение ближайшего месяц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в. лабораторией Уварова Наталья Александров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" descr="C:\Users\1\Desktop\анимашки\анимации\мик и маус"/>
          <p:cNvPicPr/>
          <p:nvPr/>
        </p:nvPicPr>
        <p:blipFill>
          <a:blip r:embed="rId1"/>
          <a:stretch/>
        </p:blipFill>
        <p:spPr>
          <a:xfrm>
            <a:off x="428760" y="2000160"/>
            <a:ext cx="34495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кумент № 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574800" y="272880"/>
            <a:ext cx="5111640" cy="62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ЛЯТ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Я, Шрейнер Нина Александровна, перед лицом своих учеников торжественно клянусь в том, что никогда не забуду ни вас, ни уроки, проведенные в вашем классе, после которых волосы становились дыбо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Я навсегда запомню ваши бесподобные письменные работы, неподражаемые устные ответы, неповторимые (сколько ни старайся) эксперимент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ещаю, что все каноны моей науки, с таким старанием втиснутые в ваши головы, не изменятся в ближайшие 10 лет и не подведут вас в трудную минут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лянусь, что уроки проводила искренне, самозабвенно, вкладывая в них всю свою душу, сердце и прочие орган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1\Pictures\e69a1c492bca09cc60b657c083eec66d.jpg"/>
          <p:cNvPicPr/>
          <p:nvPr/>
        </p:nvPicPr>
        <p:blipFill>
          <a:blip r:embed="rId1"/>
          <a:stretch/>
        </p:blipFill>
        <p:spPr>
          <a:xfrm>
            <a:off x="571680" y="1500120"/>
            <a:ext cx="29286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Ну а сейчас, самый трудный момент нашего последнего урока. Это настоящее прощание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Дорогие деточки! В этот торжественный момент я хочу сообщить вам одну страшную истину: Я не всегда была права! Сегодня прилюдно я прошу прощения у всех тех, кто пострадал, попав под мою горячую руку, был обижен, унижен, растоптан, распят и превращен в прах. Пришло время признать, что я задавала нечеловеческие задания, постоянно пугала и терроризировала детей плохими отметками. Уверяю, что все это было из добрых побуждений и для вашего же блага. Но что ж поделать, если я не всегда соразмеряла свои требования с вашими неподготовленными ослабленными головками. Простите меня, люди добрые!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7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тский са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574800" y="3285720"/>
            <a:ext cx="511164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мы с вами вспомним это славное время. Помните, как забравшись на табуретку вы читали в детском саду стихи на утренниках, а родители со слезами радости и гордости смотрели на своих артистов. Кто желает выступить в такой роли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, какие же смешные вы были… А вот как я посмотрю, многие из вас посещали детский сад, да? Детсад, вы знаете, это такое место, куда родители сбагривают по утрам детей, чтобы до вечера жить в своё удовольствие. Ну-ка, поднимите ручки, кого отправляли от себя подальше родител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1\Pictures\images.jpg"/>
          <p:cNvPicPr/>
          <p:nvPr/>
        </p:nvPicPr>
        <p:blipFill>
          <a:blip r:embed="rId1"/>
          <a:stretch/>
        </p:blipFill>
        <p:spPr>
          <a:xfrm>
            <a:off x="5286240" y="642960"/>
            <a:ext cx="2786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едующая наша станция – начальна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C:\Users\1\Pictures\1f992ce39a10c6857b833ff6f85af985.jpg"/>
          <p:cNvPicPr/>
          <p:nvPr/>
        </p:nvPicPr>
        <p:blipFill>
          <a:blip r:embed="rId1"/>
          <a:srcRect l="0" t="12500" r="0" b="1250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7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1 сентября 1998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57400" y="356760"/>
            <a:ext cx="5111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 запомнился вам этот день? Как вас встретила школ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звали ваших первых учителей? Какими остались они в вашей памят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:\Users\1\Pictures\b6139d83e7cb2fa3c85f65d5a04b5404.jpg"/>
          <p:cNvPicPr/>
          <p:nvPr/>
        </p:nvPicPr>
        <p:blipFill>
          <a:blip r:embed="rId1"/>
          <a:stretch/>
        </p:blipFill>
        <p:spPr>
          <a:xfrm>
            <a:off x="428760" y="1214280"/>
            <a:ext cx="3230280" cy="32306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285840" y="500076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кто из родителей перед 1 сентября честно рассказал детям, что вся эта тягомотина на 10 ле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гадайте-ка загадки, ребятки. Но загадки не простые, а с подвохом. Так что внимательно!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71680" y="272880"/>
            <a:ext cx="3614760" cy="62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хо мерили шаг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е огромные ног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5-го размера покупал он сапог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яди Стёпы каждый ша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исал поэт… (Михалков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ылом, мылом, мыл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ывался без конц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ыл и ваксу, и черни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неумытого лиц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сих пор лицо гори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то он?.. (Мойдодыр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о без сомненья все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о мы здесь ни спроси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в таблице 6 7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ечно…  (4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отца был малый стран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мпатичный, деревян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любил папаша сы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алунишку … (Буратино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C:\Users\1\Pictures\d5c5a879306e613201e66f61f33d9e8a.png"/>
          <p:cNvPicPr/>
          <p:nvPr/>
        </p:nvPicPr>
        <p:blipFill>
          <a:blip r:embed="rId1"/>
          <a:stretch/>
        </p:blipFill>
        <p:spPr>
          <a:xfrm>
            <a:off x="357120" y="2143080"/>
            <a:ext cx="36165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щё загад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2500200"/>
            <a:ext cx="30081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овите самое нужное слово на све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е дорого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е родное и близко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4800" y="642600"/>
            <a:ext cx="51116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1" descr="кот и носок"/>
          <p:cNvPicPr/>
          <p:nvPr/>
        </p:nvPicPr>
        <p:blipFill>
          <a:blip r:embed="rId1"/>
          <a:stretch/>
        </p:blipFill>
        <p:spPr>
          <a:xfrm>
            <a:off x="4572000" y="1071720"/>
            <a:ext cx="394812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 теперь — «сказочная арифмети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шечка-Хаврошечка пошла в лее со своими сестрами — Одноглазкой, Двухглазкой и Трехглазкой. Сколько всего глаз было у всей честной компании? (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одяного на посылках служили 12 осетров. Когда он послал несколько рыб пригласить в Гости русалок, оставшиеся пять осетров помогли ему накрывать на стол. Сколько осетров Водяной послал за русалками? (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ший собрал 48 мухоморов, а Баба Яга на 12 мухоморов меньше. Сколько всего полезных для их здоровья грибов собрали Леший и Баба Яга? (8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школы злых волшебников купили 15 компьютеров. Восемь из них перестали работать в первый же день, еще три — во второй. Сколько компьютеров пока еще действуют в школе? (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бка с дедом испекли 16 колобков. Три колобка съела лиса, четыре — волк, а остальные ожили и убежали и от деда с бабкой, и от всех зверей. Сколько независимых колобков удалось создать старикам? (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1\Pictures\3.jpg"/>
          <p:cNvPicPr/>
          <p:nvPr/>
        </p:nvPicPr>
        <p:blipFill>
          <a:blip r:embed="rId1"/>
          <a:stretch/>
        </p:blipFill>
        <p:spPr>
          <a:xfrm>
            <a:off x="4500720" y="500040"/>
            <a:ext cx="42512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Угадай сказку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акой из сказок личность, во всех отношениях очень серая, осуществляет коварный план убийства двух лиц и лишь благодаря своевременному вмешательству общественности всё кончается благополучно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«Красная Шапочка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едующая наша станция – кабинетно-учебна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1\Pictures\b7b116395354f5874c65c904b0b4178c.jpg"/>
          <p:cNvPicPr/>
          <p:nvPr/>
        </p:nvPicPr>
        <p:blipFill>
          <a:blip r:embed="rId1"/>
          <a:stretch/>
        </p:blipFill>
        <p:spPr>
          <a:xfrm>
            <a:off x="5000760" y="2100240"/>
            <a:ext cx="3714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ой сказке должностное лицо, грубо нарушив принципы: «От каждого — по способности, каждому — по труду», присвоило зарплату трудящегося, который учинил самосуд, причинив должностному лицу тяжкие телесные повреждения? Что это за произведение и кто его автор? («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казка о попе и его работнике Балд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», А.С. Пушкин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9" descr="тигренок"/>
          <p:cNvPicPr/>
          <p:nvPr/>
        </p:nvPicPr>
        <p:blipFill>
          <a:blip r:embed="rId1"/>
          <a:stretch/>
        </p:blipFill>
        <p:spPr>
          <a:xfrm>
            <a:off x="500040" y="1500120"/>
            <a:ext cx="3273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07:06:57Z</dcterms:created>
  <dc:creator>1</dc:creator>
  <dc:description/>
  <dc:language>en-US</dc:language>
  <cp:lastModifiedBy>ShrejnerN</cp:lastModifiedBy>
  <dcterms:modified xsi:type="dcterms:W3CDTF">2009-06-10T03:56:05Z</dcterms:modified>
  <cp:revision>15</cp:revision>
  <dc:subject/>
  <dc:title>Слайд 1</dc:title>
</cp:coreProperties>
</file>