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184-0772-438B-A039-41075287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EC5A-BCAB-4280-A39A-11D43B33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0A5-063C-4E11-A067-DC4C1BEA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CF98-E24C-4D53-9545-4D024989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93FF-302E-4942-B06F-0665482D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2BAB-5210-42DC-8804-91876279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B635-0449-4D2C-852A-F4D9E1F6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FDD9-4319-4EB3-BB96-3521412C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3155-1FF4-4567-BF6A-DA908A63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787C-42AC-4686-A01B-0919BCF8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468E-680D-4F06-8386-C9B0ED42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3F10-F48B-4DA3-B39B-9CB97749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62C2-ABA4-4569-8458-924294A4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B573-760F-4D40-A2A4-741124CB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07BE-A276-4A6D-A2E1-E951FE09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3350-110E-4BDE-85EE-20692274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E5A3-B8F5-463A-B805-375F4A05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301-D3B4-419E-BAC9-4C6D9806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FD6A-3BBE-4610-B20B-3A6CF804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B762-F3BD-464F-941E-E91AD2AE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8E4-3D42-49F0-A3D1-22528466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69F0-5FBA-4EFF-9F8C-1224737A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1799-902A-4E92-9B65-0DD13C6E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B94-3620-456B-A395-B8070A30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05E2-FA92-4C21-8859-1850A1D820F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71DD-DC25-486F-B872-EA7E13FEFDD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Курская Битва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9564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валь Д.  ученик 11в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огородицкая Т.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 истор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5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65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90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85000" y="1413000"/>
            <a:ext cx="3159000" cy="4724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26920" y="1197000"/>
            <a:ext cx="410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итлеровское командование, раздраженное неудачами на фронте требовало от войск удерживать позиции до последнего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ашистскому командованию не удалось стабилизировать фро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ветские войска наращивали силу уда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4859280" cy="280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16560" cy="6021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0" y="4869000"/>
            <a:ext cx="42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августа в результате Курской битвы были освобождены города Белгород и Оре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 приказу Сталина в Москве был произведен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первы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победный салю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3280" y="1197000"/>
            <a:ext cx="4303800" cy="4797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0" y="4149720"/>
            <a:ext cx="414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сле бо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25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 18 по 23 августа войсками Степного фронта после упорных боев был освобожден Харь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окончанием Курской битвы, закончился  коренной перелом в ходе Великой Отечественной Вой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урская битва- одна из величайших битв Второй мировой войны – продолжалась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5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дн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ле Курской битвы возросла мощь и слава русского оруж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енная инициатива окончательно перешла к Советской Арм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енно-стратегические планы вермахта были несостоятельны и подорваны окончатель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Курской битве немцы потеряли 500000 солдат и офицеров, 1500 танков, 3700 самоле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 наше врем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7512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наше время в деревне Прохоровка, городах Курск, Белгород, Орёл, Старый Оскол установлены мемориальные памятники и открыты музе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2008 году этой великой битве исполняется 65 л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356000" y="3716280"/>
            <a:ext cx="446580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4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4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4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4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блемный вопрос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ему с Курской битвой связывают завершение коренного перелома в ходе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Великой отечественной войн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Начало сра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4220640"/>
            <a:ext cx="91440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Эта великая битва была 5 июля — 23 августа 1943 года в Курской и Орловской обл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перация «Цитадель»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616040"/>
            <a:ext cx="3871800" cy="5013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08360" y="1974960"/>
            <a:ext cx="26640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84720" y="1557360"/>
            <a:ext cx="471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Немецко-фашисткое командование пришло к вывод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что самым удобным участком для нанесения решительного удара явля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выступ в районе Курска, получившей название Курской ду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Фашистское командование особенно заботилось о достижении внезапности и сокрушительности уда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ступл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 июля 1943 года на рассвете немецкие войска начали наступление на Курско-Орловском направлен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бой для отражения натиска противника, была введена 1 танковая  дивизия под командованием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М.Е.Катуко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79640" y="4076640"/>
            <a:ext cx="49672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650"/>
                            </p:stCondLst>
                            <p:childTnLst>
                              <p:par>
                                <p:cTn id="1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550"/>
                            </p:stCondLst>
                            <p:childTnLst>
                              <p:par>
                                <p:cTn id="1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хоровк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районе деревни Прохоровка столкнулись отборные танковые дивизии Германии «Рейх» и «Адольф Гитлер» и 5–я гвардейская армия под командованием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.А. Ротмистр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03280" y="2614680"/>
            <a:ext cx="601200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было одно из крупнейших в мире танковых сраже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ем участвовало 1200 танков с обеих сторо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ССР потеряло 60 % техники, но при этом подорвало планы вермах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0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еликое танковое 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76500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етье ратное поле Рос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ехника сторо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3280" y="1197000"/>
            <a:ext cx="4500720" cy="231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197000"/>
            <a:ext cx="5076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хника противника была более мощной. Самые сильное оружие это такие танки, как «Королевские тигр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3905280"/>
            <a:ext cx="88200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етские танки Т-34 были слабее, но быстр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етским танкистам приходилось прикладывать большие усилия и умения водить тан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результате всего этого была обеспечена часть поб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Авиац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3600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ругую часть победы внесла авиация, под руководством И.Анненкова, которая тоже оказала большую помощь танкист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38680" y="1197000"/>
            <a:ext cx="5305320" cy="5661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V="1">
            <a:off x="3564000" y="2565360"/>
            <a:ext cx="3529080" cy="345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6334200"/>
            <a:ext cx="3990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мецкий "лапоть"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9:37:28Z</dcterms:created>
  <dc:creator>Admin</dc:creator>
  <dc:description/>
  <dc:language>en-US</dc:language>
  <cp:lastModifiedBy>kabinet-212</cp:lastModifiedBy>
  <dcterms:modified xsi:type="dcterms:W3CDTF">2009-11-03T07:47:13Z</dcterms:modified>
  <cp:revision>28</cp:revision>
  <dc:subject/>
  <dc:title>Курская Битва</dc:title>
</cp:coreProperties>
</file>