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A12-B05E-4962-9409-CCFFDEDB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818-F8E0-451D-BEB6-301FBBBF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E66-3F84-4362-9CD6-95810F10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974-D16A-4CB9-99CB-A2E77044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1CBF-8261-4F16-9ABE-B31D1C38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C9A3-2853-455E-B94D-26464076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0084-739D-4EF5-8154-6CFFC83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7A32-5659-4C6F-BD47-42DA399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B567-7A8C-4DFF-9936-E57A2D92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C4D5-6F9C-4308-9481-72DBA5A0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229-32DB-4148-A939-3260D934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366-9D4D-46DE-984D-25142CC3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A175-31E8-41B3-A8A3-F681789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35F2-39B1-4EE8-8176-D7DC9E7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0F0C-8584-4681-8469-4EEE8E81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30B2-B7C7-4777-A6F5-2BC8BFBE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B13D-BB90-4A63-AAFC-47EC4D8A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45D-60BB-46E3-AB2F-5229CEA9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99A-5531-493A-91EB-D55A9A0F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261-DA70-498C-8364-E0F727A4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43D-32FB-45EB-935D-C05FCA24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279-4C77-4A1F-8EEC-CAA6001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C01-9CE4-4DDA-816D-4ABEF9F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489-F607-49AD-802D-70DE43E0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FED1-CDF9-4999-8BB3-CDC1B129E16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584F-30E9-424B-80A8-045D532C5B5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682560" y="115920"/>
            <a:ext cx="7900920" cy="2809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рыпник Олеся уч-ся 7 «А» к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истории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ославной куль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 СОШ №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куша А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19" descr=""/>
          <p:cNvPicPr/>
          <p:nvPr/>
        </p:nvPicPr>
        <p:blipFill>
          <a:blip r:embed="rId1"/>
          <a:stretch/>
        </p:blipFill>
        <p:spPr>
          <a:xfrm>
            <a:off x="324000" y="-19080"/>
            <a:ext cx="8538840" cy="1268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540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вято-Троицкая церковь построена в 1730 г.(</a:t>
            </a: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в стиле барокко),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в 1858 г. дополнена приделами с апсидами и четырехколонным портиком со стилизованными тосканскими колоннами.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Располагается в Стрелецкой слободе (</a:t>
            </a: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сейчас в черте Старого Оскола).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коностас церкви – замечательный по архитектуре и исполнению, один из немногих сохранившихся иконостасов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XVIII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15" descr="IMG_0122"/>
          <p:cNvPicPr/>
          <p:nvPr/>
        </p:nvPicPr>
        <p:blipFill>
          <a:blip r:embed="rId2"/>
          <a:stretch/>
        </p:blipFill>
        <p:spPr>
          <a:xfrm>
            <a:off x="2892600" y="3925800"/>
            <a:ext cx="3358800" cy="2173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IMG_0123"/>
          <p:cNvPicPr/>
          <p:nvPr/>
        </p:nvPicPr>
        <p:blipFill>
          <a:blip r:embed="rId3"/>
          <a:stretch/>
        </p:blipFill>
        <p:spPr>
          <a:xfrm>
            <a:off x="0" y="4292640"/>
            <a:ext cx="3672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g53EsrfvLY"/>
          <p:cNvPicPr/>
          <p:nvPr/>
        </p:nvPicPr>
        <p:blipFill>
          <a:blip r:embed="rId2"/>
          <a:stretch/>
        </p:blipFill>
        <p:spPr>
          <a:xfrm>
            <a:off x="250920" y="1557360"/>
            <a:ext cx="8424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864640" cy="1243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тоиерей Филатов Андрей Иванович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одился в Белгородской области в 1969 году. С 1985 по 1990 годы проходил приходскую практику перед поступлением в Курскую Духовную семинарию в храме Архистратига Михаила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 Белгород. С 1990 по 1994 годы учился в Курской Духовной семинарии. 18 марта 1994 года рукоположен в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диакона. 19 марта 1994 года рукоположен во пресвитера. С 1995 года 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стоятель Свято-Троицкого храма г. Старый Оскол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6"/>
          <p:cNvPicPr/>
          <p:nvPr/>
        </p:nvPicPr>
        <p:blipFill>
          <a:blip r:embed="rId2"/>
          <a:stretch/>
        </p:blipFill>
        <p:spPr>
          <a:xfrm>
            <a:off x="5057640" y="1600200"/>
            <a:ext cx="3375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4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9040680" cy="131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IMG_0124"/>
          <p:cNvPicPr/>
          <p:nvPr/>
        </p:nvPicPr>
        <p:blipFill>
          <a:blip r:embed="rId2"/>
          <a:stretch/>
        </p:blipFill>
        <p:spPr>
          <a:xfrm>
            <a:off x="179280" y="1773360"/>
            <a:ext cx="4321440" cy="3811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50920" y="5950080"/>
            <a:ext cx="419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асовня Свято-Троицкой церкви, первая половина XIX в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50000" y="1125000"/>
            <a:ext cx="419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Часовня Свято-Троицкой церкви построена предположительно в первой половине XIX в. В течение нескольких десятилетий использовалась как склад. В 1994 г. была отремонтирована на средства прихода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Единственная сохранившаяся часовня в Старом Осколе, построенная в духе классицизма. Стены кирпичные, оштукатурены. Расположена рядом с перекрестком ул. Большевистская и Колхозная (в створе последней), на западной стороне ул. Большевистской. Одноэтажная, восьмигранная в плане, под невысокой граненой кровлей, завершенной главкой с крестом. Глухие грани по сторонам света украшены портиками со сдвоенными по флангам полуколоннами и завершены крутыми треугольными фронтонами. Цоколь выделен большей толщиной стены, фасады завершены профилированным карнизом. Вход в часовню арочной формы расположен с южной стороны, две грани по бокам от восточной имеют арочные окна, все остальные грани - глухие, декорированы арочными нишками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47120" cy="1328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43880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ует две легенды о явлении иконы. По одной из легенд, икона приплыла по реке Оскол. Её нашли мальчики, купавшиеся в речке, в виде двух дощечек. А когда они сложили две половинки, то дощечки невозможно было разъединить. И на сложенных дощечках проявился лик Богородицы с младенцем. По второй легенде нашли икону в часовне  возле с Свято-Троицкого храма, отнесли икону в Покровский храм(что был на улице Ленина). На следующий день икона из Покровского храма исчезла, а появилась  в Свято-Троицком храме. И так 3 дня. И решили икону оставить в Свято-Троицком храм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6" descr="8"/>
          <p:cNvPicPr/>
          <p:nvPr/>
        </p:nvPicPr>
        <p:blipFill>
          <a:blip r:embed="rId2"/>
          <a:stretch/>
        </p:blipFill>
        <p:spPr>
          <a:xfrm>
            <a:off x="5059440" y="1600200"/>
            <a:ext cx="33717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08:39:48Z</dcterms:created>
  <dc:creator>Home</dc:creator>
  <dc:description/>
  <dc:language>en-US</dc:language>
  <cp:lastModifiedBy>олег</cp:lastModifiedBy>
  <dcterms:modified xsi:type="dcterms:W3CDTF">2011-02-18T19:19:09Z</dcterms:modified>
  <cp:revision>25</cp:revision>
  <dc:subject/>
  <dc:title>Храмы Старого Оскола: Свя</dc:title>
</cp:coreProperties>
</file>