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D6E7-7DF4-4107-91B7-E723E060B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90B0-8B83-46F9-82AE-C8D9F7450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8662-FC9F-4DF4-BEF2-2E6C032C1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9101-C8C7-47FF-BCA5-F7E52A876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99C5-C544-4169-9B4D-921A2B687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FDDC-1A29-4834-A5F3-DF44AC1F5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59E1-00CE-4414-8908-14A66C630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F67C-1303-4E18-8EDB-9B764ABA6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667D-F258-4E0C-97CF-0CB64E92F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5C00-FFD3-44C8-94B0-20EFCDA1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8CBD-D52F-4CAC-B4C7-C0FBEE40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A752-EAA5-4584-92B1-6B97F519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37F5B-745D-453B-8992-EBF9B93176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hyperlink" Target="http://www.4rav.ru/forums/uploads/post-7-1247645279.jpg" TargetMode="External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elgorod.izbirkom.ru/etc/1907.jpg" TargetMode="External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arovoz.com/gallery/RU31/20060305_30372.jpg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619280" y="2133720"/>
            <a:ext cx="5545080" cy="41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1000"/>
                            </p:stCondLst>
                            <p:childTnLst>
                              <p:par>
                                <p:cTn id="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360" y="3860640"/>
            <a:ext cx="8316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Город трёх всесоюзных ударных комсомольских строек в 70 – 80 годы – Стойленский и Лебединский  горнообоготительные комбинаты, Оскольский электрометаллургический комбин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076720" y="333360"/>
            <a:ext cx="3838680" cy="25509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Картинка 37 из 6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9640" y="260280"/>
            <a:ext cx="3961080" cy="2737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3780000" y="5805360"/>
            <a:ext cx="151272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755640" y="3357360"/>
            <a:ext cx="813744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200" spc="-1" strike="noStrike">
                <a:solidFill>
                  <a:srgbClr val="000066"/>
                </a:solidFill>
                <a:latin typeface="Verdana"/>
              </a:rPr>
              <a:t>Крупнейшее предприятие нашего города Оскольский электрометаллургический  комбинат построен в 1975 году. С  этого времени  на нем постоянно наращивается выпуск металлопроката. Так отношение количества готовой продукции в 1976, 1990 и 2008 годах равно 2:5:8. Сколько проката было выпущено в каждом из  этих лет, если всего за эти три года было выпущен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Verdana"/>
              </a:rPr>
              <a:t>    </a:t>
            </a:r>
            <a:r>
              <a:rPr b="0" lang="en-US" sz="2200" spc="-1" strike="noStrike">
                <a:solidFill>
                  <a:srgbClr val="000066"/>
                </a:solidFill>
                <a:latin typeface="Verdana"/>
              </a:rPr>
              <a:t>480 млн.т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403280" y="620640"/>
            <a:ext cx="3313080" cy="25592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932360" y="620640"/>
            <a:ext cx="331308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9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24000" y="2421000"/>
            <a:ext cx="8229600" cy="40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1" i="1" lang="en-US" sz="2400" spc="-1" strike="noStrike">
                <a:solidFill>
                  <a:srgbClr val="800000"/>
                </a:solidFill>
                <a:latin typeface="Verdana"/>
              </a:rPr>
              <a:t>Решение.</a:t>
            </a:r>
            <a:r>
              <a:rPr b="1" i="1" lang="en-US" sz="2400" spc="-1" strike="noStrike">
                <a:solidFill>
                  <a:srgbClr val="000066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Пусть х- коэффициент пропорциональности. Тогда в 1976 году выпустили 2х млн.тонн, в 1990 году - 5х млн.тонн, а в 2008 году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8х млн.тонн. А всего 480 млн. тон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Составим уравнение: 2х+5х+8х=48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                                 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15х=48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                                    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х=32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1)32 </a:t>
            </a:r>
            <a:r>
              <a:rPr b="1" lang="en-US" sz="2400" spc="-1" strike="noStrike" baseline="30000">
                <a:solidFill>
                  <a:srgbClr val="000066"/>
                </a:solidFill>
                <a:latin typeface="Verdana"/>
              </a:rPr>
              <a:t>.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2 = 64(млн.т) - в1976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2)32 </a:t>
            </a:r>
            <a:r>
              <a:rPr b="1" lang="en-US" sz="2400" spc="-1" strike="noStrike" baseline="30000">
                <a:solidFill>
                  <a:srgbClr val="000066"/>
                </a:solidFill>
                <a:latin typeface="Verdana"/>
              </a:rPr>
              <a:t>.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5 =160 (млн.т) - в1990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     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3) 32 </a:t>
            </a:r>
            <a:r>
              <a:rPr b="1" lang="en-US" sz="2400" spc="-1" strike="noStrike" baseline="30000">
                <a:solidFill>
                  <a:srgbClr val="000066"/>
                </a:solidFill>
                <a:latin typeface="Verdana"/>
              </a:rPr>
              <a:t>.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8 = 256 (млн.т) - в2008 год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203640" y="189000"/>
            <a:ext cx="3168720" cy="23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4000" y="3860280"/>
            <a:ext cx="806436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В Старом Осколе проживают 220,4 тысячи человек. По итогам Всероссийской переписи 2002года Старый Оскол вошёл в сотню крупных городов России, опередив и по общей численности, и по темпам прироста ряд областных центров стра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627280" y="404640"/>
            <a:ext cx="4176720" cy="31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По статистическим данным за 10 месяцев 2009года зарегистрировано 4020 актов записей о рождаемости, и 3288 – о смерти. Каков естественный прирост насел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411280" y="2276640"/>
            <a:ext cx="38163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611280" y="1844640"/>
          <a:ext cx="7993080" cy="1461960"/>
        </p:xfrm>
        <a:graphic>
          <a:graphicData uri="http://schemas.openxmlformats.org/drawingml/2006/table">
            <a:tbl>
              <a:tblPr/>
              <a:tblGrid>
                <a:gridCol w="3930480"/>
                <a:gridCol w="4062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1897 г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16,7 тысяч жител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2009 год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220,4 тысяч жител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1763640" y="333360"/>
            <a:ext cx="585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Численность населения по года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3429000"/>
            <a:ext cx="76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Найдите промежуток разницы лет. И узнай на сколько возросло  количество жителей проживающих в нашем городе , а также процент прироста населения за это врем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Verdana"/>
              </a:rPr>
              <a:t>Решени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525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1) 2009 – 1897 = 112 – разница л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2) 220,4 – 16,7 = 203,7 (тыс. чел) –  возросло число ж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3) 220,4 : 16,7 </a:t>
            </a:r>
            <a:r>
              <a:rPr b="1" lang="en-US" sz="2400" spc="-1" strike="noStrike" baseline="30000">
                <a:solidFill>
                  <a:srgbClr val="000066"/>
                </a:solidFill>
                <a:latin typeface="Verdana"/>
              </a:rPr>
              <a:t>.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100%  =1320% -прирост населения за эти г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940360" y="836640"/>
            <a:ext cx="27529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971640" y="404640"/>
            <a:ext cx="3743280" cy="28195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859280" y="260280"/>
            <a:ext cx="403848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В Старом Осколе в 2009 году зарегистрировано 7308 актов рождаемости и смерти. Найдите  сколько выдано актов рождаемости и смерти если прирост населения составил 732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6920" y="4149360"/>
            <a:ext cx="806616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Решение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) 7308 – 732 = 657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2) 6576 : 2 = 3288 (чел) – выдано актов о смер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3) 3288+732 = 4020(чел) – выдано актов о рожд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68360" y="206028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Бассейн  ОЭМК наполняется  через одну трубу  на 5 часов быстрее, чем через вторую . Бассейн можно наполнить двумя трубами за 6 часов. За сколько часов наполняется бассейн каждой трубой в отдельнос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187280" y="260280"/>
            <a:ext cx="259272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95280" y="11966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Пусть за х часов  бассейн наполняется через первую трубу, а за  (х + 5) часов через втору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Тогда 1/х – часть бассейна, наполняемая первой трубой за час, а 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1/(х + 5) – вторая труба. Известно , что вместе за один час они наполняют 1/6 часть бассей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Составим уравн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   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1/х + 1/(х + 5) = 1/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   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6х +30 + 6х = х</a:t>
            </a:r>
            <a:r>
              <a:rPr b="0" lang="en-US" sz="2400" spc="-1" strike="noStrike" baseline="30000">
                <a:solidFill>
                  <a:srgbClr val="000066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+ 5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   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Х</a:t>
            </a:r>
            <a:r>
              <a:rPr b="0" lang="en-US" sz="2400" spc="-1" strike="noStrike" baseline="30000">
                <a:solidFill>
                  <a:srgbClr val="000066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– 7х – 30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   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Х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= 10, х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= -3 не подходит по смыслу зада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За 10 часов бассейн наполняется первой трубой, а за 15часов  – 2й тру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435640" y="189000"/>
            <a:ext cx="2158920" cy="12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500"/>
                            </p:stCondLst>
                            <p:childTnLst>
                              <p:par>
                                <p:cTn id="2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500"/>
                            </p:stCondLst>
                            <p:childTnLst>
                              <p:par>
                                <p:cTn id="2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3500"/>
                            </p:stCondLst>
                            <p:childTnLst>
                              <p:par>
                                <p:cTn id="2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4500"/>
                            </p:stCondLst>
                            <p:childTnLst>
                              <p:par>
                                <p:cTn id="2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0"/>
                            </p:stCondLst>
                            <p:childTnLst>
                              <p:par>
                                <p:cTn id="2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500"/>
                            </p:stCondLst>
                            <p:childTnLst>
                              <p:par>
                                <p:cTn id="2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476360" y="3645000"/>
            <a:ext cx="626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У каждого человека есть родина, место на земле, где он появился на свет и где впервые увидел небо. И пусть он исколесит много стран, он никогда не забудет родного города или дерев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411280" y="765000"/>
            <a:ext cx="381636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9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Картинка 8 из 3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836640"/>
            <a:ext cx="4390920" cy="32958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932360" y="765000"/>
            <a:ext cx="4211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В летний лагерь «Белогорье» каждую смену приезжают 208 детей и 32 воспитателей и вожатых. В автобусах 44 посадочных места. Какое наименьшее количество автобусов потребуется, чтобы привезти отдыхающи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4724280"/>
            <a:ext cx="91440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Решение.</a:t>
            </a:r>
            <a:r>
              <a:rPr b="1" i="1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1)208+32=240(человек)- нужно посадить в автобусы.</a:t>
            </a:r>
            <a:r>
              <a:rPr b="1" i="1" lang="en-US" sz="2400" spc="-1" strike="noStrike">
                <a:solidFill>
                  <a:srgbClr val="000066"/>
                </a:solidFill>
                <a:latin typeface="Verdana"/>
              </a:rPr>
              <a:t>                                                                     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2) 240:44=5 (ост 20)  требуется автобу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Так как в 5 автобусов все не поместятся, то необходимо 6 автобу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10920" y="1628640"/>
            <a:ext cx="71276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Подготови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Кузьменко Павел - 9 «А»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Крагель Виктория - 9 «А»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Кириенко Анастасия – 7 «А»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Грачёв Николай – 6 «А»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Руководители проект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Олейникова Татьяна Михайл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Грачёва Елена Николаевна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Луговских Екатерина Пет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500"/>
                            </p:stCondLst>
                            <p:childTnLst>
                              <p:par>
                                <p:cTn id="2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3500"/>
                            </p:stCondLst>
                            <p:childTnLst>
                              <p:par>
                                <p:cTn id="2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4000"/>
                            </p:stCondLst>
                            <p:childTnLst>
                              <p:par>
                                <p:cTn id="2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4500"/>
                            </p:stCondLst>
                            <p:childTnLst>
                              <p:par>
                                <p:cTn id="3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900000" y="0"/>
            <a:ext cx="777744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Мы часто не знаем, а порой даже не интересуемся своим городом, не стараемся узнать, как и почему он появился. Судьба же любого селения всегда интересна, она подобна судьбе человека: появляется на свет, меняются поколения его жителей, оно живет и стареет, бывает, что и погибает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042920" y="2924280"/>
            <a:ext cx="6769080" cy="36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55640" y="333360"/>
            <a:ext cx="74167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660033"/>
                </a:solidFill>
                <a:latin typeface="Verdana"/>
              </a:rPr>
              <a:t>Почему выбором нашего исследования стала данная тем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Текстовые задачи являются важным средством обучения математике. С их помощью мы получаем опыт работы с величинами, опыт применения математики к решению практических задач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Старый Оскол был основан в 1593 году по указу царя Фёдора Иоанновича (сына Ивана Грозного) для охраны южных рубежей Московского  государ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042920" y="2421000"/>
            <a:ext cx="6985080" cy="39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94920" y="475920"/>
            <a:ext cx="7705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Неотъемлемой и важной частью внешнего облика города Старый Оскол являются храмовые сооружения - православные церкви. Многие из них являются памятниками архитек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411280" y="2637000"/>
            <a:ext cx="424836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39640" y="189000"/>
            <a:ext cx="3024360" cy="26416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500720" y="765000"/>
            <a:ext cx="316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11640" y="836640"/>
            <a:ext cx="4608360" cy="18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Крестовоздвиженский храм построен в 1878 году в центре Ямской слободы. Высота храма- 28 метр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5651640" y="3213000"/>
            <a:ext cx="3168360" cy="2951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50920" y="3141720"/>
            <a:ext cx="61214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Ильинская церковь построена в 1872 году на средства прихожан Ездоцкой слободы.  Её высота составляет 75% высоты Крестовоздвиженского хра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Какова высота Ильинской церкв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08000" y="6093000"/>
            <a:ext cx="29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Verdana"/>
              </a:rPr>
              <a:t>Ответ: 21 ме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9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1894 году началось строительство железной дороги «Елец - Валуйки»,что позволило открыть через Старый Оскол регулярное железнодорожное движение и тем самым дать толчок значительному развитию торгово- промышленной сфе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643280" y="3068640"/>
            <a:ext cx="3384720" cy="21002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826920" y="2924280"/>
            <a:ext cx="24447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-360" y="620640"/>
            <a:ext cx="47163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Поез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Старый Оскол – Моск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отправляется в 17.30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а прибывает 6.30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следующее  утро. Сколько часов поезд находится в пути?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  </a:t>
            </a:r>
            <a:r>
              <a:rPr b="1" i="1" lang="en-US" sz="32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   </a:t>
            </a:r>
            <a:r>
              <a:rPr b="1" i="1" lang="en-US" sz="3200" spc="-1" strike="noStrike">
                <a:solidFill>
                  <a:srgbClr val="000066"/>
                </a:solidFill>
                <a:latin typeface="Verdana"/>
              </a:rPr>
              <a:t>    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     </a:t>
            </a:r>
            <a:r>
              <a:rPr b="1" i="1" lang="en-US" sz="32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   </a:t>
            </a:r>
            <a:r>
              <a:rPr b="1" i="1" lang="en-US" sz="3200" spc="-1" strike="noStrike">
                <a:solidFill>
                  <a:srgbClr val="000066"/>
                </a:solidFill>
                <a:latin typeface="Verdana"/>
              </a:rPr>
              <a:t>    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Картинка 1 из 4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16360" y="549360"/>
            <a:ext cx="4191120" cy="3143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796000" y="5084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68360" y="4221000"/>
            <a:ext cx="6624720" cy="22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Verdana"/>
              </a:rPr>
              <a:t>   </a:t>
            </a:r>
            <a:r>
              <a:rPr b="1" i="1" lang="en-US" sz="2400" spc="-1" strike="noStrike">
                <a:solidFill>
                  <a:srgbClr val="800000"/>
                </a:solidFill>
                <a:latin typeface="Verdana"/>
              </a:rPr>
              <a:t>Решение.</a:t>
            </a: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17ч30мин =17,5ч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6ч 30мин =6,5ч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1)24-7,5+6,5=13(ч) - находится в пу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                                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поезд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19:05:33Z</dcterms:created>
  <dc:creator>User</dc:creator>
  <dc:description/>
  <dc:language>en-US</dc:language>
  <cp:lastModifiedBy> </cp:lastModifiedBy>
  <dcterms:modified xsi:type="dcterms:W3CDTF">2010-02-10T12:14:00Z</dcterms:modified>
  <cp:revision>13</cp:revision>
  <dc:subject/>
  <dc:title>Слайд 1</dc:title>
</cp:coreProperties>
</file>